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AC2D-8DAE-4D2D-BFC3-5AB537907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C03F-65D0-447A-A751-BBACBFF1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C4F2B-2E3E-4ED4-8C57-B0DEEA6A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633FF-7DBC-4896-97C9-2F2A0303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2E630-F1D4-4FCB-8C84-3A99BCD7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0448E-7AB6-47E0-A6A7-D2A2A3C5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FB3FF-4041-4FE1-81A4-68E329CD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F4C74-FFD1-45AB-954E-EFBF55E7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99753-1CA6-4570-BA8F-8002DB02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DF152-E046-4A1F-8D97-CC3541211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A7AC4-484F-442F-B12C-D6461A1B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DD158-D207-40B3-9A2D-0A4C4CD4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608F-BD3C-4349-A841-605AF3B1A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DAC6F8-4F39-4836-B209-30113286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DB8534-3C23-41CF-A0A5-A0912BD6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C14AA-6F53-4F1B-BB36-03ADF696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B450D-4794-4697-880C-77ECDF4E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08F7B-3198-41AF-A87D-0E9751D7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6BC868-7D75-4958-AFCF-FC30F6F3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ABF7F-36C6-4DE7-9689-18BE6F74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B3BE2-3269-45FC-BAFF-23D0DBBA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A1AFCF-AECB-444D-9FC6-D04EE1D4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7398E-A205-4358-8B21-EA9A3FD80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B9D8-756E-4C4A-8014-957866354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A6849B-E06E-4AE4-A4C0-25EAF8459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73AB0-6978-45AF-97DA-859343E67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17021-4733-431E-A249-1995FD04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E9318-26EE-4B34-A263-FC8D4276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8DEFB-39D5-4212-8298-D57492E0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DF03D-67B5-40BE-A361-3C3C1DD1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5F725-019F-4D08-B906-4EAE116E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C23CC-89F1-4AEF-93ED-A6A26911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42ED7-0B61-474A-B42D-517BDCA0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6F9FB-108D-4219-8219-32DB89D1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1C11-2D3D-4023-8581-5E554CEF1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FF6AA-A6B3-40DB-ABE1-5DE4C48A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1A183-D5A5-4166-9D15-DFFBC4FE2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04346-9672-41AD-8A55-4826154E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76844-53EA-493C-A082-CDFE123E1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9D77F8-35F7-4981-8EDC-39041086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97C949-428E-4BCE-B142-AF6C5C1B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4EA7F6-6637-47BE-A692-A115EC5D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594EF6-860F-4800-9037-B9502CE4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3C2D0A-A41A-41AA-BA52-93E2E515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4D4642-F0D5-43F1-82D3-89B7D60D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4293-C95E-484E-8385-E9737076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A9C39-4025-4EEE-AA1E-F7A02F6C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3278D5-7CE9-4FD6-B593-0DE41008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E481A5-D1A9-4087-82BD-16F187DD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8EB14D-7DEB-4719-A868-1BC70213C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646EB-3E0B-45BF-956B-5D16952F9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DC9B8D-279E-40E7-BC91-B25BE544D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D619B3-4927-470D-92E6-2A73AF7B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08A419-0116-4738-BB36-70F834CB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49B90F-6896-4B46-8AAE-266BA884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5A401D-4A51-4A5A-A07F-AA0B376B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A663-0D2E-4FB6-AF62-F40CE8BD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B183FE-770F-43FF-B9CA-8A5DDCD1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0D4BA7-8F24-43C0-A0B7-DF588103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CD1F82-E4AD-4F1A-A84C-C010FCBB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26729D-914A-4421-AB59-E2635CE3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E4E694-F6CF-4373-ABEF-B25E9B61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81B48B-6CA6-4517-A3FD-F06BE8CC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BC3F94-3D06-4392-A4DE-5C3837DEA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5264C8-3C0A-4120-AE0D-9E565DBF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D57850-4424-4217-840A-76DAE8FA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E0EA99-A054-4527-AD6E-5AFB4EDA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C81F-1A75-437C-BF47-CE880C83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184F44-4AE9-4A0E-B40D-CDD42F84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010BDE-DC22-4382-902D-FB3EAB05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7F85D1-E1AC-4698-8B3C-41F881EE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275A62-4704-4C43-9C42-C06897B5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C68EDC-2596-4915-AC74-1F2C652B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6EBCE5-C704-4441-9722-36260960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B33400-1711-4027-AA05-53166623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BB6F50-59C7-450E-A8F9-E25366750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42269F-C77B-4750-8EC1-60EDDC4B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1731D2-21F0-4B2D-A497-185B15F7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5A36-A94C-470A-A36B-403487C3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76DFEF-F9E9-43FF-99A8-7CA13DA7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B4C0C5-9AEB-414A-B015-314063E1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71E727-BE9F-4B93-83E9-E08CAB8F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737FE1-F7D8-4D61-BE5F-253911D2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93DEF8-003E-44A1-B2C4-13E560E6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83DFA9-C5DD-48D8-8925-5544742A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4F0786-D7A8-49C7-AF99-B2AB9C1B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A68BF4-DCA6-4F00-B7D8-30DC0832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BCF86D-55FB-4538-9698-BBAEF268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731AE4-EEEB-45F9-BCBE-D6052370C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F75A-D146-4B97-9806-70D84526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223EC5-9619-4179-AD30-8996698AA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21D780-B38C-48D3-B776-12CF910D9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51304D-8235-4574-A493-80B187B5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5D5653-6175-4AFC-917C-A57B5CF6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2C1B30-F8EC-46DF-9097-CCBFE6F9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6366C9-FC4D-4FF2-8B94-CE619C45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0A36CA-16D0-43CB-AA91-AA4634F2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C5E842-CE82-43D6-A22A-21D028BC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80BDC3-5C2F-44ED-BFC0-BAD094E9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76D978-6D94-4CC8-89C0-8F9D8F99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C535-F2B8-4DF4-9822-35A8546C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B12028-0C03-4BF9-8532-EF282D5F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F34B04-9749-44F6-806B-A74F71B60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9BE82D-271C-4468-B030-7C531DCAF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67FC44-CA62-46BA-A894-A3180CEA0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F49B1D-211D-42F1-A933-47BFFF78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F4A920-4219-47EC-8483-6FC5D808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D5C80A-BA7D-4882-A9F9-12968DBA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170267-920F-4562-B9B2-ED1F0285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5C4266-67F0-44C3-B562-53D7980B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1F941F-7EFC-491C-AD25-FC3355F4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C39E-8C34-4F65-859A-42952F35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A209-5EE2-4072-82EC-CA4B3564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823D7B-3621-4D01-9948-93EE1E4A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F4D363-5F77-4151-A015-DD0FC0DE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3CA6C4-21A0-4AE8-8EDD-21B0E13E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B58D31-9861-4686-B4F9-338874C35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E2110D-0CE6-49D9-864B-D5C8FCB69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E1A3B4-EF1B-480F-8CA3-C0E3F238C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50755F-AEA2-4BE9-8677-5CED0444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6B78F3-899A-4546-BFA8-CC2818A2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53EAAF-3A5D-44D4-9AEB-10ECC522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7BC26F-506E-441A-8BC6-B761F8FA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CB0F-1DB1-42A8-9CD2-E4A9A7DF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8D14B9-F381-4FBE-AC25-B81B03C4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685957-DEB1-450A-9439-721F635B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4EFF42-F7A8-48C4-A2C4-450964D6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7AD86E-AC20-4971-B21E-7A470B91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847F4C-FADD-4418-B23B-320ADE76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E1452A-0FB2-406D-8B12-386D98662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AA2F01-8C78-4579-8AFF-9A94944F2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67206F-62AA-42A5-9445-F860E321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DA6320-2D91-4848-AC43-B058B8C3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76E1FE-D5E9-4A9C-B2B4-FB2EFB11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D150-CFDB-4907-98AE-BAABC327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B78374-34C0-44FE-A4BD-981E0B6D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629DAF-51BD-42BD-B5F1-FC3BEC64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55C123-0E7E-4424-B656-3B7FEC8D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37F9C9-B4CB-48BE-8894-DF592546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C3F642-D2D5-4D6B-90C4-F216D2D5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90EABF-3393-434F-8085-7186E920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9C6A5A-F9D3-4364-A43F-2444E87D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FE1AA4-6C90-44A0-AF52-4726EBA5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B7DBA3-46E3-4ACD-9352-458598538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D422FD-B9BB-4803-AF5F-16DEF1B66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14AE-AFA6-4EFA-BA62-1236F067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CBFB19-777D-4379-9352-7CB62F48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5277EF-A218-478A-A63C-B17832A4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43B5ED-C8B6-4879-976E-35ED64E4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1D0BB3-035D-46D9-A0E0-3080A9A7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0253B5-D1E7-41ED-B923-23D205DE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8DFD0F-C069-40C3-8EA2-DC6BF894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ADDFF2-29A4-419F-A679-587F94F5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F21E90-D390-4B95-AC3F-3A215AD1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328104-8C21-442F-ABE1-7114289C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35A791-A07C-4120-AE6E-814C1F342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4427-A492-413F-B51C-50A3EFE83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630D9A-0CC2-4ADC-B830-68F287ACE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A26B5D-71D4-4751-921B-C57B6213F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CD6D2A-5FFF-4088-8FBF-9186E774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73FF02-EE5A-4025-A56B-FBC31B37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AF8061-7E90-49DB-A52E-AB4A208F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E1AD66-7884-424E-A36D-DEB4451D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617310-327B-4056-BC72-9F63C810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6C025C-95F6-4EC7-9BB5-5139B4B7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03EFF6-AA60-4817-B060-1BC5587F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4F9E0D-B868-40C5-B14D-6377A488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D86C8-641B-4651-B02B-2E367226E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414A1E-3ED9-4EB7-9675-81878656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99FC3C-601B-4828-B0B8-C2A54CF4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70FFB2-BC74-431E-8AB8-F75672B69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D1C98-288B-488A-8AD5-6F0B8E3C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3DFAB-E002-42FD-95DB-239B6279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60B72-546C-49C7-90C4-D5E47E36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42A30-DD4E-49FA-9267-F86EFBA9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F53B-7ED3-47E4-B4D7-B70E2B3D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52248-0232-492C-88B0-D48D5A6A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FDE48-69E1-45E6-817B-B6C236AC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CD3AE-884D-42FF-A18E-BE8FB63D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A376E-F343-4B8A-A268-17AA8287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DDBF1-CB3B-4824-8013-D3BA9DD6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02617-8281-4971-B67A-ED68F4F05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1D1AB-2E0E-45C6-8240-818AE1AD9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42FAD-6460-4FE4-B672-2E016FDE1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01DC3-FF92-425E-9F7E-9C9841E6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9706F-5508-4C95-8B37-806AC60B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C501-FCA3-4B5B-A74D-E35EEBE3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BC9BE-035F-424E-BE81-182A7050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D071A-817C-4982-B241-8085CD63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E8B7B-E2C8-41D8-AA62-0E24227C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DD866-02BF-41B6-B81E-F009F12A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7F9B5-3760-4026-AA05-580A4CAD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FAB17-F847-481A-A64C-4A8C15FB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A7311-2ECD-471B-8536-9A16C616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38814-5923-4F22-B2A9-C7FCE88CC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0BD58-B214-42CF-8973-29C04BD7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9241B-444A-41D3-BD99-F3FDD8B30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379B-A109-46A1-A773-79EE0D2A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9DF0B-02E3-41F7-BB69-972781C7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95B47-F37C-4FA8-9629-AC18950C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2BADF-D0C2-45CF-9BA3-F6E37DB8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98755-25AE-48AB-97FA-D2FD0CEE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C054D-DB87-4182-9A60-45A53C5B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2B6B9-9259-447F-A942-EF8CFB92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A6EC2-70E6-450A-A2CE-6D0960A5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7BB4E-FF75-45ED-B4E0-BDE73866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FE7D3-6C1E-4F6A-95A4-57913447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4BC7A-299E-4BD0-A688-43408B18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C515-4E0A-4C35-8601-9A434BCF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5311E-D1B3-4B7C-A797-F3BE6A22B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98571-9605-4D2A-BED6-5D1C05388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0E681-B28B-4586-B041-4EE7598F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A4132-61C4-4381-9C46-0F76565A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93B1D-DD6E-4056-8CA1-09AE972C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7377A-35F5-45C4-B3CB-E5BF3AA8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CD7E6-7FC0-49AF-95C4-1B2C1096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0860C-50AB-4444-9103-50D14203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74B74-C420-4AC1-9192-CA927EDD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87865-FE6A-4B8A-8BDA-EB21F2F0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C683-20E4-4D29-AF0A-E612C868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3C599-3994-4684-9B63-0D9725A9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9154E-0446-4993-B5A2-208306884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20900-59DD-479E-9946-B221AA83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2B319-F4DC-42ED-83C7-B2D9C263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61831-DE45-401A-8D96-59A7FF71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99486-CE51-4DAB-A29A-84047D31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79B4A-070E-4C86-949D-FB6D2AD0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FA905-99B7-4346-8E7D-1C8618B5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592AE-8144-45DE-83C2-FF0C708F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9EFBA-09BF-4067-AB47-36AAD005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134B-F8B3-4E33-BE28-F514D437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BC898-7723-4B33-8F7D-75FB77C5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D2A41-2393-4265-9C4E-70B57F34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E5E0C-71AD-492D-A052-80DB3DDB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57000-2476-46E2-A1DF-B8F8A21FB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36382-50BB-4182-8B30-D5EF7B168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E1F1A-225E-4CC3-8DDA-FFA2ED0D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E9E72-53C5-4DE6-8714-5B8D94E2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B8F88-9CEF-4AAE-9405-6606D990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74CAE-8810-4CD1-AAB8-C193296B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7107A-B4F6-46C6-87AB-5FA35FA2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D0BD-BD8D-4DB9-8EE8-AE251514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5D50B-3F68-4223-A9B6-765E217A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64873-6863-48E3-9DA8-0A3BE05E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5752D-93B5-422D-85A2-851DCD88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9C921-476D-43B6-B379-791AD550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E00F8-EB9D-4EFA-8B1E-50F6869F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5A57F-9FAF-48FC-8E91-A23EA873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50544-5BC6-4BBB-A093-0D5B643D8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DF494-0B60-42F7-9436-5EBD60026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63813-E5B2-4E1D-ABDF-C31A7FDB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D8C0F-3044-4654-AED7-4B97B95C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0776-8561-4959-B69A-8C8260FAB9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636B-45A3-4502-AB24-81758FA4DE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5098-9673-4DA8-8F81-5099D49E49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5B95-A3A8-4E60-ACB8-508424D7A0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FE90-AF9C-4560-A32E-35B620E4F5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EFA8-CD21-4570-A977-AAFD603654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DFB6-FDFB-4325-985F-E2AB451AE5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8F6D-5520-466C-85FB-5DFDE8C343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B2E8-EE05-4C8E-B967-121DDF0A85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26CD-1F80-4DE7-9605-5506EA6718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486D-B77A-4886-A2A7-17FBECB67A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C6ED-A826-49C6-9A8F-99791445A5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B52B-C11C-43F5-90BF-9437B86463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2BFF-FE3D-4FE3-B2CA-2A5D2035FA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1C0F-3955-4674-B740-03F3E9B149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3EB4-405B-4ADF-BF56-10952FD80E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8EFA-3848-4097-A432-702C124C97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C4D1-6D7D-41C9-89AC-83F426CB26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DE19-CF8E-4E46-AF73-9B87064D72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8010-7770-4502-9D3D-75F8A9E8AB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D5DB-4FE0-49AA-9C1B-CB69C8E338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1BD7-3869-47B4-906C-ED1F543E1D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70B9-1664-44A9-8A46-4788013F71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261A-8100-4DC9-A320-14F86812F0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6C16-39A4-4041-B6F6-4419DC5087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B2FC-78C9-4566-823D-7B0B59D309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4766-85BD-4E8A-B968-C5716D312D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2740-F547-4F08-A9C2-B42F670B10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0968-F26C-4764-BC83-98B375CF08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69E2-072E-45D5-B58B-675270DFBD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E581-39B7-41AA-964E-2F181C09FC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9355-0368-4A27-A192-5A6509A263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1023-2649-4565-B29F-5EB14EF010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8D6B-08E5-46CA-886E-88A69BD945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7D97-3F06-45C5-A84E-756EF0B884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D1C6-F46E-47FD-AD41-E2EB2034B0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CA02-73BF-4CFF-BD87-0C2CDF4E41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7BB1-D74E-4D55-B56B-D2BE3071F3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466A-3DE1-42F1-8DE2-6A98DE4155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2977-66B7-4EF7-A765-845CB874C7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4076640" cy="82872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1566720" y="3086280"/>
            <a:ext cx="60105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304920" y="428760"/>
            <a:ext cx="8534160" cy="60004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3564000" y="2593800"/>
            <a:ext cx="107928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6516720" y="2637000"/>
            <a:ext cx="107964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5867280" y="3284640"/>
            <a:ext cx="576360" cy="4474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2843280" y="3933720"/>
            <a:ext cx="2233440" cy="4478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6948360" y="4653000"/>
            <a:ext cx="1079640" cy="4474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7308720" y="530064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8"/>
          <a:stretch/>
        </p:blipFill>
        <p:spPr>
          <a:xfrm>
            <a:off x="4413240" y="6021360"/>
            <a:ext cx="1079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9410" descr=""/>
          <p:cNvPicPr/>
          <p:nvPr/>
        </p:nvPicPr>
        <p:blipFill>
          <a:blip r:embed="rId1"/>
          <a:stretch/>
        </p:blipFill>
        <p:spPr>
          <a:xfrm>
            <a:off x="728640" y="1285920"/>
            <a:ext cx="7686720" cy="42861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1763640" y="3156120"/>
            <a:ext cx="1224000" cy="4474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3419640" y="3141720"/>
            <a:ext cx="1223640" cy="4474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4"/>
          <a:stretch/>
        </p:blipFill>
        <p:spPr>
          <a:xfrm>
            <a:off x="5076720" y="3141720"/>
            <a:ext cx="1224000" cy="4474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5"/>
          <a:stretch/>
        </p:blipFill>
        <p:spPr>
          <a:xfrm>
            <a:off x="6804000" y="3141720"/>
            <a:ext cx="1224000" cy="4474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6"/>
          <a:stretch/>
        </p:blipFill>
        <p:spPr>
          <a:xfrm>
            <a:off x="1706400" y="4869000"/>
            <a:ext cx="1224000" cy="4474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7"/>
          <a:stretch/>
        </p:blipFill>
        <p:spPr>
          <a:xfrm>
            <a:off x="3362400" y="4854600"/>
            <a:ext cx="1224000" cy="4474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8"/>
          <a:stretch/>
        </p:blipFill>
        <p:spPr>
          <a:xfrm>
            <a:off x="5019840" y="4854600"/>
            <a:ext cx="1423800" cy="4474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9"/>
          <a:stretch/>
        </p:blipFill>
        <p:spPr>
          <a:xfrm>
            <a:off x="6746760" y="4854600"/>
            <a:ext cx="14256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8373" descr=""/>
          <p:cNvPicPr/>
          <p:nvPr/>
        </p:nvPicPr>
        <p:blipFill>
          <a:blip r:embed="rId1"/>
          <a:stretch/>
        </p:blipFill>
        <p:spPr>
          <a:xfrm>
            <a:off x="633240" y="266760"/>
            <a:ext cx="7877520" cy="63244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4140360" y="1468440"/>
            <a:ext cx="3527280" cy="4478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4211640" y="2146320"/>
            <a:ext cx="3527280" cy="4474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4"/>
          <a:stretch/>
        </p:blipFill>
        <p:spPr>
          <a:xfrm>
            <a:off x="4284720" y="2852640"/>
            <a:ext cx="3527280" cy="4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5"/>
          <a:stretch/>
        </p:blipFill>
        <p:spPr>
          <a:xfrm>
            <a:off x="4211640" y="3989520"/>
            <a:ext cx="3527280" cy="4474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6"/>
          <a:stretch/>
        </p:blipFill>
        <p:spPr>
          <a:xfrm>
            <a:off x="4282920" y="4667400"/>
            <a:ext cx="3527640" cy="4474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7"/>
          <a:stretch/>
        </p:blipFill>
        <p:spPr>
          <a:xfrm>
            <a:off x="4356000" y="5373720"/>
            <a:ext cx="3527640" cy="4474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8"/>
          <a:stretch/>
        </p:blipFill>
        <p:spPr>
          <a:xfrm>
            <a:off x="4427640" y="6021360"/>
            <a:ext cx="3527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7352" descr=""/>
          <p:cNvPicPr/>
          <p:nvPr/>
        </p:nvPicPr>
        <p:blipFill>
          <a:blip r:embed="rId1"/>
          <a:stretch/>
        </p:blipFill>
        <p:spPr>
          <a:xfrm>
            <a:off x="299880" y="2033640"/>
            <a:ext cx="8544240" cy="27907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900000" y="3630600"/>
            <a:ext cx="5400720" cy="4478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5400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6324" descr=""/>
          <p:cNvPicPr/>
          <p:nvPr/>
        </p:nvPicPr>
        <p:blipFill>
          <a:blip r:embed="rId1"/>
          <a:stretch/>
        </p:blipFill>
        <p:spPr>
          <a:xfrm>
            <a:off x="281160" y="1390680"/>
            <a:ext cx="8581680" cy="40766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900000" y="3645000"/>
            <a:ext cx="3600720" cy="4474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971640" y="4365720"/>
            <a:ext cx="5905440" cy="4474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900000" y="5013360"/>
            <a:ext cx="7632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55300" descr=""/>
          <p:cNvPicPr/>
          <p:nvPr/>
        </p:nvPicPr>
        <p:blipFill>
          <a:blip r:embed="rId1"/>
          <a:stretch/>
        </p:blipFill>
        <p:spPr>
          <a:xfrm>
            <a:off x="343080" y="633240"/>
            <a:ext cx="8458200" cy="58201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2"/>
          <a:stretch/>
        </p:blipFill>
        <p:spPr>
          <a:xfrm>
            <a:off x="971640" y="2852640"/>
            <a:ext cx="6121440" cy="4478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3"/>
          <a:stretch/>
        </p:blipFill>
        <p:spPr>
          <a:xfrm>
            <a:off x="971640" y="3529080"/>
            <a:ext cx="6121440" cy="9079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4"/>
          <a:stretch/>
        </p:blipFill>
        <p:spPr>
          <a:xfrm>
            <a:off x="826920" y="4653000"/>
            <a:ext cx="79930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54276" descr=""/>
          <p:cNvPicPr/>
          <p:nvPr/>
        </p:nvPicPr>
        <p:blipFill>
          <a:blip r:embed="rId1"/>
          <a:stretch/>
        </p:blipFill>
        <p:spPr>
          <a:xfrm>
            <a:off x="299880" y="1371600"/>
            <a:ext cx="8544240" cy="41148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900000" y="2924280"/>
            <a:ext cx="4176720" cy="4474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755640" y="3645000"/>
            <a:ext cx="4176720" cy="4474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755640" y="4292640"/>
            <a:ext cx="4176720" cy="4474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5"/>
          <a:stretch/>
        </p:blipFill>
        <p:spPr>
          <a:xfrm>
            <a:off x="826920" y="4956120"/>
            <a:ext cx="6121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图片 52231" descr=""/>
          <p:cNvPicPr/>
          <p:nvPr/>
        </p:nvPicPr>
        <p:blipFill>
          <a:blip r:embed="rId1"/>
          <a:stretch/>
        </p:blipFill>
        <p:spPr>
          <a:xfrm>
            <a:off x="225360" y="4157640"/>
            <a:ext cx="8739360" cy="1805040"/>
          </a:xfrm>
          <a:prstGeom prst="rect">
            <a:avLst/>
          </a:prstGeom>
          <a:ln w="0">
            <a:noFill/>
          </a:ln>
        </p:spPr>
      </p:pic>
      <p:pic>
        <p:nvPicPr>
          <p:cNvPr id="965" name="图片 52232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7525080" cy="19429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3"/>
          <a:stretch/>
        </p:blipFill>
        <p:spPr>
          <a:xfrm>
            <a:off x="4211640" y="1700280"/>
            <a:ext cx="865080" cy="4474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4"/>
          <a:stretch/>
        </p:blipFill>
        <p:spPr>
          <a:xfrm>
            <a:off x="4211640" y="2276640"/>
            <a:ext cx="865080" cy="4474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5"/>
          <a:stretch/>
        </p:blipFill>
        <p:spPr>
          <a:xfrm>
            <a:off x="7236000" y="1700280"/>
            <a:ext cx="1152360" cy="4474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6"/>
          <a:stretch/>
        </p:blipFill>
        <p:spPr>
          <a:xfrm>
            <a:off x="7236000" y="2276640"/>
            <a:ext cx="1152360" cy="4474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7"/>
          <a:stretch/>
        </p:blipFill>
        <p:spPr>
          <a:xfrm>
            <a:off x="1835280" y="4581360"/>
            <a:ext cx="1152360" cy="4478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8"/>
          <a:stretch/>
        </p:blipFill>
        <p:spPr>
          <a:xfrm>
            <a:off x="1835280" y="5157720"/>
            <a:ext cx="1152360" cy="44784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9"/>
          <a:stretch/>
        </p:blipFill>
        <p:spPr>
          <a:xfrm>
            <a:off x="4788000" y="4624560"/>
            <a:ext cx="1152360" cy="4474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0"/>
          <a:stretch/>
        </p:blipFill>
        <p:spPr>
          <a:xfrm>
            <a:off x="4788000" y="5200560"/>
            <a:ext cx="1152360" cy="44784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1"/>
          <a:stretch/>
        </p:blipFill>
        <p:spPr>
          <a:xfrm>
            <a:off x="7854840" y="4581360"/>
            <a:ext cx="1152720" cy="4478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2"/>
          <a:stretch/>
        </p:blipFill>
        <p:spPr>
          <a:xfrm>
            <a:off x="8028000" y="5157720"/>
            <a:ext cx="9795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1:11:41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