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0A2-9504-48B4-A7C1-296EE6C9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48A-5045-4BAE-8E30-AFB709D6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A3085-D93E-4958-9158-8923B75A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27818-0D70-4450-BFA8-0F761434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1075F-9377-436E-BB44-EC3CA20D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48744-47C9-43BC-B6F1-37ACFC7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2B9B3-065F-4EB8-88D4-9CF0AD67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00012-0ED7-4729-96D9-0832BEE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51FE8-6893-4D76-96EB-E252F950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51026-32EC-49D1-9576-C20C5010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02FE3-A72F-4A2A-8D14-B06B709C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EF8E5-EE43-43EE-B554-1885F910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E59-AB82-412E-B0D2-77D379BC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FBC24-28AC-4AE9-8F99-04EC13C7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6D5C8-BF32-486D-B045-D0EE6B6C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A32AF-8F1E-4FBA-9691-B82C3B78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E9AE6-246A-4BA0-B81D-F457B0BD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5F938-3A67-481B-9E4A-75ED10EA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B13AC-EFC9-4FCA-907A-0E25DCAA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EF321-CD0E-48F2-AA25-B3C2CD78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A4F27-5D05-4CAA-B6B3-AD19B11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76525-4706-4443-975C-A1650079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5786A-351D-44B8-891D-E27F1CB8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79E-0521-4197-925D-37A2FC8C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D72B4-7E1C-426A-A374-0137C76E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AC5EF-BF72-433E-9204-8129CD3B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419E6-3A84-463C-93FB-80B999C6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40823-109E-4769-A7DF-AE9B39FB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895DA-D9DC-42B0-965C-15787B9A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19AB5-ABFE-494F-9D08-02285557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BC459-7BB8-4B87-80D3-FB810368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1AC56-3CA9-457A-BED4-813796DA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0353F-BADC-4DE3-ABA3-E26C367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4E84B-EE5B-4597-8E90-AFF1E20F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42B3-4097-4E9B-9F59-CEDA886F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8000C-4A80-4E89-9CD1-FB239393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2BF86-7114-464A-A921-F1320C73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D9C9D-2A18-4C45-8FE3-C831ACF2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C1193-C573-4436-A55D-3245FB09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356F3-F606-4BC9-979F-C4DE6F6B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06E4F-5183-44C8-8459-59FA0E87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D9632-BF5F-448F-9D3D-9A2D7D99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7572C-4AD6-4967-BEB9-51152B19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45523-8787-4E20-9560-7579E1B1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24AB9-386D-49BA-9F27-12164F33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C529-D313-4259-9A99-20B476C2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FE795-A4E3-4303-9952-EF03EAF9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F6013-9658-445D-B603-558147E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416D4-4418-4ABD-9EB6-1392BD3A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4090C-744B-4910-ADA2-A6A21892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4C6B6-0E7A-4933-A369-55DDD82F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D9B22-C615-49C8-97A3-E44BBAF7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CE759-DDC0-4600-A510-CDD65F8F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4C491-39F7-4A64-B451-1DFEE881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1E6CD-D638-4C2A-8237-0D46F04D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0B616-CE2C-4E12-83CF-D34663D3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F84E-8544-4466-A34D-C0473A9B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A3283-CA55-4118-A330-F98AA061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5507D-E0BE-4FD5-AB32-F5A94D0F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85F16-5537-45A8-9DB4-F7014386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247B7-1827-48BB-B63B-CF75BAE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0570D-F5C3-46EF-B7DC-E22EC994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AD061-28D5-498F-86A7-874A75D4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9AB6A-38CA-4D59-A2B1-BADF3F78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0762B-4AF7-4685-9300-E5D03FF4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9CC82-38F9-49D3-8D2F-153DD68F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01CF4-EA08-4AF7-A4FA-D716D4EC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24EA-0321-4C34-94C6-528C936A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EC98F-CE12-40AA-880D-5EA23DB7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C2403-AEDE-49E2-BD76-081F2FEC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DDC3C-9255-4326-89D1-5C3AC717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F00C1-1ABB-4B73-9134-B397108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1153C-0D73-4C16-80FF-B5D53EDB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E2FB74-5189-4501-A5D0-9A4BD89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2F35F-69BF-482E-BDF8-4C4AE44B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5C3E8-1607-46BE-9933-4FADF354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408D8-C87B-4851-8780-6A5E8E3E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3D522-CBB5-4BC0-B296-1BA15DF7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FDDF-EC7C-47E2-952D-59CCEF40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1E4EC-5026-4824-AD5E-32490D93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6F952-E47A-4466-934B-9B38B012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F4919-F78B-4CBC-B56C-9D1C6E84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5F36D-0816-44F1-B9B1-D2C33B84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D36A6-EB92-4C5A-9E54-7BACC967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95A62-94D8-4381-B978-2F401FAF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83699-59E8-409D-A30A-EB3A7F42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B4F72-1677-4B97-A18B-F570F39C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C6401-4CDB-4D4E-AE75-9BDE796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0EE6D-9968-4CAE-B999-1EA24525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9966-5BE2-4FAE-8F7D-18FB5976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2CD0F-4987-4B98-AC18-EEC154AD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B749D-A8D6-4D17-8BD8-AD250C6A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E5813-455F-4904-9E70-C4A998B8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0702B-3225-4CC0-B25D-CA32659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563C4-9891-4C7C-988D-4AF31AFD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08B78-D95C-44F6-AF00-539C9FB1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23DA4-AC69-4C25-AF94-395B69F7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81A8F-0F84-477A-A98C-2FCF5648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4E01A-0093-413E-BE2C-EA034528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2F4CEE-663E-4E4E-8253-0C392DF4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9050-604A-483F-963F-903853EA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2A995-081E-42B9-8891-E5E2A79C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E5565D-9E5F-4809-9ED4-56383814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28C4C3-90AE-4209-941C-F5888D03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E04EE-6A32-47D3-9C38-85DEDD9C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949A3-0FB8-4E1A-9914-955C9CC8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E6171-F52B-4508-B879-73BDB244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1A095-78FE-473B-8BD7-B82DF72A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DDCC6-BDFA-453A-B271-4A88C961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78D6AF-4233-477A-95E6-981448C0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0A3AA-9762-4B84-8372-FD74780C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85E-073F-4228-9DA6-64643D15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C3E6-D459-4C21-BC1A-27D63DEF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F153E3-8AD7-4B9D-85DE-401D1130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2B69C-95FD-49BA-9957-91254CB4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A80876-5F93-4F20-A727-6D184FFC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25A48B-6E40-4653-9A9A-B8FBB120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554CF6-1ED0-4AA8-B5AF-DB4E5D6D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2053A-55EA-4D54-A520-16A8E921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BFB5E-D288-4906-BE23-9892994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D2B35-04D3-4EBA-BFBC-37AEBC6C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310AD-388E-4A55-B8BF-80A92A30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FFDAF-3814-4399-B44B-2C2DF708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A325-635F-4D59-84B2-D2628C8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790A9-3DA8-4257-A0F1-4691770E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72250-A2B4-4D11-BCD6-995C5B08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C4C28-D647-47AD-8F63-5F8D3408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D909D-B59D-47E9-87F6-D4353186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94FF4-ADF8-4FC8-A6C3-BC6EA9E0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7C22DA-5C91-4078-A781-CCEC5B7B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54321-F71D-417F-9076-0E67A8D2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CC505-C577-402E-A72F-52AF3444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17DBC0-5078-4F6F-8D6F-01CBE0F4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FBDEAB-3EA4-4FC0-8A12-718DF9A9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DD54-D40A-4458-A44D-54043F1D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7E4B8-0C19-4A61-A280-9E4B2C3C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BBF06-113D-4869-A60F-410AE206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71FF42-F888-42F4-AD4A-32B7D8F9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69C4F5-58D0-4AA3-91C2-69E7BCE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B4553-11D8-481E-9DF6-8329C9D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0EC36-F2A2-45FB-801A-1747C32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89A86-447E-4F3B-96F9-F94D9636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0280AE-048D-4422-AD79-4E2F742C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24460-3A06-4302-9E6C-55E34E8D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F11B6-5019-40B3-A93B-561CABA2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6B19-47A5-4D4C-A76E-1372A788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E46EA-6AF9-43F3-9280-0097CA5F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DBA4D-CAEC-4295-B50E-2BDE21A8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60783C-83C7-40C2-9B61-149D5C15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04ABE2-3B26-4401-88C1-BE07CB87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08D23-6D8F-470F-B730-87540966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C67E3-2A94-46AC-B76E-8423F598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0C0CE-48E8-476A-ACB5-454D221B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63DB8-E4C4-440A-B5F6-5FE2933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761EB-95FE-4063-BECB-0ACDE342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3724A-9434-4BEC-871F-D65CD432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019B-50D7-410E-BB37-F49F16CD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C0CE0-9F42-4D22-B012-F206DEB9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48C4E6-4FC8-4FFA-B9C2-C49D860A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36E6C-1D5B-484F-A72D-4BDBB459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D0C820-A14B-4DE5-9F10-029BF288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70D8CB-9396-4B40-B1D2-0A354D87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4278B9-AC8B-4408-9E5C-432976C2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645A8-86C7-41FE-83F9-5F76FF27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33CA0-F557-4E3E-9F0A-A4605E6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3F7085-828C-4F02-AE3E-11FA6839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83069-DB59-4735-90DD-BEFA6D37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ECEE-A835-4DD4-95D7-6760A766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5C5F40-082F-4BFB-A3EE-702A57F7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AFEEF-CC51-4D4F-A214-9F16D952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0996A-87E0-46C4-B072-BBBCED01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A5F0-6423-476B-A2AE-5ABF090B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A979-EB77-4003-83F9-1155C71C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9FC1-5212-4314-B961-ADC41ECD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0604-C60F-4B79-9FEB-E10CEE9B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7A1-40CD-4F00-8C27-4A489B50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D55A-27D8-4C2A-A8FE-A3EA9F02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50FC-9827-4014-B170-00F6D2F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00C6-EE5B-433F-9A6C-BA245C0D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E0F1-F42D-44C0-AD27-93726EDA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F4F1-17B3-4052-948B-D209D73C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1164-788A-45C3-A984-BE43A315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4CE8-4177-44CE-9CB7-519F5056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78C9-4916-434B-98BA-7AF86F55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37FF-E93E-4A85-B9D1-0A65372C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FE54-0B1E-4858-A8E2-2BD44C9C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855-4BD1-4B58-BA09-FE6482B4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CEDC0-75BC-4A41-AD49-1BB8D4D5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BB98-A16E-4B87-A71F-1F2F59A2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C6F9-B2CB-4032-A99E-14180A59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41530-1816-4F8B-81DA-13692F1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D128B-4A96-4E47-B4BB-198A512C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8EEA5-82B4-49CB-871F-C680C00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F3B00-C7EC-401C-BB48-FBC246BC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272B8-17AD-492A-9539-715E8824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053D2-E911-4096-BA69-140D1BE6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DB62-94D9-402F-8138-BA1C21BE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C8C-D052-40D1-9B5B-112E8D86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FDCFB-8BBC-482D-8A4C-C39D89D3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D930-EA55-4D56-A18D-D64AB984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936D-BF9F-43D6-868F-D70AC8B6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C7A07-CD99-4134-BD71-7E10ABA2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CC7F6-E971-4DDB-A5DB-3EF4C324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5BE85-8F7C-4AE8-8B60-FCB7622F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A0386-E737-44D6-9530-A5C714FA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451E0-CAA1-449F-8B54-2A26419E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4EBB5-091A-4919-85AC-4B47607E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7A938-3682-4C04-B8DC-04CAA3C5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BEB-6768-4C97-915D-4BF4A9D9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DD426-F251-4F10-BF64-7AF34037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3B02-4A74-4BE2-8F0D-F830C416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058EA-428F-458C-8396-6D049A42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812D9-C88F-422D-860E-14C7F709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2AFD3-3C22-4B7F-8FA2-25D1A61C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488E6-C159-4676-BFE2-2F5DD40C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DE2C-B78D-46F4-A55B-41239F60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78508-3351-4412-BB43-D6F018DC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9806-F628-4D1E-901F-A09F37F9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0A8E3-F3D8-4E8E-81AD-169608C4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D2C-F297-4BE1-B819-6B801A32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F83B4-61A9-43A4-9618-8C037B6C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42FAF-4318-434C-A544-7120D2DF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E6149-ABDC-4FCF-A7DB-E31199A6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F9C74-150D-470D-A64A-9CCAC581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646F3-0891-4783-964D-5790CA93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0AE2A-4CFD-4006-A12E-280F7E7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F1BE2-7178-423C-94CF-03F7A528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A4140-29FD-4F48-BDCF-334637E6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3FE47-737D-4050-9CC8-60095214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64731-4A16-4B88-BB6A-DC36F0F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B2A-C869-438B-9CE9-49229E2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E0DA2-8317-46C5-9418-7AFD4A2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5D7D0-A3BE-41D9-8F34-A28338BA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A8CE0-D688-4177-84AC-5ED66AC8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6E230-CE98-485A-AAF9-045318C7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01AF9-3F0C-45BE-B9CF-27FA4B22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057B4-E6A9-4143-BDD1-695B4F1A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84221-C671-4561-BF5F-E39CB26E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E7E23-DD0D-4488-9832-5221D2BE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BB67C-9AF5-48E2-9A8C-BC434C58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8EAF9-2EC5-49A1-99B3-29962F40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B4C-B530-4DA1-889B-2399234F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9A64B-EFD1-45CD-A1EF-C780B239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0E6AA-CD0B-45C3-9703-B93FB35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6DD5C-B3F0-43B4-94E4-FA48740E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17E01-F2BC-46FC-A91E-E93133BE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7A956-1407-4D7D-9D61-7087E83B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38551-6FB7-436A-B3CD-F16A020E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E1E93-2F35-4169-92B4-FF0D6B2D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20BC3-69A8-46F7-946C-9861AE0E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9DEC8-06D8-4384-9D14-C526AF67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396DF-036C-4780-8978-CEC1A1F8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A8DA-2114-4579-9EE2-323F131E46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F9E2-F42D-4998-8A7A-3A559DFA8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A1B8-D469-4A9D-A461-34062AA818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AC7F-DB04-4F86-A45F-52B9A32932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EFB9-9885-4FCF-8143-1D0AFCC2C1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DDF5-E14A-44BE-BA02-92E72B03CC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AF8D-1038-4261-986C-2A6CD04B67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E2AF-C0A2-45AD-A63A-FCF04F5EC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3BC9-F138-443E-8F1A-0DCAE18801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72E-890E-4C7A-A791-136CF849F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6C1D-978D-4C78-B354-1353BEBD33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B658-2BB9-402C-B882-0C9A10C128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8268-D135-47FB-8DD2-8B10F4332A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65A-FBFC-429F-8A03-7E206E5E8A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9A64-CCA0-4369-A03E-D81B026EF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C765-6BDC-461D-B18F-22B68F683C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D9ED-06AB-461A-90CD-0B469AE365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F750-0CB7-4176-8033-8122EC3573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9DC6-E05E-4B8B-B2D5-D4E400CD4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5401-ABBD-4868-9B36-529E22DBD6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B5E5-0ABC-4281-A976-2A8EEFFEE5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8C1-4A8F-4D46-A621-A4EEC99B2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39A3-C8AE-4D5D-BFEC-67863A5F5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DEE2-5D5E-4041-9E25-B342E2D703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D181-6FE2-4D85-B941-EC167344E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F44A-8830-43D2-8FD9-359C6B89EF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F889-8A3C-460A-A786-2B7229E736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78B7-7FBA-4AAF-9B15-075085ABAF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2409-0B6E-4CBB-900D-1FD17BB55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DE51-75F4-4EC9-92C9-8CC056B591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2ACC-BDA6-4AAB-BC5A-F0EBDF8D9C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261B-E9CA-4839-B153-897459E3C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E949-F610-4192-B62B-5C78F5DBE2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BD55-5F59-49B4-955B-4C7B5CCB20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0975-C2F8-4D0B-ABD1-F6AB483AA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837C-C703-4A9A-92DB-4DC09306A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9180-F30A-4182-A847-905125B647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C1B1-FBC2-469E-9E20-965934B55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9D5B-2855-47C3-811F-CB343834D0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9609-8C76-4892-9427-35E385FF33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95520" y="2567160"/>
            <a:ext cx="595296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图片 52231" descr=""/>
          <p:cNvPicPr/>
          <p:nvPr/>
        </p:nvPicPr>
        <p:blipFill>
          <a:blip r:embed="rId1"/>
          <a:stretch/>
        </p:blipFill>
        <p:spPr>
          <a:xfrm>
            <a:off x="318960" y="1162080"/>
            <a:ext cx="8506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69633" descr=""/>
          <p:cNvPicPr/>
          <p:nvPr/>
        </p:nvPicPr>
        <p:blipFill>
          <a:blip r:embed="rId1"/>
          <a:stretch/>
        </p:blipFill>
        <p:spPr>
          <a:xfrm>
            <a:off x="623880" y="1442880"/>
            <a:ext cx="7896240" cy="39722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2"/>
          <a:stretch/>
        </p:blipFill>
        <p:spPr>
          <a:xfrm>
            <a:off x="468360" y="1427040"/>
            <a:ext cx="4319640" cy="479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3"/>
          <a:stretch/>
        </p:blipFill>
        <p:spPr>
          <a:xfrm>
            <a:off x="395280" y="2075040"/>
            <a:ext cx="4319640" cy="4791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4319640" cy="479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5"/>
          <a:stretch/>
        </p:blipFill>
        <p:spPr>
          <a:xfrm>
            <a:off x="395280" y="3429000"/>
            <a:ext cx="4319640" cy="4795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6"/>
          <a:stretch/>
        </p:blipFill>
        <p:spPr>
          <a:xfrm>
            <a:off x="395280" y="4149720"/>
            <a:ext cx="8280360" cy="4795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7"/>
          <a:stretch/>
        </p:blipFill>
        <p:spPr>
          <a:xfrm>
            <a:off x="468360" y="4811760"/>
            <a:ext cx="8280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68609" descr=""/>
          <p:cNvPicPr/>
          <p:nvPr/>
        </p:nvPicPr>
        <p:blipFill>
          <a:blip r:embed="rId1"/>
          <a:stretch/>
        </p:blipFill>
        <p:spPr>
          <a:xfrm>
            <a:off x="752400" y="731880"/>
            <a:ext cx="7639200" cy="60102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2"/>
          <a:stretch/>
        </p:blipFill>
        <p:spPr>
          <a:xfrm>
            <a:off x="1258920" y="3616200"/>
            <a:ext cx="6626160" cy="4795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3"/>
          <a:stretch/>
        </p:blipFill>
        <p:spPr>
          <a:xfrm>
            <a:off x="1258920" y="4292640"/>
            <a:ext cx="6626160" cy="4795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4"/>
          <a:stretch/>
        </p:blipFill>
        <p:spPr>
          <a:xfrm>
            <a:off x="1258920" y="5057640"/>
            <a:ext cx="6626160" cy="4795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5"/>
          <a:stretch/>
        </p:blipFill>
        <p:spPr>
          <a:xfrm>
            <a:off x="1258920" y="5734080"/>
            <a:ext cx="6626160" cy="4795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6"/>
          <a:stretch/>
        </p:blipFill>
        <p:spPr>
          <a:xfrm>
            <a:off x="1332000" y="6364440"/>
            <a:ext cx="66261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614520" y="752400"/>
            <a:ext cx="7914960" cy="5353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753160" y="3284640"/>
            <a:ext cx="690480" cy="479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702480" y="3295800"/>
            <a:ext cx="433440" cy="411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380360" y="3284640"/>
            <a:ext cx="690480" cy="4791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461960" y="4292640"/>
            <a:ext cx="662040" cy="479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492880" y="4292640"/>
            <a:ext cx="620640" cy="479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415200" y="4349880"/>
            <a:ext cx="433440" cy="4111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093080" y="4321080"/>
            <a:ext cx="620640" cy="479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119560" y="5373720"/>
            <a:ext cx="621000" cy="47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040440" y="5388120"/>
            <a:ext cx="433440" cy="411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732720" y="5373720"/>
            <a:ext cx="6206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666720" y="1871640"/>
            <a:ext cx="7810560" cy="3114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5753160" y="2060640"/>
            <a:ext cx="69048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718320" y="21337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7437600" y="206064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4500720" y="3156120"/>
            <a:ext cx="576000" cy="4791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5378400" y="318456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6127920" y="314172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4038480" y="422100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4759200" y="41781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0"/>
          <a:stretch/>
        </p:blipFill>
        <p:spPr>
          <a:xfrm>
            <a:off x="5651640" y="42354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1"/>
          <a:stretch/>
        </p:blipFill>
        <p:spPr>
          <a:xfrm>
            <a:off x="6372360" y="4192560"/>
            <a:ext cx="576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76801" descr=""/>
          <p:cNvPicPr/>
          <p:nvPr/>
        </p:nvPicPr>
        <p:blipFill>
          <a:blip r:embed="rId1"/>
          <a:stretch/>
        </p:blipFill>
        <p:spPr>
          <a:xfrm>
            <a:off x="343080" y="1719360"/>
            <a:ext cx="8458200" cy="3419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71640" y="317016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3384720" cy="479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5003640" y="3214800"/>
            <a:ext cx="3384720" cy="4791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4788000" y="390528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4788000" y="4552920"/>
            <a:ext cx="3384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8373" descr=""/>
          <p:cNvPicPr/>
          <p:nvPr/>
        </p:nvPicPr>
        <p:blipFill>
          <a:blip r:embed="rId1"/>
          <a:stretch/>
        </p:blipFill>
        <p:spPr>
          <a:xfrm>
            <a:off x="652320" y="1704960"/>
            <a:ext cx="7839360" cy="34480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097440" cy="479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3097080" cy="479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309708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5002200" y="242100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4859280" y="306864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4859280" y="378936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8"/>
          <a:stretch/>
        </p:blipFill>
        <p:spPr>
          <a:xfrm>
            <a:off x="4859280" y="4437000"/>
            <a:ext cx="3384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7352" descr=""/>
          <p:cNvPicPr/>
          <p:nvPr/>
        </p:nvPicPr>
        <p:blipFill>
          <a:blip r:embed="rId1"/>
          <a:stretch/>
        </p:blipFill>
        <p:spPr>
          <a:xfrm>
            <a:off x="733320" y="1752480"/>
            <a:ext cx="7677360" cy="3353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611280" y="315612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612720" y="385920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539640" y="452268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4861080" y="254952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4788000" y="321300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859280" y="3860640"/>
            <a:ext cx="3240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6324" descr=""/>
          <p:cNvPicPr/>
          <p:nvPr/>
        </p:nvPicPr>
        <p:blipFill>
          <a:blip r:embed="rId1"/>
          <a:stretch/>
        </p:blipFill>
        <p:spPr>
          <a:xfrm>
            <a:off x="843120" y="1805040"/>
            <a:ext cx="7457760" cy="3247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520720" cy="479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252072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826920" y="3859200"/>
            <a:ext cx="2521080" cy="479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826920" y="4508640"/>
            <a:ext cx="2521080" cy="4791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5076720" y="249228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5076720" y="314172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8"/>
          <a:stretch/>
        </p:blipFill>
        <p:spPr>
          <a:xfrm>
            <a:off x="4932360" y="3860640"/>
            <a:ext cx="3240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5300" descr=""/>
          <p:cNvPicPr/>
          <p:nvPr/>
        </p:nvPicPr>
        <p:blipFill>
          <a:blip r:embed="rId1"/>
          <a:stretch/>
        </p:blipFill>
        <p:spPr>
          <a:xfrm>
            <a:off x="728640" y="1433520"/>
            <a:ext cx="76867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54276" descr=""/>
          <p:cNvPicPr/>
          <p:nvPr/>
        </p:nvPicPr>
        <p:blipFill>
          <a:blip r:embed="rId1"/>
          <a:stretch/>
        </p:blipFill>
        <p:spPr>
          <a:xfrm>
            <a:off x="1290600" y="1609560"/>
            <a:ext cx="6562800" cy="36388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1332000" y="1685880"/>
            <a:ext cx="4752720" cy="479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1332000" y="2349360"/>
            <a:ext cx="475272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1332000" y="3024360"/>
            <a:ext cx="4752720" cy="4791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1332000" y="3687840"/>
            <a:ext cx="4752720" cy="4795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1332000" y="4422600"/>
            <a:ext cx="5976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7:0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