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E4D-E799-43AC-8965-9A306916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E3F-301E-4F80-A564-4E86DFA1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7A7F4-ECF5-4457-8BF5-5C0B348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7ED1-9D06-4985-8EEC-A45D56B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77EB0-1973-4608-A195-01ED2E8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ED1D8-1BA2-404C-B9AB-D19E631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BC810-D014-44CA-ACD9-5B433B5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1F883-2255-4A80-B649-E0289360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D76C2-3D38-402B-AFC6-56FEFD7F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D190E-EF4F-4974-A668-FEE00168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7A794-AF86-4FED-B2AC-66FBC31C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8C887-F4C4-4E8E-87B5-BB6E6374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062-C51D-4FE9-9A71-11839174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44DD-C2A1-4B38-8AD3-6707B93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BCEA-B965-4B61-8922-DEDB01D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EB4FC-76DB-4BD3-840A-578EFD7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A64C7-D71D-4400-9A8E-8B8B30E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77F5A-DFC4-4A7A-86FC-EE5D6F86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86953-6D8F-48E0-B73A-610FC3C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8C1C3-3412-4AF3-BDB7-1355663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73CA5-4C79-4BE7-AA5D-E3396999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4795C-1FF0-4C2F-A4B1-6FD00876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60B89-A6D5-4F69-9C9B-E5225909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37-BD4B-4A94-B3FB-87E0E3A6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76CE4-A9F4-4A0F-8075-7C72BB6E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C8DE1-EBF9-4165-B0AE-9D4E2A0C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93D4F-4DBD-468E-A3B6-590D285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1E1B-3F24-4003-AD4C-A77467C3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79B9-BF87-4AB2-BB9B-F54E0C9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5D18-F220-4C6D-B7F1-3214AF07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501B3-92A2-40E0-B717-AC99AC2C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C9C4F-9C2D-4F43-981F-BD143D7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BD06-2FC5-4C2C-80B0-F091E91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9D53B-6CBB-4CC0-836F-D516AF8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C51-E9EF-4EF5-8463-7BC18539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4E957-8EEF-48C2-A4BC-186707B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C5215-5193-426C-96E8-E72814E6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6F97-AF16-4980-8F47-E611429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FFB2F-0E69-45B2-AF39-610F1875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40B50-27C6-46F8-B375-A0098BBA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E22C-2AB8-4938-ACDC-290A534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F327D-383B-4EE7-9C42-4489832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6641D-9CAD-4E35-ACBE-0A9C6963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7365-E8F7-465A-A2E4-F6A7289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15E4F-63F3-425A-A75C-5E7F910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E9F1-E742-4728-AEC1-9BBCAB79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2C0F5-35BD-490D-B9C7-A5FB8FD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B152D-DB68-4F2B-BC3A-79BA8B8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521DE-D80D-4DFA-A7F8-86A97C3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C244D-F886-4C52-84EB-650D1FAB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5C234-ADD8-44E3-BED1-1471F351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75133-E3A2-4F53-8688-E3BEF0B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2F76F-FF8B-478C-88FF-D4D9276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0787D-9D87-4659-816B-D820A45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E089A-0EFE-48DF-A97D-A2EB876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CBCB7-DA02-48D6-B8E6-BF30562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6F01-A492-4398-9AB5-0C193DA4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4F64C-880C-4430-85EC-949F9D2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B252A-E67D-4113-89F0-B44CA9B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A3C61-3B30-458A-909C-3AED5B1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59824-2D9F-47A7-8E48-47E962F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5352A-2C8C-4926-A51B-82A35F82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51B38-2C5E-4694-935B-B3B27B58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E838A-2341-4185-A6DD-0632F7A5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DAFA7-2BB0-4416-95AC-327749D5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90439-5CF2-49FD-8309-F00F6A4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BB22B-A03E-418D-9F27-50F09AB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51A-CA0A-482B-829B-45E1D25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BD822-12E7-4B96-AA9E-2A5A8B9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02361-AFF7-499E-9998-4D11E13F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35AA8-3F78-43AE-84FB-557FF3A4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9374D-7EEB-4079-A6F8-9E2BD285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F3A8A-DE9D-4E84-851D-6F3BF66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F3C09-BFB3-4DD5-A61A-9E98367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51E43-8DAA-404C-8102-374D75A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018D8-BEC3-47CB-BC39-AEB0A1F0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6632E-FDDB-408E-9911-3B68C9DD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801CF-B940-4E3B-A305-A1DC92DF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A8CE-4130-4ADD-9B86-1C633D0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B8BA8-B595-40F8-BFD4-F309D27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D1319-CF3B-4207-9F58-DA97ACE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39219-B8FF-4D8A-9CED-73C7E367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D23B0-E491-48D7-9688-7A88C588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5F0B6-037D-4937-8313-C4BCBA4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AFD40-3E62-4416-86A4-3417603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738D5-B2A0-41D6-8C8E-98B2005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93497-F7B5-4941-89C7-3E7A21CE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99DAC-873E-43DE-A68D-00B42238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2FB3E-59C6-423B-BC9D-699EB4E5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A111-19CE-4129-BC74-F61A33D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2A9D9-EC3A-4EAB-9C41-793364D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81375-AF91-4ADC-9478-EABC0B00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6E63C-D78A-4924-AC1B-4ADD55D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9EC31-8111-420C-B843-4355067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75F81-392E-45DD-8BF9-740F7FB3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0122D-1E5A-487D-BCD5-C07382C1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F33AF-AC90-423C-BC13-06E0ECF7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8DCB2-CFFF-4A73-8F79-63E9830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00528-5769-40C1-A87C-0E1154C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E5174-0917-4093-B0BF-FDD7DFE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6EA8-B99A-46B6-BA86-F16662D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BFBBE-1CA3-4B72-B4D5-D465142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30B6D-99D7-4647-9EA5-7BBDFA02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6E851-1833-4D2F-A70C-77F61DA7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E7A76-144F-4FAD-9A9A-D5A6E94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F80DC-2487-4159-BE4B-E1B7164F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C3F93-DDBC-4C84-A900-AF8CEF68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9F2C0-79B0-4215-AD45-9AADBFED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14ED6-21B2-4C96-9104-CCB92BBF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D19B7-B668-49F1-B247-6A5040C0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7A201-19E3-42D4-B1EB-37BC829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4E2-5EE3-4A8D-A960-78738642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83EC-A7EC-45C7-AC17-F25C648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E1927-0E89-4982-8FDF-B21AC18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0D624-9464-4D5B-9422-0650E03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448CC-EECF-418C-96C7-22B0170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73414-5B63-4C6B-858E-F0BC7278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480F0-AC54-49AC-9FAC-AB2D355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42A46-C67B-46E3-B905-75AE0A0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43D7D-F185-4DD3-8A0B-33D0456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4F44E-3573-4D57-BDD5-242FB5C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52219-D84B-4ED9-BF4A-EDFE261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090AA-3DCA-48B1-8B55-7D0809B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837B-F4C8-478A-89A2-42463E1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EE20B-FCD2-445B-BA85-A8D6D4F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2269A-47D3-49DE-A419-5D4D7BF2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6E40E-14B6-4605-8C43-6A2A61F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2455B-71BB-4CCC-BCD6-5B28986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E954B-F58D-4441-A4AC-B41D6DBD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BB232-6CA0-4A87-999E-A1CD9D9F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66CAF-688F-4460-B652-6C6284B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161EB-5B1D-45CA-9648-DCCC2960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3383C-F7E0-468C-ADF8-3E558DC2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3C3BD-F71A-4639-A16C-89F8E5FF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8A82-87E2-4839-9B16-3D97FB3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AA768-C41A-4F73-A005-31DA0FF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1DB70-5F28-4914-A73A-8B751E9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5550E-5EF9-4D62-A561-A8FFB9F6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30405-8E80-4649-81D3-3A6CD5A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4B204-288C-4622-A4A1-56840B7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DFCF0-0A32-4D9F-BB8B-8EC0F99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7B03D-1612-42A2-B41E-4CD72E9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9357C-C61F-49CA-9E0F-F0C74AE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3FC7D-5511-458D-A3F0-D478F38B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6FEE8-6D91-4828-8FB3-375F7251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BEF2-5AF4-4B30-9062-413DF435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AE55E-C97B-43C8-8AAC-A9F9EA2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A619F-D38A-42A2-882A-2A9E3D9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E1A3D-040A-41D8-9582-6DAA405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181B3-517F-45E6-A58C-3A895E3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4FEA6-B5D7-4FBF-BC77-3DECB96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59886-1549-4C21-8011-B5563B0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FB32C-0718-4804-9A72-407BB0C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AA74A-2374-4C8A-938F-437E2E0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71F7A-2C25-4D42-8C50-4CFCE010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5B301-09FD-4A1E-A28E-A66D18E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A646-4F82-4031-8B3A-9823B49F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ABDF7-E141-4B9B-BBD3-F5F80469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BA9EF-8874-4BB2-BF09-3AFB15F3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342CC-CFA1-47E6-82F7-EC5749A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E2BF7-4C2F-4D57-B63D-84BBB4F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D7380-D572-48E4-B30A-BB8CEE2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11C9E-4AF1-4B9A-9FCF-874651F4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B18AF-7C5C-4152-942B-AECA8C9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F904E-0B6F-49A6-901F-55F36FB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FD8AF-A23A-42D1-972D-C7C766E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EA7CE-A83E-4F8C-BFA3-42165FF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F92E-A0BE-440C-A021-9D840D64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268BF-ACBD-4CCC-9BDE-C762575E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F8C49-8FC9-4C95-B2E9-A09A4BC8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F1DB7-F66C-4C12-B232-67AD077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21F4C-857E-4B8A-9363-BDB491E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7BD42-2E38-4A1C-9BD7-3E75D3E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25167-1A50-429D-8ADD-F6201AD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6FE18-214A-459E-B8A0-4CC9AE11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F3E43-7D38-4EF7-9C89-B2B59038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D61D7B-1C06-4DE7-8F80-E27963A8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7C5EC-FB30-4CF3-B8D2-5667D54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70CC-285A-499A-AA5D-17695AA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E50EA-5391-4AFF-AFC6-D7F701F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63C85-7486-4AAF-9CAF-12D21C2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5826F2-4CD6-41B9-84BC-67D4FDE7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04D2A-0777-4267-8888-5192FD34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43145-AC7D-4904-AC42-E7C0F7CC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828997-A287-4DB5-981E-E197DC0E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12AD83-913E-4095-8FAE-608B4C8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52795-CDD9-4E87-A53B-B2D50E46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9C7AAB-7341-4C4A-A9EE-A08543D1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1E35F-CC10-4FBE-A5D1-E2FAA1E6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8906-C411-4348-B1E3-DF925D7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83500-E776-472D-8415-99E3E6DF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CC0FB-EDC3-4E65-B91C-E8E368BA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D38F0-3439-462E-AEF4-C65E27B9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60026-77A4-4C15-BDAE-D6AE307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048E70-18FB-4C28-89AE-27C69BA7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1AED6A-0FC0-4B9E-817A-1E7864D9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34589-834B-41E3-8ABA-CC7D76A8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597C-7BA8-465B-97B7-0A8435B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CF6D-652E-4B99-A6D8-807E4AE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F53-D350-4E75-9ECA-1BD63F51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EF2A-7C2F-4C39-9EFD-C7487CD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B6FF-FA6E-4BBD-A0E7-04347174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DF86-7F28-4836-BDAF-37CE7CF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69C0-6690-4E13-9AF9-52110D6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FDE6-349E-43AB-AE3D-90D5A87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B9F3-C8F1-4C64-9F08-915B423D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FD5F-7521-406F-B1BA-CB528428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46D3E-36C3-4544-90A5-7241F145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81F9-F0D2-4879-B23C-C6A2414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8E3B-919E-472B-B7BE-F9A64A7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4ED-C205-4E06-9CFD-5870F88E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F8E6-1443-47EB-9DC1-A04D0CFF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1E1C-7A89-4C47-9486-3BB3ADF9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E837-DB8E-4B66-A287-8F3B3581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B494-80E2-4796-9AA7-1C9607F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6734-5596-44B7-B019-CEF5A9D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AEC5-DDF2-4597-B8EF-F5E3090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8225-243E-48C1-A04D-511A450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1FD1-BF4D-4129-A67C-E5CDB6D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B81E-5EF3-423D-B80C-757FE0D7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8DD6-6626-4510-BD61-72B83204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B72-6E60-4943-B404-ED479DE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CBA13-DAE1-4294-BD28-FBAFAA5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9429-8128-43D6-920B-613DB76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D63E-EC13-4EC5-88B4-66CD37B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3F62-AD3B-4F20-8AAE-893B9493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4098-F43F-402B-B06F-43DCB5D4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8850-5E97-49B9-BA17-AC88A4A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3781-D8AD-4AA4-B1D3-BF785AC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5435-99AA-4062-BE7A-0FA19C4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4A285-B1E3-4DE4-9B1F-1A567D7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7B5B-5C24-4062-A711-FFA6BC4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947-D377-49F8-AA38-5DF7A683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0405-223D-4A11-B056-8F7D2A4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8B0F-1E6D-4947-992D-A981393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6B753-E22D-4900-AFD6-DB20C5E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17C9-F71A-446C-87A5-F87EBBD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2D44-E2D6-4A7A-BD4E-CBF2D79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24D11-9FE7-42EC-BEA0-1F7EE76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B30E-2622-4DB1-ABD9-8953FEE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57B9-27C9-4FD0-8025-47872F0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435A-0FAD-40EE-9D58-DE8D9F9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7E98-496D-4AC3-AAF9-29BD02C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3FA-9D57-419B-9717-BEA061C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2F9D-B19B-4612-B4D3-41F0EF8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6163-D772-441C-8D7C-2B45CC0D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1B80-66B2-499D-8EC0-039A2535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26536-7554-46D8-888E-911E35FD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3090-A7C7-419C-98C3-B5A6B07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588A-F7BF-4D5A-9D78-945D415E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9CD1-125B-47A5-AEBA-D13EAF9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20DC5-8733-4F9E-9627-54B3110C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9E22-43FC-46DD-9FD9-9FEF390E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E6DA-BDAB-4E04-8F64-997BF09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407-E24F-45B1-8807-55210B5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801A-64F5-4848-82A1-1CBB39D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8DC8-4540-48FB-AE85-B725310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5468-7F1A-4238-8DD7-032B5FB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F42F-372B-4877-99B7-4502AD5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0C48-6142-4A4B-A0FA-6B646FFF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604A-6BC6-460B-8485-643CB6BB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2312-B2CB-4F50-BB8C-BEFA375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0B09D-49F3-4025-837B-464846B8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A2FC-EDEB-4B10-BFAB-622FDC54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558E-F1F6-43F5-B30C-1D13A36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F49-38EB-420C-8B54-E67D01F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0262-84B3-4161-A262-432D37C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5FBB1-0325-4237-82EB-2257A07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317EA-6478-4446-9686-B335147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1279-9435-4948-A8D5-59AF16B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1ABD-6861-43A2-83AF-4FBF220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21241-2568-4DF9-8379-C3B37DAF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48C3-E031-40A3-86C2-246450D9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E3529-45C4-4FA2-AF54-3E79575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4FE22-8C31-43C6-B2FF-C129DF3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9E833-8F29-412B-9F29-1CF3A87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67B0-E906-45D3-B74B-4F703FFA85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BA6D-B235-4E71-BDBE-9D6D76D166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5EE-9C4D-444D-ACAC-920BEF731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6CE1-188C-41F3-AFD2-B367B745C2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889-A3FB-49E6-AE64-7ACBBCAE6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220-1F22-4A42-95A2-1DB529B61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C6C-F618-45EC-AABC-BF206E337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93E-EBB0-43E6-B8D1-182DC687C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18E-8422-49BC-96EB-6B67A0095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76E4-4112-4688-895D-34D22292C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7F0-5A37-48B5-93D1-FEF50EB70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CDEA-6198-48D6-8BF9-AD65E6D30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FA52-E51B-4E8A-8709-0886109EA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924-BA6B-4130-ACF0-3C9F217E3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1C0-C001-43A6-BE61-878F5C599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A88F-4AE8-41DB-BE59-B84930B0F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F84-FEE1-4D86-9843-A2DA53A58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146-E60F-4098-9C46-F283551C4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A6F-AE2B-451D-AAF1-C970EA466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A24-A858-4346-BCEE-7F464B12B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5A5C-0E02-468E-86C4-4F7123EDAC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14E2-A1CB-4645-AB17-E98A768B12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6EE-1DF7-41F8-9B5A-2208BD0FD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B02-EE66-4F90-BDAA-497C106D4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7CF9-9208-4C5C-A1C1-C117C38F5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B513-D306-47F6-AB34-BA5400232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36B-C507-4DFF-938F-CA321F8E93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C92-C838-458A-B88B-E05F67210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7FC-BA58-45D8-A545-12BF06AA1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4E7-A69F-43BE-B37D-FA460D197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D491-B2ED-47EE-B92E-F1E914D6A7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32AA-DB24-4D97-9BB9-C284DC8063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6008-8282-42F0-87F5-C3578D12B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C868-2FF1-4E52-87C8-A2A337AEE8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765-3433-4244-AB9B-E8EC389E8E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4B4-1492-41FB-83E1-1138E101E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D43-472E-49A6-A3BA-DAED2B0F8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0C5-69AA-4D59-8EAD-CBA052D6D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5284-9D57-4E0C-AE60-3535E769A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552-639A-4576-89E0-4ED2DED11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FBFB-CFCD-40A1-A6FD-A275102C9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3A4-D812-4768-AA2E-DFEDDB54C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709640" y="1403280"/>
            <a:ext cx="5724720" cy="15620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4920" y="3382920"/>
            <a:ext cx="8891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28600" y="1042920"/>
            <a:ext cx="8686800" cy="4772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00040" y="809640"/>
            <a:ext cx="8143920" cy="5238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92360" y="54738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00120" y="1700280"/>
            <a:ext cx="7943760" cy="3457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85720" y="819000"/>
            <a:ext cx="7972560" cy="5220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003640" y="54594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695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2340000" y="4365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3492360" y="599292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52600" y="2604960"/>
            <a:ext cx="8038800" cy="16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708360" y="350028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524720" cy="33530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2843280" y="44226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164360" y="28098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6732720" y="44370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62000" y="804960"/>
            <a:ext cx="8820000" cy="5933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203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095720" y="603576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05520" y="59785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997600" y="59929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948360" y="60069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7840800" y="602136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19120" y="919080"/>
            <a:ext cx="8105760" cy="572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4788000" y="45226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6443640" y="537372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419640" y="612144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2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