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446D-822C-4698-B445-C889BD8D0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0214-510B-49CD-BC7D-D119B9163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8F46B5-1B1E-4FBD-9BD9-5F2F2EB6C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29C713-CDE7-45F7-A59D-29EE238C5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2C2330-28BA-4FF7-8499-00A7F6AF3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9AEB9-1E3C-4242-B112-DB9CF857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7F639D-0DD6-4895-8294-70750D473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53C127-26B7-4ADB-9FA5-850457FC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AE8081-CF50-4C27-8281-45C614A83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06BD3F-E97D-4F4A-A896-9183FF1F6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70D6EF-D9B7-4E21-A198-568FB13CD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8C308A-95AA-4C9F-BC97-60D9E5964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D33E-B559-4DD3-B25A-47C7290AE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B3BEB2-1B0D-4597-8B18-B455399FD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77B06D-F8B7-4E6F-A7E3-183AF3A6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BED4C4-C66E-4197-8AAA-9A11E76C4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EE6963-A02C-4EA7-9292-CB837FE6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F22B47-B0F8-44CD-81C1-977D868D1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E6D4DA-660C-4BDC-A9ED-4FB7FF1E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6245E-CA46-49E6-A97E-0A694049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15037E-43C8-45E1-AEFF-5F01C3BB0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1BDBB4-28E3-43B3-9BF6-72355058A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A57730-2FD9-4A1F-8324-82A72797D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D5C1-A8C6-4EE8-A078-513817A22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941360-299A-42D7-A3CA-388F6FCBB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FAE61-66B5-49A7-A735-2640E9782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B017C6-4F4E-4C36-877D-0C996A6F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D6B910-8019-4223-8D87-053DDAC18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5ACB41-6D6E-4FCE-A2B7-8F193F63C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43D702-E474-48A6-91E0-53F506734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1498D8-C15E-493E-B153-88D227D40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FE8893-23BF-4F92-913D-4DE44D5A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4BAF19-4A9B-46E5-8463-C71F393E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AE4234-FE0D-4D39-ACE5-4CEE6D9E3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BA6A-5C0D-448E-9752-C59C22116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4D4319-A7F7-4FA9-8918-A62E3A87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F396E-2BBA-4487-BC15-57809C9E3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F2118-0E8D-4868-8E86-ACDD5D6C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8633DA-473E-4FDA-9075-6CF4BFC20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C17405-8482-4D26-BF0D-952770316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B2A9C-01A5-4C97-BCD9-B172D4694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87EC8D-F2E5-4F24-9AF1-F00C0B841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41E9D2-CDCA-4C1F-941E-ED8DAEC46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430BDA-7BC4-463A-BD0B-0E638716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BAF08D-8DA2-43CD-9E60-E12EC734B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F62A0-9CCB-49D0-9B0D-11058E9C7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7DD770-6ECF-493F-8E14-103BB8D59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228E92-9A65-444D-B46F-CC74D1FFD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5CBFEF-F3F4-4D48-91B1-9FE3BC977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9B5AF-45A5-4503-8F35-2B27BE7F7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520854-18C2-4084-82B2-5A582860B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8BE009-37C6-44CC-967E-77F418B6C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CF03A-8191-432D-98DD-9DD72E8A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BDAB0-9F1C-457C-81D1-6F5EEEC8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A38D80-DA9A-4495-93D0-E273F03DA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FED6BC-E4C5-4A1D-A39D-B5BCACB28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18144-3F65-4621-A91F-ABF2DF1C1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A9B070-4D4B-4ED7-85CB-79EE0CDE5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7A1D63-DEF8-4F81-A384-10C58966A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E63C02-846D-45B4-9446-3332F1DF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28D76-C639-4352-8A02-F5823551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6DB3EE-0704-4824-B1C3-336F5FD82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4D1BFD-C9EF-43E4-A3B6-61FE2E46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0BFA20-E85A-44AF-B29B-CAEC37140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762847-8750-4E30-B6F1-03D27D7EC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EB2030-3E4B-497F-97A0-A888220E4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A8586-6367-4FA7-8DF3-F15C9762F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BE6A-A4D5-4A9F-A710-D8A7AC81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1773BF-49DC-4A56-B6E5-24FA464AD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9C39B8-9CA2-4AB3-AC68-B07F9CA74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3A8017-C625-41E5-888F-8CA91655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19D8A8-C686-48F9-9A6B-65108403C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48E426-6E93-4576-AEE0-3EC71468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5CADBC-92B8-4558-A42B-8C13EFEEB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D9876-2AF8-45F8-9A79-D15E96539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0C88E1-CA44-4A5F-BDD9-66246B790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1B4D5E-02DA-43EA-B1FC-17FBDEAB8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BD489E-13B3-4A19-9057-1637B811B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B0ED-D285-49D2-B1D2-4C15E80BB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68730A-4A4D-4766-BC68-E3E807D1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46F1F1-6D1F-4756-B53A-DD4247450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BD3ED9-5E69-42D1-A1C4-674CEF6B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293E7-90F7-4C14-91A8-208C757FE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87759E-B68D-4A0F-A2DA-CB855F9A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F9D73D-3BCC-4AE4-B456-34AE0CA5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55863-522C-4B6C-B0BE-07B1735DD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566B51-2762-4A84-9CE6-D7A7DB387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D7A8EA-36FF-412C-A7FB-1B72BDAE2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A1D5BD7-9BBF-4ED3-B4A0-E96759D6D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C77C-8DF9-435D-ABBD-20F5A36F3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81A533-DC6F-4974-BE71-D9B80CF25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1668B34-816F-4B0B-B6D9-864A29A3A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77603A-8591-4F1E-9A0F-FF897B929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DCD62-FCEC-4CDA-AD14-5E6C085E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A47846-4714-47E6-9CA6-DE1015D46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FE97C4-DB9E-45D1-AAFE-ABC847FD4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574537-CC6B-49DC-8FE6-0C382600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ACDA07-C769-42B6-B00D-C46E82BDC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653FD5-289A-4DD1-9ADF-A1C6C17B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409D693-CAA2-436F-9A8E-91FACABC5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5074F-7D42-4F23-99D6-5E9E019BD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FF27BD-866C-46ED-8BE8-82773157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B6962A-494D-483B-9405-197128CC1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9C63C9-CDB1-4145-AC62-0057DE062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FAA09C-5B86-4066-B1D0-2F3888BD2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656EA-0EA4-40F0-B0B0-978C97AA1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EFDEFE5-1BAE-44F2-8B65-3CF671F3D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58995E-6AAF-45BC-AD2F-CE19420C7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8A2872-C3E7-4EE5-95B6-75951BE1E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F96B03E-4FC9-4EB8-9B68-D8EEFB9BD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09CEE1-4CED-44A3-93CD-F7DCCBCD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F9F6-1A3E-40A8-BC8B-05969CA6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E9B4E-CA41-46B9-9E78-3BF97D2B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FA9A63-2F07-4EBB-A827-DB27C123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C44259-B569-44F1-ABD7-40509126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BEB016-89B7-4ADE-95F2-F388E54D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DCE8528-CE40-47EC-9163-5F79C44C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9B6617-22CB-4979-B294-66B466A94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8A8D3F-93A4-4940-A9ED-A91C22E3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E0955A2-52CB-49CF-9A2A-1FB8F4A8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FD2BEB-682A-45F1-B7CC-CE94185FB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A87B83-A34E-460A-A952-B97FAF38E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4F89D5-59E1-4DDC-97EB-ECE77EB7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BD5E6-EE12-41EC-867D-A19BE54A5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1373AC-90BC-4D9D-9E23-DB25D6B9F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77782-D14F-4CFE-A2B5-87EC61CA4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DB4DF8-757B-49DD-97DB-593D81525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10612D-A586-4B4D-B788-3D93E172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63CB36-D85A-46A2-A11A-BE8E76D35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F09C5-50A4-40F4-9814-53CB20AF4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C698D9-6176-4B23-B41E-727E16D5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668CF1-888C-43D4-8AA0-23EE7426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C43DB3-7624-4864-94C3-009C7A88B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D8053E-A6EC-4A99-B533-8D5B83EA7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CD3AF-D02E-4B08-B788-EBA222C5C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BADC3A-4CAB-485B-B47E-53DBBBA65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574612-0197-4F79-A898-7012DC69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FAF3D1-4A2E-4B2B-9A2D-6E843A4C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A58342-2277-4C76-BEF8-5833A5235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39532C-077A-415E-85A5-00B72DF7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07F3F-BA54-4CBB-B43A-3CB3C2D8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BA3A79-E657-488E-932A-7F40D716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548712-6FEA-4203-A9F4-5FB455B7E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9A47CCE-DD19-44E6-90CA-1F058AA58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B6EEA6-AE75-4C16-87D4-1591D15C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E61E4-8CDE-4D39-ADFA-54197588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CE59BA-544B-411D-BD25-E3C78845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5D1618-25C7-4E95-9520-52F275E9E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789CF3-3089-49E5-B4FE-FF075B7D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ABBFD6-45E3-4492-87AE-55072A514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44F9EE-733B-4EA9-BFEA-96A387F66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CE56B5-85AB-4019-9310-C6A3AF1F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AB2E4-EB0A-4AEA-B711-CA87A18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76C9FA-FDC6-4BFE-AA56-2A0C1A52C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6A67D5-1703-41BE-9C7F-DC80F5016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B0481A-7BBA-4D6F-B420-3E8C7E1BC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380FE-0AF5-4B86-AB84-CAA82F4FF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77F7BF-E9E0-4406-9F09-6128C9931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CB5643-8F9A-423C-AE52-C3A06E606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946201-8D91-42EB-95ED-E9C6F6FA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ABD2B1-1D9E-4A89-B832-EC2A4EE2E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748F67-411F-43C0-B240-C74CD9B4D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BE552E-7DB8-42C9-AE03-02A31DE30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E368FA-9808-4FC8-B64B-A6D87122C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3A3DF9-3672-48CB-B725-11490BA1F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5E2B30-17D2-4AE4-93DA-96B4FEBAD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5BB42B-D923-4870-81BB-CB14C8CBF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F7C537-425B-428A-9ACD-CB217E5D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61CD1D8-863B-4C80-8249-F36483FE9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CC291B-B404-4538-9014-A054C2B5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32A997-4CA3-4CF3-86F7-8A0F17034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AB361B-569E-4B2A-BD4C-49DDEF842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1351D-A56D-4F60-9B97-63A6FA19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C4ACE-15DF-4398-8EA8-D7859CD10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AC3E4-6E78-46F2-8B12-3C1F70D8B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8AAD-A353-420E-8439-09084C2DC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4A9A5-8422-4B47-9F24-B14A97C3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EB309-86F0-4BB4-BB9A-E4CF7D2E8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D558-C430-4E68-82E6-E5884E01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45F43-16F5-41A6-AF6A-215B9DD3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781A0F-1500-4AE1-83EF-7BDA632E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E6D13-F6E1-4D74-B2D1-5401F1EC0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A489A9-EA2B-4FDB-9DE7-8161A1F77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956F33-36E3-4885-A656-D21775CF7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081BCC-D0E4-4726-8068-539946F1D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BA2ED-56C7-4F2C-9708-6B4FF34E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D936-E3A2-4805-AF46-C22B8E301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A176B-207C-4D1D-996B-05FD0DD94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79028-5AF0-4DAE-BB01-DC9AAE8C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0D019B-251E-4335-A000-1E755DE6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BADBB-CC7F-4867-9688-F12B0ABC9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0C78FA-DB17-4843-AC85-60B44A30C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73ACD-8F51-4A15-8B13-EE33C755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A37E29-107B-4E05-A0A3-0AE2F4D8A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1FCF71-1AC4-4875-BBD1-0514AB38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1000ED-165A-45B5-997A-2CEC5BC16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68A10-7B94-4F54-9CB7-BB5F35BE2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881B-D6B3-45CA-AD8D-0F6830BA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68BF6-BAD6-4CE7-A0FF-56CBB5CB8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536F1-1203-446C-A6AA-357476C09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15284A-EFD8-42BD-8874-5F15DC69A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1E6DC-1BE3-4773-B935-C17E7406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AB74E-89E5-4335-BA63-4F7A6F09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E428E-96F3-4BCC-9832-6A8FC35D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2CBC0D-FDF9-4404-A857-2A24D9A7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27E5F-9126-4DAF-822D-A68A6913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94016-B985-495F-8173-CF74F02E6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1D69B-4AAF-4A7C-9B45-C9521B6FA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01BA-1828-4001-8678-33F6D0383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CF17E-091D-4283-9C78-A79F59436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3D9D1-D859-4407-A303-3D31AE089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FBF716-44D1-4AC0-A35E-107FD2B66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9C183-6CB4-4B35-8575-A52D555D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1F085C-1921-4737-8E64-85AA8080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FA614-1E11-487B-96ED-EC178CA4C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66F42-0859-4000-A59D-310F83D3C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E4087-D76E-4690-BD72-4C0AA96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BBBD4-6EFE-4F4B-B4DF-DD53AE396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F1D104-940F-439C-88B0-A25C11D9E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AC6-840B-429E-94D0-E47B041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FFA76-39CF-4C6C-8CFF-7DE897C0E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3ABB6-8622-4D18-847C-9B2A537C6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14166D-602F-4429-8183-3C8F54A5B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74ABC-1AEE-4F15-8401-7262B453C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5C764-FA47-4D9C-82B7-56A2D15E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E69C0-C356-4DBE-BE43-AD761C1B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B400AE-CF9D-41FB-A97A-3A0D90505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F0202-CA98-47F8-85E0-416470F6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EFE80-B6F1-411D-A6D1-7E6536FB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D699C0-DE77-4980-AEE2-37563C46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8FD-5715-433E-B2B4-48A802608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D9D30-DD65-4829-AAD6-0EDE90CA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55EEC-B730-4E80-BE12-1393C3DF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D1795F-B472-459D-8145-89CD67A6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019BC-F358-492F-9B57-FDEACB72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124AD2-FC28-45FA-A167-46D2BDC4B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CDD6F4-B828-443C-81B8-379EF5652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060B8-C177-401C-A91B-B4BB4E65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602458-31A1-4DFA-A773-4B236F7C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35AA0-13EC-4E3F-AAE6-C82DC057D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585610-FAF8-4EE8-861D-1B356C290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A3A5-2D95-4E2A-A5E9-9769F8E1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C57DCC-E072-4EE8-8243-F1EF4736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AED6F7-7B86-4715-B2A2-36AB7E9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DE65DC-1A1F-4DE2-8D37-A9CE9FB5B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B6DBA4-D7AD-4D75-85C8-C990E8F2B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7C848-8B8E-443B-946D-695760A6B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751411-E213-47D2-8529-9C53DF2D9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F66886-4CF1-41E9-80B5-225F612C8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4D15C1-A5C7-4B9F-BA53-FAE05E89C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DE804E-221B-4BA2-B8F4-5CC8FB77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7F4584-D182-48DB-BB8F-9F35E415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CEE-9522-4AC8-AEF9-24523942E7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0526A-3C45-4792-8231-F72E2C4547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E1579-9A93-42BE-B8B9-81B8E0C173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F2D0-116D-4142-AA89-E983B3753A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9661-F498-41B1-9B8F-4E98DC2142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D92A2-EB82-4827-825A-87F08D557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E22E-9EF6-4691-99B0-F8FCADAEF5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C47FB-ACBE-46FA-ADA6-32ECE1B11A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F6AFA-E7A1-4751-9F12-4FAC69C4FE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333B-B33C-458D-82BD-E8C3E7B4D8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89461-F27C-44DA-B378-23F4F10188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9454-B516-4AEA-B083-80915215185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9AE2-5BFC-4BEC-B254-6EEBF8F3A3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A30D7-A42D-4EE8-B153-4C0131E89B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6833D-E871-48AD-B946-BE7D4A2DF1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56F7C-C84E-4D3B-B6BF-405A36AA23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8E4C9-A428-410A-A667-E87C0F11F6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A6B3-FEA4-4D68-A4FA-EB15B082D1B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3B6E-65C0-442C-ADA2-06A361DE5F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349E4-B67F-4E47-AB91-46B8CB15D4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C8A7-9962-43F0-AD41-E2E0DF59AB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FECE2-3A93-4DCA-B881-EED3CD5666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42109-3BAA-4919-9237-63EDB7E4C43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1DEC9-D421-4B89-B6EE-C681704688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74080-0E5B-4E60-9C55-A5EACCD686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E87C-DA95-4E46-80AF-4CB6AE8F09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C5658-FF46-49CE-A558-95468B67E4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75FC-8C94-4FE4-9EA3-642C24F7894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81A4-8063-4320-9922-06A0A9CA85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866C-6009-4BC0-82E7-7B0A20FD05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F464F-E6E4-4624-825B-DE3B72D759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EEE67-655E-4337-90DA-DF2025DC92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5B4EB-2438-4BC3-BA7C-BDA0192B20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6025C-8E7B-485A-9086-A2A6D65082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0333-52E1-4891-A3FD-885F303C3F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2ECC0-24B1-4E10-9DF8-D8A9208F74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DEE16-09F5-4982-AB5C-DB4CBFC4E0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E0867-9802-4F6B-8BE8-D0E8A75928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C7F5D-71E8-4850-881A-8A8CE89450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92871-DAD9-4267-B373-3B40FB6498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3480" y="2324160"/>
            <a:ext cx="907704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69633" descr=""/>
          <p:cNvPicPr/>
          <p:nvPr/>
        </p:nvPicPr>
        <p:blipFill>
          <a:blip r:embed="rId1"/>
          <a:stretch/>
        </p:blipFill>
        <p:spPr>
          <a:xfrm>
            <a:off x="179280" y="4221000"/>
            <a:ext cx="8715600" cy="1200240"/>
          </a:xfrm>
          <a:prstGeom prst="rect">
            <a:avLst/>
          </a:prstGeom>
          <a:ln w="0">
            <a:noFill/>
          </a:ln>
        </p:spPr>
      </p:pic>
      <p:pic>
        <p:nvPicPr>
          <p:cNvPr id="967" name="图片 69634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7201080" cy="20098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4716360" y="1989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064280" y="1989000"/>
            <a:ext cx="82080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4702320" y="2608200"/>
            <a:ext cx="59040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6"/>
          <a:stretch/>
        </p:blipFill>
        <p:spPr>
          <a:xfrm>
            <a:off x="7394400" y="2637000"/>
            <a:ext cx="993960" cy="44748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7"/>
          <a:stretch/>
        </p:blipFill>
        <p:spPr>
          <a:xfrm>
            <a:off x="2268360" y="4221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8"/>
          <a:stretch/>
        </p:blipFill>
        <p:spPr>
          <a:xfrm>
            <a:off x="4802040" y="4221000"/>
            <a:ext cx="719280" cy="44784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9"/>
          <a:stretch/>
        </p:blipFill>
        <p:spPr>
          <a:xfrm>
            <a:off x="7913520" y="4221000"/>
            <a:ext cx="1051200" cy="4478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10"/>
          <a:stretch/>
        </p:blipFill>
        <p:spPr>
          <a:xfrm>
            <a:off x="2109960" y="4897440"/>
            <a:ext cx="934920" cy="44784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11"/>
          <a:stretch/>
        </p:blipFill>
        <p:spPr>
          <a:xfrm>
            <a:off x="4643280" y="4911840"/>
            <a:ext cx="719280" cy="44748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12"/>
          <a:stretch/>
        </p:blipFill>
        <p:spPr>
          <a:xfrm>
            <a:off x="7740720" y="4911840"/>
            <a:ext cx="9349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1" dur="10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6" dur="10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1" dur="10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71440" y="554040"/>
            <a:ext cx="8601120" cy="6114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5219640" y="15127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7020000" y="1512720"/>
            <a:ext cx="1439640" cy="44784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7164360" y="230508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219640" y="311292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6948360" y="3083040"/>
            <a:ext cx="1584360" cy="44748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5292720" y="4653000"/>
            <a:ext cx="3600360" cy="44748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1403280" y="5416560"/>
            <a:ext cx="144000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5364000" y="5445000"/>
            <a:ext cx="360072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258920" y="6194520"/>
            <a:ext cx="3529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9410" descr=""/>
          <p:cNvPicPr/>
          <p:nvPr/>
        </p:nvPicPr>
        <p:blipFill>
          <a:blip r:embed="rId1"/>
          <a:stretch/>
        </p:blipFill>
        <p:spPr>
          <a:xfrm>
            <a:off x="571680" y="1162080"/>
            <a:ext cx="8001000" cy="453384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443640" y="12254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3276720" y="20034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236000" y="20034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4067280" y="279576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3635280" y="358776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2050920" y="5084640"/>
            <a:ext cx="648000" cy="44784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8"/>
          <a:stretch/>
        </p:blipFill>
        <p:spPr>
          <a:xfrm>
            <a:off x="3995640" y="5099040"/>
            <a:ext cx="64764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8373" descr=""/>
          <p:cNvPicPr/>
          <p:nvPr/>
        </p:nvPicPr>
        <p:blipFill>
          <a:blip r:embed="rId1"/>
          <a:stretch/>
        </p:blipFill>
        <p:spPr>
          <a:xfrm>
            <a:off x="314280" y="847800"/>
            <a:ext cx="8515440" cy="51624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"/>
          <a:stretch/>
        </p:blipFill>
        <p:spPr>
          <a:xfrm>
            <a:off x="1187280" y="42782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3"/>
          <a:stretch/>
        </p:blipFill>
        <p:spPr>
          <a:xfrm>
            <a:off x="1187280" y="504180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4"/>
          <a:stretch/>
        </p:blipFill>
        <p:spPr>
          <a:xfrm>
            <a:off x="5364000" y="42782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5"/>
          <a:stretch/>
        </p:blipFill>
        <p:spPr>
          <a:xfrm>
            <a:off x="5364000" y="504180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000"/>
                            </p:stCondLst>
                            <p:childTnLst>
                              <p:par>
                                <p:cTn id="9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7352" descr=""/>
          <p:cNvPicPr/>
          <p:nvPr/>
        </p:nvPicPr>
        <p:blipFill>
          <a:blip r:embed="rId1"/>
          <a:stretch/>
        </p:blipFill>
        <p:spPr>
          <a:xfrm>
            <a:off x="533520" y="2071800"/>
            <a:ext cx="8076960" cy="2714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71640" y="299736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14400" y="3529080"/>
            <a:ext cx="316872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971640" y="4076640"/>
            <a:ext cx="3168720" cy="44784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5"/>
          <a:stretch/>
        </p:blipFill>
        <p:spPr>
          <a:xfrm>
            <a:off x="5076720" y="2895480"/>
            <a:ext cx="3168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6324" descr=""/>
          <p:cNvPicPr/>
          <p:nvPr/>
        </p:nvPicPr>
        <p:blipFill>
          <a:blip r:embed="rId1"/>
          <a:stretch/>
        </p:blipFill>
        <p:spPr>
          <a:xfrm>
            <a:off x="304920" y="1285920"/>
            <a:ext cx="8534160" cy="42861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7667640" y="2060640"/>
            <a:ext cx="64764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7667640" y="269388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7667640" y="386064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5"/>
          <a:stretch/>
        </p:blipFill>
        <p:spPr>
          <a:xfrm>
            <a:off x="7667640" y="4437000"/>
            <a:ext cx="647640" cy="44784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6"/>
          <a:stretch/>
        </p:blipFill>
        <p:spPr>
          <a:xfrm>
            <a:off x="7669080" y="5070600"/>
            <a:ext cx="64800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55300" descr=""/>
          <p:cNvPicPr/>
          <p:nvPr/>
        </p:nvPicPr>
        <p:blipFill>
          <a:blip r:embed="rId1"/>
          <a:stretch/>
        </p:blipFill>
        <p:spPr>
          <a:xfrm>
            <a:off x="271440" y="914400"/>
            <a:ext cx="8601120" cy="50292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2"/>
          <a:stretch/>
        </p:blipFill>
        <p:spPr>
          <a:xfrm>
            <a:off x="3233880" y="3213000"/>
            <a:ext cx="431640" cy="3351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3"/>
          <a:stretch/>
        </p:blipFill>
        <p:spPr>
          <a:xfrm>
            <a:off x="5883120" y="3213000"/>
            <a:ext cx="432000" cy="3351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4"/>
          <a:stretch/>
        </p:blipFill>
        <p:spPr>
          <a:xfrm>
            <a:off x="3276720" y="5416560"/>
            <a:ext cx="431640" cy="33480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5"/>
          <a:stretch/>
        </p:blipFill>
        <p:spPr>
          <a:xfrm>
            <a:off x="6056280" y="5430960"/>
            <a:ext cx="432000" cy="33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图片 54276" descr=""/>
          <p:cNvPicPr/>
          <p:nvPr/>
        </p:nvPicPr>
        <p:blipFill>
          <a:blip r:embed="rId1"/>
          <a:stretch/>
        </p:blipFill>
        <p:spPr>
          <a:xfrm>
            <a:off x="738360" y="2381400"/>
            <a:ext cx="7667280" cy="209520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2"/>
          <a:stretch/>
        </p:blipFill>
        <p:spPr>
          <a:xfrm>
            <a:off x="3132000" y="3933720"/>
            <a:ext cx="503280" cy="3906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3"/>
          <a:stretch/>
        </p:blipFill>
        <p:spPr>
          <a:xfrm>
            <a:off x="5781600" y="3933720"/>
            <a:ext cx="50328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262080" y="787320"/>
            <a:ext cx="8619840" cy="58676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900000" y="6221520"/>
            <a:ext cx="453564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7T08:09:29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