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3D32-058B-4D27-9E26-3B0F8DBB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75BB-CA7C-495B-8893-D3F0EB46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8A295-E4F8-4D54-897E-26DD3137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3FD23-94AB-47CD-A5AA-0890C37E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DCFFC8-E228-4C52-81D3-4B9063C2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7ECD8-058A-45CA-BF2A-113C2E20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60E63-6F6F-4C65-AA53-EE99AAC3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AF591-BFD3-446B-AA17-C5367537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7BF47-4A5B-4AB0-BC30-2C3CAF12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C7951-3139-433F-B040-4ED0401D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D1F55-D4BB-4001-A08D-5E322AA9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DD45C-735C-4156-9841-D98096C2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7AE9-C22F-4296-893F-D5280C6E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00987-D38F-4DAC-8FA4-AE19F598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1DC22-EFDB-4FF8-856A-8FD8E69C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09CDD-1A23-4D40-8061-4752BF2F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CA8F4-D33E-462A-B183-2B16B758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7BE1C-7648-44E3-B10D-59FD1CF7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B2329-39F3-4B89-A5D3-BBC6F31A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843BD-4C29-4099-87D6-C00D7D50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8D3F7-03B8-426C-AB45-9643554A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9A493-E8CE-48F2-AAF3-FC7144B0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17B58-9D5E-4862-AD91-FCB74E1E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31EE-0CC0-4807-BFF1-1BCB567C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9ABA5-B38E-464B-88EE-63CC2128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DCDB2-6954-4E53-AC96-E2C65F05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0DC29-E48A-4838-A57E-CE9EE8DC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FB28F-7D38-435C-89EB-6FFDE2F7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EB450-E9A7-4361-9BEB-4AF1AF0D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AD487-D8C9-461B-87D7-D18D2F3D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9F25B-B086-49A9-907C-F835A076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B3F85-2DD7-4915-857F-495636F3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BB301-1810-40D8-88DE-0A2A7CEF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C2A04-1219-4F87-B828-64193575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4149-D08C-4249-8369-A0A6D4DD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44905-D460-4233-B845-98366E98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74587-30D9-42BF-B37E-E430D21B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CF615-1388-41AA-A314-0B7CF8E6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737F9-4782-4687-94B2-75D111DA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DB12F-005D-4952-AC86-975FF542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BB535-5CC4-4A22-87C4-EA476319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6228F-752A-4E56-A62F-93AEB9AC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C6E05-94DD-43C0-AF3E-04745DC3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85AF9-0159-44E1-AF35-F76663A0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AE9C8-66C0-4C01-AED0-135C4F7F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6167-8089-4715-86F4-E37B734F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B6B305-E5F0-4C36-958A-0356B46A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E2725-363C-4758-A3C2-01057492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2A3CB-B211-4BBB-9666-AE6966D6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B8391-5BE5-44D5-B8DB-F254A7A9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92D50-5648-40E2-9FE6-353D59B6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93AA05-9EE0-4463-AA9D-82C080B4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4DEFC-C981-40E4-AA71-DF0DB73E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C8AB6E-1F0D-4FE8-BFCF-CB6DC42F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D5B28-49C4-4E32-ABFB-D2787CD8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C8E96-B893-4979-9377-97CE1222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1684-B793-4501-863F-3C3068B2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0F1A1F-62AE-457B-946B-E6DC1A6E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9ADE3F-AB64-41B3-96C0-C6B07C94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231ABF-1094-47A0-A190-B669DBB8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DFFDF5-9641-4FB8-BD92-8423F621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68F492-C532-4120-BE24-B52B7A95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7F67F-76C1-4619-804A-2ADA027A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597631-97A7-4BE2-AC71-12A54497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E62BFB-10CD-48AD-A66A-811984BF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533AE7-41C5-4AA6-A222-D97490A8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F7C0A6-BC3C-4680-AE91-BED4DF0A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1379-5F22-4CAC-A78F-C81CC80E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641DF6-4A7D-4CD2-8823-6AC975E9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BCAD56-780B-45B5-A3F4-081ABA8C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173328-4A11-469D-AE23-B4B40C0B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C15708-9C53-4CE9-A004-88A3BF56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B1C0F1-1511-436D-BABA-24B0E4AF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E326E-6BBD-4405-ABCD-183919D7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1EA472-D032-4604-8AAD-D21F03B2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CCB466-7D24-4FAB-9908-D845EC73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D31C2F-B38F-45D3-AE25-CD592315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EB0795-9AEB-40A0-B5FC-E3EFA549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7C7D-5117-4B43-8D88-3979CB19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303F66-8DB2-4447-A91C-8F8E0A41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94DDAA-45CA-4132-89DD-5085E469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2ED745-3C90-4F8C-8926-B9D1DF4C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291B88-097A-43E9-AFA8-FFDD2E0F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BB710B-A4A8-41FA-8FD0-8D3C7480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DCEC9D-80CB-4B39-AA97-BC0F8E1D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B40703-F36E-4FD3-9C38-25E4D8E2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D50365-988E-44CA-B8A1-E567CFDC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582F1C-C974-48F9-B32E-0ADDBE85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587F8A-8DC2-4F68-A0E2-A36C726E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57AA-9916-4C41-B13F-5E824420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7E0D28-F2C8-482C-B543-F20BA50F9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F553E1-A863-45DC-9E4E-8862BE9F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F115A0-435D-4069-B26E-AA9E21C5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285CBB-35B5-4AFF-BFAC-3F4A38D4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52CE93-5427-4E66-868B-AA4BC2C2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2B07CC-DC9B-4653-BCE7-802715AA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6D1C18-B2DB-4982-A0DC-5A6C5DA7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2D9C3F-8819-457F-A473-845CAB69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4DE13E-2E2B-41E5-BEAB-C9B8CA12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08927-F025-423F-AFEC-23F9FA72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55E9-6B7D-4DFF-8FFF-8B56B901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1B78E7-62AD-4F36-8FB8-F166E698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E99567-1EEE-48A0-ADE6-2EF6A533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CA21C5-6E97-4FC1-B13D-8D6BFA3C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BBA989-48E0-4A7E-994C-F90164DB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854BDB-4DC0-474C-8A72-D0339F69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BBFEE4-7DAE-4EFE-8953-527C0886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7DE6E8-2831-4175-AE14-55ABFF89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77FA5E-EAF9-466D-8130-D5CBFBA6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48D21B-2F02-4F1D-922E-7AA5DD72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296AD2-512A-47F2-ACE9-DA6CFE45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6D5-2973-41AC-AEB3-F9B14BA5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6464-C001-4F35-8B82-C572FA47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D1045A-1104-4320-B259-F385E0A3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5EFE7C-2CF4-4F3B-87B3-A9F5D50C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16BA7B-69D6-468F-8A83-6075B42A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F0DF53-BE88-4CAE-A6E0-E0A26573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44766C-C6EC-42A0-A9C5-2ED3A04F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620B3D-4AC6-47E6-B21B-BEB7AB69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C1EF34-128F-4245-B75A-77AF2179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F580AA-8638-45FC-8582-CFCBBB26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9688C3-9B38-420D-8188-C95D3A26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1A337B-EADC-456F-BD65-693AAC69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97A8-BFE5-4D5B-A56F-CBEEB5A9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E91F28-2B5A-4A36-81B1-502BFDE6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12CFB9-502F-4EFE-951F-DF675174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B14BB4-B637-4905-AEAE-893D797F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8B8C42-5268-4681-A1A7-3F856201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F34673-3FA8-4FCF-B8D4-ED651395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2E5BD2-3FCF-4D63-91B5-C6EF8B0F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AE56F4-9E04-4A60-969C-C5C5BFEA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0FB2BE-5A35-4EB0-97E1-E8EE60AB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EC6A02-BA35-4920-8308-F52D4A4D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6D98AD-5B16-46C4-9FBC-B598E8A5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2EE5-A884-42E1-8C27-F51BA03B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35198A-3FA3-4F47-B4EB-215CE72D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2B424F-2CBB-4FA2-8F9D-73E7ABB4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FD5311-1C72-49B7-A4D3-37AD883C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61AEAE-1E74-455B-9E12-9943C8D0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65CF32-262F-4EC8-A323-94BB8E56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BFF7BB-9757-40E7-B662-732E8215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BEC390-D9DF-43A6-ADF8-DA2FDB8C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AFEED5-1000-44D5-89AC-7B7879EC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1214C9-972C-470A-8455-C133ED1D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702D70-2FF1-496A-B345-CE6A6DA51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E314-84D8-4139-83F4-89C4985F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1A7B61-4EB6-484C-9CE5-C2C104D8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A6CDD5-C146-4465-94E0-95F9C4E0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BBE383-2B21-4143-B1CC-EEBC484C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D62393-2EAB-4527-9AEE-CBE35682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2A3366-F54D-4689-A383-05E37606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540FD7-AE4F-493C-91CE-38AC6541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D60F91-E42D-4DD8-B16B-95173BDD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FA616B-F2F1-4520-932A-6409FC8D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F52A6B-9C45-4943-BC4E-BE2774C1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000845-1BAB-4449-ACC1-8A5E7028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F629-E07C-46EC-BA61-E5C7FBA6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DAED83-2453-4552-B4D1-2989B90D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F7872A-966B-4F52-8947-0734B466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D11387-A18A-4536-AA4C-7A097885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E731C1-CD74-4A3A-B569-D6C7B55A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57A80C-B855-4144-A430-A66ACF42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6AEEA4-E9ED-4558-B05B-1DDB3600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D1B0BC-A0B4-42B1-B915-88B99ABD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7690AA-5BCF-40E3-AB66-884D9E46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DCF322-19F6-441A-AD3B-65B83755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8AA472-1E8E-4A80-865F-49910025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27CC4-EE86-46BD-B3FA-01BE2C4F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1E7262-BCAD-42F6-BF7B-A754AEBE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1A677D-6D04-4F99-A238-F50A779A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B22074-10DF-4CD2-B931-42E83FD0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B275E-DAC1-41A0-BE10-946C7CF6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1419F-AE79-4153-AC18-D89CD616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62462-4C28-4CE7-A972-8EE36B51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2D7F1-9C59-40C1-BB9D-65F014F0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50B1-7EEE-46FF-9DA2-BA3A468B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E65E9-41A0-41AB-9449-E168E743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F6A6D-2519-433E-BB84-07DD5204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98AF9-9149-4153-B80E-AFAFF71F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EA2A4-9435-46FF-8755-BDB3D810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FB8C2-5227-498B-B576-27168615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920C2-BD49-404A-A846-45B3CCF2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014D0-2466-42A4-8E8D-9CA504CF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82962-786D-46FD-BB6A-40ED7F2A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B9B48-B71C-4173-97FB-F110CE95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9C5FF-2474-4E6B-8B55-B2073A18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3D90-F2B2-4CBA-A058-AFFC8578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90ACB-6FDE-46B6-A874-540E1233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3B7E0-1311-4A97-9EA8-3C0AD662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7C706-9A90-45F4-8FB2-AFF4E264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7C91E-2E22-455F-9C2C-6B2D973B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774CB-AC65-451A-8C2E-4F906276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AD1AF-DEB6-4EA3-952E-3A9A3D6E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550E1-7619-4F82-BDA5-C5FC9545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949AE-5537-4E62-A187-1E5F64ED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0DBBC-B008-4667-8228-7835EA62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638A5-A22F-4C48-BA71-AF138306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B9C-9F9B-4F88-B1E7-6FF63EAB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C9F82-2888-4F54-A500-6E17FD7C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EFFC5-1624-4AF5-B451-A8B6FE4F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3304E-9FA4-494D-B709-2865C9B7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FFFF1-8C55-43E7-821F-6BEF8249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61923-3824-41A0-B42B-4B9634CA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2276C-74D5-4868-8BDA-5230F9EF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CDAF8-4EAA-42F5-8FBE-8BD3A407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BCCB9-C689-4322-A909-1599C3D5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E6640-2831-475B-AD40-C877F227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FF2AC-C351-4AF2-8B9B-E3883029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753A-CC23-46BB-A0DA-2B4352D7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4956E-D0F5-4889-A95B-B7EED818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66CF9-5407-4B2D-A567-AB992DED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A2506-A84D-4F85-A57C-6A3C4FA3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9D58B-B9E0-4674-92B8-48EEFB6A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EBCF4-79B7-4449-A99C-0DD8EE58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9EEDC-DD99-4BB9-9267-B48EA589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E479F-5945-482C-879B-7933FF96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83702-8D6C-4D0C-819D-BA16723D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BCA04-1751-4AE3-8728-183C93CF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E36A4-2CD5-435D-8DD3-7861E129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603-0EE5-4CEB-B710-49ED1DC4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96DEE-A241-430D-827C-8FA65229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9FB7F-86C2-47F5-A6AA-370D23781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BAA6F-C071-499F-9CC9-9E874C36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087FA-8BFC-4588-8D6A-6A713849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8EC29-8DD7-40A3-BE3F-29751970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6799D-1EA2-4535-A449-A2921DD9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9E03D-7F17-420F-8DF4-9A24411E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3C56C-CC33-4F72-B05C-BC10E518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19256-911C-483D-8DA1-0A336C69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939C4-CD58-4B08-B88E-527841CD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F735-2067-4EA7-85EE-C8047109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51B30-8653-45AD-9D40-31FC8139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6E302-AC4D-4863-BCAB-3549060A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899EC-5A22-43DF-94F1-1085975E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A00C9-8AC8-4AA8-880B-8F138CAB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1FC01-9408-47E6-9A17-0D1CEBB5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15A97-9363-44E3-B72A-6A3EF555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981CA-C5EE-4D77-81A2-DA000CE9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DBF10-09B2-4C54-9BD3-831E53E7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3F3C6-FC27-4572-8532-869A5CB1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AE7BF-49D4-4AF8-949C-7E0D1959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ED72-D226-421D-9E3C-7824C730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55A87-B7E5-49A2-AE05-1F113CC3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BDC97-D680-4E57-B121-88FD859A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4EE41-D6BB-4F2A-9EFB-B3334FB9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0D640-72AD-4D0C-867C-B011EAB2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3C218-F748-4A5C-B768-15C638B5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B5472-0CCE-4D66-A392-2A7502B2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EFDCA-DF88-42FA-845F-F1FE5B16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3B955-8799-4971-81D0-D3EA4335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ABE6F-F877-4078-9066-33D3CD5E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DC49F-1EDD-47E1-A9B3-B4648AD9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EEB8-696F-44A2-BE2C-3D3F5EABD5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9C17-E9BC-48D1-A764-4142400285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2088-DC4C-4AC0-BFB8-40B942800D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4120-A76F-4FA1-83C6-F97EDCDC6E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FFD8-366C-4270-92EC-BC87756D70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44A9-C956-4D76-A5B6-35924CDAD7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795D-D4F0-4C1E-BAC4-5D2246F443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C46D-4DBE-4EF2-802C-D75F7BB27B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965C-D8D4-41F1-BB81-F570B99BD1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A2CA-B2BF-4A66-A4C2-29881023ED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D8EC-E72E-4B29-8159-35B8C6A9E2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E23E-A4B2-4E67-8D0D-B917AAE872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B6B9-3340-4C42-A0FE-D059D126E4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6E11-81BD-48E5-A76E-0867647639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762F-1F23-47B3-A6B9-BCEB418A93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1F82-3B5E-4F3E-A6CF-A0FC7F2974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89FF-50F4-4873-924F-AA639D5360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F94A-55A5-43F2-A916-7EB3B53121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F916-3D2F-46B6-AEFD-2E4A43F1B1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FC23-2A78-4E9A-ACC1-0059DC687D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B6DA-B658-482C-A178-30A855A3D0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7376-4B0E-485C-8AA8-3E4EFD0A05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E205-BBC8-41E9-8C2C-696092AABF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FFD0-0252-4D92-A4E1-645D2C6F98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CD73-C209-4749-991F-F092993A04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BEC7-6F30-466B-AFA2-B40847DB1D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75B1-686D-4A98-9755-68375E3DD3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BA20-1F47-4DC8-97F9-6B7C6F921C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05DE-9F6F-4FEB-98EE-CCD1DA069E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48F5-BF42-412A-B079-9489057D76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2592-5664-40B5-9E13-A9C979A763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F434-22F6-4080-8E5C-FE7B917E3D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ABAD-0CFD-464C-9FFF-7F44BA46F1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DAE9-B6F9-4A0B-A065-B5587B5BFF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5120-200C-40B9-9E9B-7095639372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21F5-F362-4D59-9041-6C9A688D65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060F-88DF-4A1C-92BC-A7093E2093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8B09-4450-4B60-9044-C70B596F79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DFB5-DCDD-4314-9E1F-B61D66FF0D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138B-55AA-4149-B6F9-A1C9B2A529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143160" y="3052800"/>
            <a:ext cx="28576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52520" y="824040"/>
            <a:ext cx="8238960" cy="52099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916360" y="4149720"/>
            <a:ext cx="503280" cy="8636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556000" y="5300640"/>
            <a:ext cx="129528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067280" y="3357720"/>
            <a:ext cx="129528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3995640" y="5300640"/>
            <a:ext cx="129564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580000" y="3357720"/>
            <a:ext cx="129564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5724360" y="4121280"/>
            <a:ext cx="935280" cy="8636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7020000" y="3357720"/>
            <a:ext cx="129528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7093080" y="5257800"/>
            <a:ext cx="1295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328680" y="1000080"/>
            <a:ext cx="8486640" cy="485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590544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590544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900000" y="4581360"/>
            <a:ext cx="590544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900000" y="5286240"/>
            <a:ext cx="633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8373" descr=""/>
          <p:cNvPicPr/>
          <p:nvPr/>
        </p:nvPicPr>
        <p:blipFill>
          <a:blip r:embed="rId1"/>
          <a:stretch/>
        </p:blipFill>
        <p:spPr>
          <a:xfrm>
            <a:off x="314280" y="1300320"/>
            <a:ext cx="8515440" cy="42573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1042920" y="2981160"/>
            <a:ext cx="489744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971640" y="3645000"/>
            <a:ext cx="4897440" cy="44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1042920" y="4292640"/>
            <a:ext cx="489744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5"/>
          <a:stretch/>
        </p:blipFill>
        <p:spPr>
          <a:xfrm>
            <a:off x="971640" y="5013360"/>
            <a:ext cx="4897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7352" descr=""/>
          <p:cNvPicPr/>
          <p:nvPr/>
        </p:nvPicPr>
        <p:blipFill>
          <a:blip r:embed="rId1"/>
          <a:stretch/>
        </p:blipFill>
        <p:spPr>
          <a:xfrm>
            <a:off x="314280" y="961920"/>
            <a:ext cx="8515440" cy="49341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042920" y="3241800"/>
            <a:ext cx="655344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971640" y="3933720"/>
            <a:ext cx="360036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900000" y="4653000"/>
            <a:ext cx="3600720" cy="447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826920" y="5300640"/>
            <a:ext cx="6553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6324" descr=""/>
          <p:cNvPicPr/>
          <p:nvPr/>
        </p:nvPicPr>
        <p:blipFill>
          <a:blip r:embed="rId1"/>
          <a:stretch/>
        </p:blipFill>
        <p:spPr>
          <a:xfrm>
            <a:off x="561960" y="695160"/>
            <a:ext cx="8020080" cy="54676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1332000" y="3716280"/>
            <a:ext cx="619272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1258920" y="4365720"/>
            <a:ext cx="619272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1116000" y="5013360"/>
            <a:ext cx="619272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1116000" y="5675400"/>
            <a:ext cx="619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5300" descr=""/>
          <p:cNvPicPr/>
          <p:nvPr/>
        </p:nvPicPr>
        <p:blipFill>
          <a:blip r:embed="rId1"/>
          <a:stretch/>
        </p:blipFill>
        <p:spPr>
          <a:xfrm>
            <a:off x="309600" y="785880"/>
            <a:ext cx="8524800" cy="52862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900000" y="2967120"/>
            <a:ext cx="554364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554364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900000" y="4292640"/>
            <a:ext cx="5543640" cy="4474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755640" y="5013360"/>
            <a:ext cx="5543640" cy="4474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6"/>
          <a:stretch/>
        </p:blipFill>
        <p:spPr>
          <a:xfrm>
            <a:off x="755640" y="5646600"/>
            <a:ext cx="6553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4276" descr=""/>
          <p:cNvPicPr/>
          <p:nvPr/>
        </p:nvPicPr>
        <p:blipFill>
          <a:blip r:embed="rId1"/>
          <a:stretch/>
        </p:blipFill>
        <p:spPr>
          <a:xfrm>
            <a:off x="299880" y="676440"/>
            <a:ext cx="8544240" cy="55051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1116000" y="2924280"/>
            <a:ext cx="6192720" cy="447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971640" y="3573360"/>
            <a:ext cx="619272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971640" y="4221000"/>
            <a:ext cx="619272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1042920" y="4898880"/>
            <a:ext cx="6193080" cy="4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900000" y="5560920"/>
            <a:ext cx="6193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52231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7960" cy="196236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52232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800840" cy="19526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4067280" y="162864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4140360" y="2421000"/>
            <a:ext cx="93636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7596360" y="162864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7639200" y="2463840"/>
            <a:ext cx="93636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2239920" y="4005360"/>
            <a:ext cx="57636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2340000" y="4797360"/>
            <a:ext cx="57636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5003640" y="4005360"/>
            <a:ext cx="576360" cy="4474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4716360" y="4797360"/>
            <a:ext cx="576360" cy="4478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8028000" y="4005360"/>
            <a:ext cx="576360" cy="44748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7524720" y="4811760"/>
            <a:ext cx="57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44:5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