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488-12B1-4A63-B767-DC5C2208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B8A-ABAF-4C79-81CF-DF378AFA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8164C-931A-45C5-8431-03476205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43D2A-A3A9-4E27-8188-CD0A9175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D9C69-ECAC-4F27-B2D2-260719D8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CD040-5764-4015-B70C-8E9BEB63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007C2-3C92-4B8A-94CF-08A63124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486ED-5688-4883-BFB3-D6B6F762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F65D3-E3FF-4E40-9259-DCF2E773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67FFA-11E5-4127-BF14-1A2C8BF4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E09C4-DFF3-42CB-BE9D-445F39D1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1406A-F75A-4FE5-88EB-35FF6A9A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043-7EAB-4018-A39F-9A58B673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874EA-97D9-49CE-BBB0-41BB45F2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31A39-FEC7-4296-B3C7-FC4ACEE1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D7ACF-14D3-4B79-B8C7-B1E4B3CE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AAE96-3DF2-4AA9-B64B-25AFAD8B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11036-A051-483C-B743-259B9E78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542D1-F3C6-4431-B2E1-85AEAF50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729AF-10C7-41CC-B8A3-C4F35A54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2ADDF-925E-4987-9E77-18838409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B2838-31B9-456B-945E-A1F8121B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3F83B-A9C8-4355-97B4-F4ECDCE5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200-B0A4-4050-81D9-9857457C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C6420-8AF6-40FB-BFC3-75ED9D0D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DCC80-2392-4DC2-8BFF-E04F02AB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9B08E-E606-4E67-BFC9-FD0CCEE1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57040-D223-467A-B0DD-B19AC783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69FD1-4BE6-4253-9D26-402A79DD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DF493-6DFA-4E46-8F25-C70E3598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97635-E0B6-429A-BC54-89F54C7A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AE893-FDB8-4794-9AB5-008A427F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B8F21-ACFE-40DE-9509-3125CC86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13E9C-D24B-404A-937B-264D149E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0046-67B9-4788-BD8A-7EF72717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59454-FAF9-46B8-8198-843795F2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DFEA6-5BCA-4597-BC47-375832F2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FBB25-FC13-418B-BB03-B60B8B96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49A0D-4532-4E3D-B447-ED7F2521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5A317-2BC8-4DCE-BAAE-4FA2C438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C7567-E58F-4049-9B9C-47E2BAB0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DB70B-3BBE-440B-857E-64170460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CABD1-D4E1-49C1-8BA7-41B1EBBB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3D3EA-C0A0-4276-86DD-49FDACF5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9D8A6-DE9A-4078-9BFF-4356D56B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447E-26AF-4C30-907C-368C6B18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15F9C-1E05-405A-96E9-64B7D4A3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DF68F-8A86-4DA8-A21D-15412F4C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63A6E-2AB9-4976-A2D6-3F9E799D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A0026-8C87-4BCB-8042-85A18797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37D2B-627B-468A-998E-E61BB6F3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ABC04-A872-4209-AF5C-72944363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A0081F-DEF5-43F7-BC25-E85AA876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27D56-97A2-48AF-B782-35035381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B550C-DAB1-4F76-A162-4C8FAC29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59DC6-D84D-4766-997B-0ADCDCBD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F498-8084-4AAD-B8AA-56C07F5C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F3DA7-A7B7-48E7-B6F7-0E9421E8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1B0F9-F0E8-4579-87AC-556C9D77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9965B-80DA-44E9-9456-EE66BCFB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9A74E-1DA7-491C-B6DE-5373A35F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38561-4A6B-4CC4-AEE1-B46126BF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74A9C-27FA-4EF7-9ECC-C6FA5CA0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98472-C846-412E-9B7B-CADD8DE0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0AFD0-2215-489F-B4E9-3BC24384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100019-B054-4BA7-B3D1-D68B80C0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22A12-E385-4C11-998E-66E1058A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2EF1-EC2F-42BF-9815-5F9298B9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F537B-C3E0-4F22-AF7C-EA4325E5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BC23E-BD8D-47C4-B164-14197979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4DEA6-39D6-49E5-87DA-AD13E813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FA6F0-AA66-489E-85A3-5205D11C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7A5A6-9DEB-4C63-973C-9E62BB95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1787B-8CF6-4A7B-A906-7A27D39E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ACA0B6-B1C7-4455-835D-B8548EAD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DB7789-800B-419D-962E-4F97DDA3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41FC6-587B-45FF-849C-98AC789F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028DC-36A3-458B-B6A4-AE6086D6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D78D-41AC-499A-B19F-F0E109A8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FDDC7F-7784-4631-9C1E-323A5377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BE9EA0-4DB3-4D9B-AD5F-0AD89876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3E8FFB-363D-4163-BB80-0FDAC21A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1F06CA-BDCF-4313-8C7B-45585DC1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422DEC-3F2C-47B6-8879-E76C6153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CBF3B0-2653-4129-B247-FAA7762E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CF189-5722-4C9A-B9A9-F1B068C2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598AA-F3B5-48F5-9887-779B539B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BE6ED-6133-4AD5-93B7-1FD497A2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A885D7-02CE-4C5F-8199-8A672D63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04AE-42A1-4EFF-8E1C-9FBA9A10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12044-DF97-498B-8AB4-0EEDB102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B4553-41B7-464D-9F99-BF014856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335F69-9233-4E95-AE28-51F5E9CD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B97226-F57C-4398-9264-4C6714E4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21B419-5D29-49C7-B204-E7DD80EB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96407-6867-4AE1-BA8A-073F0D8E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3D490D-AC02-4435-B63A-162AD6C5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092A12-451B-4BB1-9D43-6FAFC9B8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4B9A82-F599-4038-B8B8-B1394085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6E5EAE-5943-435B-BECB-12CC7F71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B3EA-27C3-4802-98AE-EA37FF5C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D8B98D-79DC-4490-9061-AD1DBF1B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131FA-6DDF-4A81-B26B-00F3A7E4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F8F99-E5B0-4169-975D-863A6C55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DE53C4-4176-42F2-9E4A-57D7EAAB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8A487-6B91-4CCD-A5E8-B8C64815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EAE63A-717B-4B43-897A-21E0D4FC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45E187-59CF-4F3E-9DD7-0175F93A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ED0F23-A88D-4C76-B025-56EB1F2F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FCF7D-8FDA-4DF0-9E0C-E7E17ED2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113EE4-B3F1-4483-BA36-925E4709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91C-91D1-463F-9AA7-60E8E293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B69A-ACB6-4D47-B9E1-A7F53764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67048B-5DA7-40F4-9F28-35D684D5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F4F710-4A8E-4D36-9427-61E76A47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12798A-2BE4-4319-9B1A-4F5BFFFC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19E3A8-DEBC-41DB-A3E8-96DDDCEE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FC430E-FC94-42F8-9F27-E75D2D8E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543CDB-04A5-4BFA-87FC-446DBB95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03D49F-A51B-4517-AEC7-933C4B7C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E85DC0-A0E7-4BF4-9833-63C9F71D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24C878-266E-42BA-96FA-9FF33D03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6B95DE-4D41-44E5-9BB5-4F57E2C4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6EEE-20DA-4BE3-9890-E81867C3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E5D9E2-27C3-4136-A646-59BA5B4D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CBDA46-02A2-4DDB-A2A5-2CEDBA4B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BA909E-B84E-426A-8632-1145427A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5F825-FCFC-4DAD-AF5B-692BEA35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F2451-7DC7-44A5-839B-30051906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343316-85EA-4A9C-9A4D-9B3B8DE1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914174-2905-4A34-8FAB-296DBB07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36A3B9-1BCE-49A4-B6B0-7095E8D8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C4C3C4-8E30-48E8-B324-2CB93229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4913E8-3AB2-41FC-9A1D-243CC937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07D7-2EF7-4B5B-8F6F-081FCCCD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DA3286-BB37-49F3-8BD7-22A0CD57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DFDABF-09E3-455C-B133-90C69E36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D05E88-0E10-4B85-933C-E359377C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1FCC5F-E3D6-4916-9582-143EFBE1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9AB361-C3AF-4121-AEF3-1F11F63E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B5D47D-A09D-42FB-A47C-3BEEC8D4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4D0CA6-E9FA-4B06-B970-788A60B5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6B33AA-77D2-48CC-A4D7-2B334192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4DDA07-C515-493A-A95A-955DDBA9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DDEFC9-B5AB-42FA-98AD-8FE00036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5D1D-64DA-4B51-9980-DFEFB319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EE19A6-0E8D-4998-A7A3-288270FC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215F1F-EDF0-49EC-8633-4BE2F7CA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A4919E-389B-4A00-BBBD-C2DFB423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0E93C-F89D-42B4-9A9B-484FBEFD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E05606-0912-427F-A00E-B71F801B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B7B09D-0091-4718-99FE-7625AE2D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5BD35E-1079-4252-8013-AE67190C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4A76FA-7B85-47FB-BAE4-03D7F79F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8A982E-63DC-4FE2-A37A-D7614F2E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1CAF78-5EEA-408D-917F-C6815880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0620-5ED7-4E23-AE91-DA7342A7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FBC554-B5D5-4F9F-B851-44F65627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6633CD-EDAA-4B8C-8EF0-8A351AC5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CAFA91-ABA4-43D3-ACBD-B10BAFDB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660BE2-7DF5-4101-8EF1-BFEEC174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DE4C73-BAF8-4E27-9DF9-2FFF00D0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DA0F28-A9A8-4941-8180-B1756A92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3B6045-BC32-4907-A621-D9DE7302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778172-AD61-4B9B-81F4-375741C0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53FF6D-BACC-4833-A120-9263F9BD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C4F8E8-F9E1-4331-BCE7-66E07D2A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D0412-B158-4F10-B5C5-551294A9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A1FA9F-51A1-4A0A-8A8A-5B5CAD82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D44D56-0492-4D8C-8C9E-CB2AD4FB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4D9E76-3877-4D43-B3D5-4BF61893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EC1903-C7BF-4B48-A088-74B78958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FC2E81-5D9B-4E16-9A9C-4B97A331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267F3B-F733-4771-ACC7-66459975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8CA2D0-ABA2-474D-B996-898F6CE2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24147B-3E72-40F0-B900-D0E1FD37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2FD359-DA20-4421-A353-B68F275B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907F89-0572-446A-B5F4-2ABC60E2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37881-EB53-4CEB-A915-C237C8E3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99743E-CF40-4E82-8777-2AC8D249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2B610D-CA9D-4405-9663-B760D8BD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0CFE82-41AA-49FC-A030-2F6BC912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D68D8C-B4EB-4199-85F9-B7C39308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0CE655-4F26-4E2F-8932-45F8A34C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4DFD03-6205-4612-AC2F-7425E607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CDAD9D-5E49-435B-8B3A-9C6B2036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DD33AC-49FA-4368-87C7-B22D0059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C2E1FA-1CBF-433C-A3B0-767856C7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656555-F690-46B6-A7FE-2C52E752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091D6-D7AC-42D1-B354-0770D7FF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AB1278-7E1D-46BC-A985-B36B2F60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17E087-209A-4A98-8D45-4E1D8EBC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89942C-A64C-4B55-8B47-61395F2E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E31F1B-C0C2-4417-83B3-21055AC2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8A9D95-C69F-4330-9B67-BC263F1B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EAF7C9-3D70-4CEC-A54E-B02652FC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C54490-4D07-40CD-A76B-D86CD38D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1A11E-0E79-4140-AE31-0C963B98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38F36-AC34-43A9-8B3E-89DEA447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58F-71CC-47A0-A79E-541CC2B9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071F6-F333-4FDF-99D6-8C733260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C198B-ABA5-4B98-B8F7-832E3215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C9001-E9C0-4821-8E28-D9066327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4960-FC7D-4D9B-9920-6E8AC513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B9801-C9E1-4DB7-8595-9AF7EA9B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E6170-C320-4421-AEE8-4013A718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48406-2EA5-4FFA-AC0A-76D09F03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0EBFE-96CB-4B08-B191-CAE46A7B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D76ED-5F1F-4135-AE4C-65E1936A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589DD-4A13-4012-AD2F-63D82552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61D-D840-414C-A332-67A606B4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BF934-FB8C-4D42-904C-22059186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893C-1794-45F0-8A9C-10898321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205FD-FD4C-4912-A4EE-ABF860E5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28862-9E4A-4405-B962-E791E4BC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E6B12-A18E-48AE-BF79-9E410ABD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AF5FD-09A9-49D6-BAA5-B20BA8CA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008BF-89D8-457A-B5F3-2B027881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9050D-BBAC-4D06-A59B-49268AE2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90206-312D-489D-8F73-7606F5D8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71D7A-D248-42DF-BD3E-913C49BE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B579-24BD-4663-9A6B-FBB642D7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7C1EA-C586-44A7-BF88-5B7D2487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42FB9-6585-4DBB-8CE4-A1241028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0EAAE-4C67-401A-95E7-1B906E25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46150-CDFC-4B48-A5DC-BF026CC9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E354A-0F19-4208-9024-C6C47E52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55258-A7DA-440E-99D5-C9DA3BEE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8B62F-E74E-4011-8D9B-B9E83631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0BE58-F1E4-40FF-9EC6-8ADBAB2E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8F7C4-359F-498C-9F03-B69473BD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0D0EE-8CC6-4D28-B03A-9E218D94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EB6-858C-4B50-A4A8-C1C6FFF2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EC233-A823-4B35-BC3C-B1BCE164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E6FD4-245F-4E1E-BAE8-F212B494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321DC-60AB-4F52-B73B-DE5B1F43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FC72A-5C5E-4E79-AD56-68A0366E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8A7CC-9F54-441D-9AA9-C88920EA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F656E-9093-4253-9EDD-A7AA4DEC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84243-CFBA-4E0B-94D4-6FAF571B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47707-9CAE-4747-8CDB-A8B3E240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886CA-1628-4BAA-A3AD-165312B3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3F27F-621B-4215-B259-1B3C8BBE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B9B-CE1E-4C6C-96BB-9BD8FFDD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BA779-6BB9-4648-9E14-96E498E1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14496-35CC-4BC9-B07F-FF314309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7654F-CA6E-4C0E-BBFA-C8894FAF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402BA-C837-4646-A6DE-7E53FAEA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9BC40-E988-4364-9C7A-49FD0E92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ACEF4-31BD-4EE5-950F-697C795D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B0FCE-137F-4819-9767-66D9F6C1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CDC27-5E8D-4C42-BCC4-D9062FCF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2FB40-FCD7-4DBB-8DAC-9453D4F0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5594D-C46F-4467-8AC9-606D2EAA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E13D-BB11-4AB5-A9B1-2D3FCA64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7F767-DAC7-417C-AE89-D82DD9CB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87C65-1936-4B56-83CB-E0B7D88C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676E0-633C-46C0-BE7D-22607DD5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67E10-B265-4EEB-B4BB-A7AC53D8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C5103-E222-4F67-9966-958024C5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B7859-F784-4FD6-A17A-4F326B6F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60D5B-EC09-417C-827D-1D50CF8C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3728B-CAEA-45D4-96BE-78895692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B7EE3-0F8A-4B21-9DF7-3CE91C7F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DC421-F3A7-48F0-A717-C8DA0522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A56-15F1-4507-8B91-B0118971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88EBD-B629-4485-9E3C-097FA38F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51BCA-B779-41AF-B12C-0F30BC84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45A54-3F56-492B-8FFA-248DA819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AA94A-C7AE-4078-B5FF-E7DB2C4C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388C1-CD7D-42AE-9087-C1880062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CD632-2F4A-4AC2-BA5F-B680B62B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2E623-D91F-4C3F-B950-8027C9D6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2E1E5-2171-479D-BE2B-2A7EA89C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A061A-9F1C-47FB-BEC3-A350838B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20806-2E98-4FB0-B860-0A960608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E3ED-D179-4D8A-9D3A-E04EB80D8A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67AE-64E6-45B0-BBB1-EA68A8248E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F27B-1FC5-412D-939F-3BB7A056D4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649B-98BB-4518-BCB2-338483BFC4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A208-B4FA-44D3-A307-BD4004AED8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F907-8AA7-432A-B8B2-156A037DBA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09FB-C53D-41A4-9E51-818895CBB1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3174-66E2-4C1B-99CA-F61520885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E5DD-5E58-491A-B044-3A6CF60DDB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FD5E-72D3-4204-8B57-EDE9785BDC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2132-65D3-4CEF-864B-F4F3115D27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855A-4F35-40F9-8AC9-988A3F24E8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27BD-9E20-4015-8D47-ED7151B174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6A82-7795-4CBD-88CE-DD6E3448A3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7631-6C6D-45E1-A1A7-C7B90840EE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7AFA-82B8-4904-B685-3B19821F58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9E47-75E1-4553-B8CD-6AF4984A0D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7FDD-0321-4693-8D3B-EABDCB6FFB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6E2F-1E25-4455-AEDC-8E80318883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0C51-2EE3-4642-B3AD-A8B5F66C96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B0C6-C6CB-45E0-9B4A-901108DB3D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5F4A-01C6-4C99-9862-228DFDD875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D099-5EE2-4C80-A4D5-019D7751A5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CF4E-1C0B-4857-A2EC-CB09E3CCB0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8607-9CFC-4DC4-B9B4-AAF6BB11D3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A4D6-4076-4ECF-A7B2-7BC5B4EBE9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EC02-A8D7-4046-9D33-E33E6BC496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EB7B-DF7B-46F8-99BA-91760A8357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AFCF-B2A6-4CA6-8610-E97F51BE15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16FD-E71D-4651-8A89-00374AEFDE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353F-2E81-4EB5-B278-89DEC729FE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956D-7ADC-4DE8-8212-762826107F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63D2-784F-4946-93A7-EB3CDE42ED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2F0C-EAA6-46F6-9D13-6EDED83C1C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D28E-0DF9-4B49-824A-9696542E00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64DE-EBAF-4C93-BB86-0364E5CD1D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AFD3-CD37-40BF-9B91-73361621A3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0302-4F01-47B7-907E-2F2667F9C7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776B-4C7A-4C6A-BB48-6DE7A39C1F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EEBE-DE84-495F-AF32-70782C78D7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52EF-3A39-4C51-8EEC-EFCA12F8C5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86E7-BDD1-4DBF-8D75-558E6857D8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85680" y="3057480"/>
            <a:ext cx="897264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66600" y="1174680"/>
            <a:ext cx="9010800" cy="189072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2" descr=""/>
          <p:cNvPicPr/>
          <p:nvPr/>
        </p:nvPicPr>
        <p:blipFill>
          <a:blip r:embed="rId2"/>
          <a:stretch/>
        </p:blipFill>
        <p:spPr>
          <a:xfrm>
            <a:off x="1176480" y="3579840"/>
            <a:ext cx="7019640" cy="22003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3132000" y="162864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3419640" y="22050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5724360" y="170028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5867280" y="220500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7"/>
          <a:stretch/>
        </p:blipFill>
        <p:spPr>
          <a:xfrm>
            <a:off x="8632800" y="1643040"/>
            <a:ext cx="425520" cy="4478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8"/>
          <a:stretch/>
        </p:blipFill>
        <p:spPr>
          <a:xfrm>
            <a:off x="8445600" y="2205000"/>
            <a:ext cx="425520" cy="447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9"/>
          <a:stretch/>
        </p:blipFill>
        <p:spPr>
          <a:xfrm>
            <a:off x="3132000" y="4076640"/>
            <a:ext cx="425520" cy="4478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10"/>
          <a:stretch/>
        </p:blipFill>
        <p:spPr>
          <a:xfrm>
            <a:off x="3132000" y="472428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11"/>
          <a:stretch/>
        </p:blipFill>
        <p:spPr>
          <a:xfrm>
            <a:off x="5435640" y="4149720"/>
            <a:ext cx="865080" cy="4478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12"/>
          <a:stretch/>
        </p:blipFill>
        <p:spPr>
          <a:xfrm>
            <a:off x="5292720" y="4738680"/>
            <a:ext cx="1150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04920" y="833400"/>
            <a:ext cx="8534160" cy="5191200"/>
          </a:xfrm>
          <a:prstGeom prst="rect">
            <a:avLst/>
          </a:prstGeom>
          <a:ln w="0">
            <a:noFill/>
          </a:ln>
        </p:spPr>
      </p:pic>
      <p:pic>
        <p:nvPicPr>
          <p:cNvPr id="1007" name="图片 6148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343240" cy="23716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6156360" y="2565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3952800" y="31845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4643280" y="306864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1332000" y="4221000"/>
            <a:ext cx="669600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971640" y="4869000"/>
            <a:ext cx="669600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1042920" y="5445000"/>
            <a:ext cx="669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223920" y="995400"/>
            <a:ext cx="8696160" cy="48672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6084720" y="191628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图片 7171" descr=""/>
          <p:cNvPicPr/>
          <p:nvPr/>
        </p:nvPicPr>
        <p:blipFill>
          <a:blip r:embed="rId3"/>
          <a:stretch/>
        </p:blipFill>
        <p:spPr>
          <a:xfrm>
            <a:off x="425520" y="1066680"/>
            <a:ext cx="2343240" cy="23716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4097160" y="2478240"/>
            <a:ext cx="360720" cy="2887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4773600" y="2406600"/>
            <a:ext cx="73332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6"/>
          <a:stretch/>
        </p:blipFill>
        <p:spPr>
          <a:xfrm>
            <a:off x="1332000" y="3500280"/>
            <a:ext cx="662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7"/>
          <a:stretch/>
        </p:blipFill>
        <p:spPr>
          <a:xfrm>
            <a:off x="1116000" y="4149720"/>
            <a:ext cx="662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8"/>
          <a:stretch/>
        </p:blipFill>
        <p:spPr>
          <a:xfrm>
            <a:off x="1042920" y="4797360"/>
            <a:ext cx="662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9"/>
          <a:stretch/>
        </p:blipFill>
        <p:spPr>
          <a:xfrm>
            <a:off x="971640" y="5445000"/>
            <a:ext cx="662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176040" y="1628640"/>
            <a:ext cx="8791920" cy="36007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3708360" y="2492280"/>
            <a:ext cx="525636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3635280" y="3068640"/>
            <a:ext cx="525636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3564000" y="3716280"/>
            <a:ext cx="525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318960" y="865080"/>
            <a:ext cx="8382240" cy="58676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3924360" y="981000"/>
            <a:ext cx="439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3851280" y="1628640"/>
            <a:ext cx="439272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3780000" y="2276640"/>
            <a:ext cx="43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4211640" y="4221000"/>
            <a:ext cx="4392720" cy="10796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4211640" y="5516640"/>
            <a:ext cx="439272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4140360" y="6164280"/>
            <a:ext cx="439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85680" y="847800"/>
            <a:ext cx="8972640" cy="5162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826920" y="2909880"/>
            <a:ext cx="46818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755640" y="3429000"/>
            <a:ext cx="468144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468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755640" y="4581360"/>
            <a:ext cx="4681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62000" y="458640"/>
            <a:ext cx="8820000" cy="62391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900000" y="4508640"/>
            <a:ext cx="633600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900000" y="5013360"/>
            <a:ext cx="633600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826920" y="5589720"/>
            <a:ext cx="633600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684360" y="6165720"/>
            <a:ext cx="6335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880920" y="2152800"/>
            <a:ext cx="7382160" cy="25524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042920" y="2162160"/>
            <a:ext cx="669780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669780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971640" y="3357720"/>
            <a:ext cx="669744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1116000" y="3875040"/>
            <a:ext cx="698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195120" y="109440"/>
            <a:ext cx="8753760" cy="6639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900000" y="335772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755640" y="393372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684360" y="4508640"/>
            <a:ext cx="352872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539640" y="5070600"/>
            <a:ext cx="352908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7:5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