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602-8D93-47B3-84F8-27D51BC1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021-A55D-41EC-AE49-FF25DEB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1A929-E3AE-4A3D-8656-EC49B58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FE24-FF8F-42C0-B64C-0C5EECC5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7DFDA-521F-4228-AD0A-94167D76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A05A8-8138-49D9-8BDE-83560E7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1F0CD-552C-44F2-A879-630E562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E7D74-75AB-4A56-A030-F25D4DF3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42D57-6D9A-4F90-AB32-0B1A01BA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0B112-A702-4176-8429-CB3A62BA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1F089-0F64-442A-97D3-137EC689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7D446-E5E4-4031-9BE9-F0AB4463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D40-4223-4AC9-B7D5-3BAC076A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61206-EA99-424B-BA18-027B1E23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775F4-936C-4607-AF27-391D895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69BD6-EBC8-438B-A902-6E188A0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750B6-2D64-4FEE-A059-ED7F90FD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4FCE1-441D-47C6-9C64-A32EB4C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7F158-2149-47A9-B785-341E9C61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AB8E7-1C1B-4B72-8D56-CE169DC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1CDEF-D08E-4F5F-B0EB-D9FBB5E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E50F9-1F9D-4909-8003-1391849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F0DC7-9A1B-4526-970F-1F2C9FE6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522-3978-4126-B5FB-A968F761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B189A-BE5B-4710-8ADA-2BFF8D5E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D233D-01BA-443A-B98B-CB4C36EF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EF140-36D9-4B4A-8073-B11B58D0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CB504-4BF9-4454-B1A5-02876AC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BC1F-8233-4B34-95B7-EA8F406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6C2C1-997B-4B46-8C10-5692B26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20F60-03D9-411A-BC75-7A19E181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039E6-33C0-42D5-A1BE-9B580FA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E3111-32DE-4F94-BD5D-9C17ABE5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2ADBD-582B-4CBA-9D9F-FBFB36C7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86BD-0E77-44E3-B894-035AF36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309B-B69D-472A-92B7-EB821128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1CD74-ACE8-48EC-805C-C3616E08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DB5DF-4D63-42E8-9D10-D2E3B6A8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8CB58-2E06-4C1A-92DA-FB870BF8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9E0A7-AFE2-4EBB-B7AE-7A704F31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6DDFD-DDF0-4BDF-A292-31B38C07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3404B-F8E0-4BA4-83B0-93AE561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FF1E7-D3FF-401B-8539-2E24EA90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4D98E-B28D-42CA-B818-A5819F5F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95550-B908-4569-AC3E-3065B59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955-F528-42C5-A251-BDA485ED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93C81-FD5D-4FA4-828E-E4A8F184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939A4-6B77-4977-A181-D5EA3E4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B4556-D074-4AE2-B0F0-D7F6B19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C5550-EB2A-4636-81D5-EBDE7CA5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A96CD-DD00-48AD-825B-B10BB1B9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C5F9C-7A36-4675-BA68-4098896C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B9036-040C-4957-9BD9-E869FDAB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FA77D-B138-4E33-AF11-4CDFB60D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3668C-1E02-4146-856D-D23EB117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DB5428-50B9-4443-A57C-5DF5EA0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9E5D-D1B3-4C31-9DFD-C0BDE94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D25C4-CCB0-4684-BDA9-0565B5D2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CE3E7-50C6-45F1-A34E-52023FB2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A2432-1CB3-4212-AD1E-1B964F2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6F3C8-4C32-4EC2-81A7-58554F43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A388F-E94F-4E71-89D3-BE15AF8D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87F0B-2131-44E9-AD54-86DDA669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387A1-379A-48F5-A955-9346F858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51D43-5880-4218-ADAE-E6A0C598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A3F5E-D892-424A-9BC8-6B779E6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64EA6-0EAB-4E9D-A3B5-8120CFB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E127-1842-4BD4-BE26-0CF09A7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39BF8-C080-4CA9-ABC8-F32EFAD6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826E5-21E3-4CCB-B83B-35924C93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E6247-AA56-4706-B00A-6546452C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A4593-17F2-4BD2-BDA7-3FC285E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E88A6-19A7-46D5-9EF4-7006C918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E2465-4271-4C59-B744-F823D45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0D05A-28B0-4BAC-AD2B-2B5E9B47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D9DC4-4B56-4259-91B9-FD69001D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73C30-6B43-4EDE-8400-E4EBCE9B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6B442-57ED-46FC-B893-E3B82C0B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6DF1-83F1-4E9A-A0AF-814C9F9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33AF7-44F8-41B6-A8C9-03553D6F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3EF5A-93DC-4D4B-B10F-3590AFF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1B6EC-51FD-4CAE-8433-D457C59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07099-C3E8-4789-B166-E4FC42E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25866-9F69-455E-B845-C41BB59F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79E9C-DAEB-41B6-9384-B50CCD4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8DE6D-0CBE-44F3-AF02-0AE8BBE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C4B4E-D5A0-44B0-A1BF-9FF1108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0FEF1-A439-442C-8722-17ED09D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4FCEB-BEE4-4586-A583-CE029F92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9404-DEA3-425D-9544-E3AD775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98277-5FEA-4075-89EF-32D0D316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AA9AC-4E82-479B-8BA3-FF463B17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416BC-0770-4E29-BF5A-553DB64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C232E-E122-4065-8E89-99B1BFFA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7EB26-5E3C-4266-B955-03102E84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005FB-0F4B-4587-91E0-BC986F06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75C49-9103-4F38-AF8B-AC4DAC3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B55DB-A9D4-4A02-9B3B-DAC4901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B3C20-37F5-475C-8AB1-7465513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2160D-CD27-4F5B-8C80-96F6FFE3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0DA-BDC3-4911-BC5A-4D87D00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ABDE5-3D4C-44F4-AEAF-C697922E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8432F-2BE7-415F-8747-8C106ADD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5C537-0423-483E-8D1A-E820A1E0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80FD9-35A5-48F4-B99D-313309A9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C7A55-168D-4462-A5B9-4D23F74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4F03A-03D7-4C7C-B361-DBFDE5E2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8983CA-4929-4F13-B93D-F9202624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4FAD5-2813-4592-A845-C0A36FF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9EC34-3349-4AAF-80F0-65EFB4DC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DDC48-EEBF-4EC4-983F-9BEF02B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9D2-B6ED-475E-A1C6-F80A234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368F-3505-461E-AD11-C40D9229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549DBC-036F-45E6-8613-D0EC46C6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E9D0F-5B7E-47B1-9F2C-AD3CEB1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1B721-548C-4EF0-87C5-B6781763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06FE2-8AC1-430B-A563-24A09EF4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91964-D619-4F00-A6AD-1443CF87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2FFB0-FAD2-4802-8493-B627BB98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574CE-E884-4AD3-9085-420E961F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AEC92-A145-4E99-833D-5B3ADB8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900AC-2B07-4B51-8C86-EB0906C9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F83B8C-DEC5-48B9-9049-42468F6C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1BE-04E1-4342-9C99-0441221F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27AD0-AC2F-40B9-842B-CA878B61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E39565-95BF-4031-8887-4300268B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2AE95B-F9C9-4414-BAD9-646CA54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F8EE79-C12E-4FBB-8C64-F562AF0C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2F33C-7BAF-4749-B1E2-F2CE8CE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DCFD23-1A4E-4978-92E4-360E2308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7F932-CE20-4F28-98C0-55183EDA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D5E7D-42B2-450D-844C-E856A4F2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141EE-57B9-4CAF-B7A1-E1DA6448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528D6-53B2-4B9A-9EFC-E557DEE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27B0-F52E-4FAD-9B82-E68ABCD0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D6366-E361-4FFF-B3C3-15742529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4CC0B-855F-46F3-AE63-141EA817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89912-4FA0-4417-B258-63B4E1C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6966A-22EB-4655-BB28-81256C8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6B816-5110-4C80-87D4-2095AA49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6F9F0-333F-4C6E-A0CD-08FB02D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71DAB-1615-4F56-A2DC-337E3EE7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55019-4099-4641-8558-4F4830DC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5BAA4-5223-4471-AE7C-A532CF6D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F8158-9CA1-416E-9F1B-1712A6AF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E380-97F3-4122-ADD6-93F0EE9D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B1A94-8D64-4CBB-988B-90DB5163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03E18-3BA3-4A10-A62F-0D80D705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6B8A7-B426-4700-BB0B-8A396CD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F0F90-BF20-4902-8B7C-EC1DDFA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2B656-4821-4634-A9F6-4F50F60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1F881-C8B5-43F5-9FF6-61721CAC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EB732-4DBA-4F9D-9636-D9D99B5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EEC4C6-65D3-4646-A29A-4A6AEBFE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B40DF-095D-458C-8B85-5ED164F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19357-F46D-4662-8456-AFE8E882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28E9-E689-43A7-B37A-45835B88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56570-2668-4F77-9845-B03E0947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9D40B7-088E-4A87-94DC-6005C342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C47F4-65DC-4BAA-8EA6-415E41CC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2A407-50E3-46A6-94F3-12C11373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7976B-F4F6-45A7-ACC1-F5B2215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57C8C-3A21-4F44-8430-5C5F57F1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A9E93-655F-47C6-8E97-92A441C2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900FF-A572-426F-86B4-937ACFA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A91413-7859-4AD7-A521-93DEE03B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C3170D-1B6C-4C9F-865B-E216777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B361-D97C-4AEA-8462-B76A37F5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C6563-6664-4CD8-9053-36E22D01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CA23F-2AD8-4F0A-A3C6-ED4C3D5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BE5CA-B7DE-4580-9240-5C160779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FD72-67DD-4D8E-BB57-B67AEBC0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A7A9-A8EA-4A72-897A-37BF7569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C737-61ED-4961-B6DD-4A5BB43E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71E3-1695-4DEA-8A06-009C16A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509-3478-408C-AFC2-6E8ECB3E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5712-C5FE-4586-99D7-AFA1C39D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5132-BC83-478B-8786-BC390DE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3C34-D351-4158-95C9-665E3D5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4EE7-B679-41B9-9D81-E1D782A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59D6-A579-4183-8049-EBB53A7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B19B-579D-411C-95A8-029878E6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5A06-88E8-4BC8-8751-59213CE2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C117F-4BD3-4C3D-8DFF-69D45806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E327-D447-44ED-9613-D363846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F38B-3031-40A5-AD77-50136B0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398-5BEE-4CEB-9806-B15AE931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7233-4777-47BB-B8A5-1A27B397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0189-7A7F-43FF-BA82-F82703A0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DDD7-B1C6-491D-AA8D-19A6A3C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360FF-F8E9-4AE4-B7C1-9FBA3CE5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B6F1-F78F-4F1F-A583-3E6189C2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3B01-1D9A-4510-A259-F467295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B43B7-0D98-474E-B2DA-D4A34AC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9973-5A53-4185-B10D-8DA30079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C9B49-A8C8-41AB-9318-AB90F996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490E7-71F6-4065-ACF0-831FA703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2D3-324B-48A8-AAD3-F05C133B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7A11-D5A2-4945-8F4C-CBADD155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3703-98D9-4613-8485-F8FCDBA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DC40-EA38-4C52-BC50-5143AA06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F1A6-8E70-449F-AC61-F385232D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8FBD-8727-435A-A0E0-2C51EE73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2A2B-367A-42ED-82D9-00F25867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34E4-4338-4AA6-8F15-7E32C5A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C3D3-A27A-4C6B-9E64-474243F2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9D0A-7E68-43D6-AC7E-863FD10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B4EAA-FFAC-43F5-8163-618A0643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6A9-E21C-4AD4-9DA8-408D19F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477C-5215-4254-88C7-9ABDCF83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73AA-FBF3-4AA4-8463-9D4AA281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32E7-D639-411A-BA05-029A2D07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E6319-C24B-4C05-87AE-68880F57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C195-CE67-48D1-A8A8-598C41B7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0BE4-8E06-4BF7-9BF4-0C8A1688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F1B9E-4A4C-4485-99C5-3B497B0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9B0F-BF01-4514-96C4-F61E0D7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52DBC-8EE0-4394-8A27-1DE7F02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5D14-3188-4DF0-8B70-5ABAB0A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D93-B57E-4FFF-98FE-F5B8B64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E556-88D3-4323-B3F6-F3D7B28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8C8A-FC02-4964-97DE-7F7BE5DD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A6335-BD94-4F15-9C42-9382D9D9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3B4D-1606-466A-AA83-C403ED95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3432-12D4-4835-8F7F-00A578A7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CAFD-D39A-448F-9F64-85A97983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5A8FB-6396-4D32-8C42-734D343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CA4A-E492-4054-9785-89B6E723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7E24-1A60-44FB-8E6F-85D21E1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89263-3F86-402B-8B86-B6081175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E80-9522-462F-8C23-4E48864D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A2E4-0869-4CE3-AE94-F27C62C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4E7E9-BA37-492C-8A78-CC14F24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1626-F7B5-42A2-9DF6-35F2692B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90C8-007A-4642-A6B2-400F4D2C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6392-92CB-4565-86F5-C958A062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387C-909B-49D9-94AC-38C4F42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6E5AD-36B4-4F0B-8E4D-E322A235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1CED-E113-43DB-98AC-52302F78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6689E-39C9-45E2-A8A9-9F26553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4783C-90B9-48D6-A2E8-E8082E5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813-915E-4F31-9877-401AACAD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31DA-E6AC-40C5-A0E8-AE41343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F5459-EA32-452D-8CD4-855BF6F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3D8E-A6B8-4550-BE9E-5F5BA08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962A-FF08-4F5B-93EC-6DEB055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23957-09AF-43AF-96DA-A5897602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0A64-C46F-4526-9633-BE598014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05854-2304-471D-8E36-19BF3A30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CD07C-9436-4735-81A8-F0C99280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78497-F7C1-4AD8-867C-88F37238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D19AE-AF5E-4355-AC4A-B34B1C9D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3446-1583-45E0-8A7F-160C532C90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547-E49D-4B7D-B095-4A2A30A06A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7470-A4C7-47DA-AE56-F66DCE68E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E138-28BA-43B7-AD4F-1023958E38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823F-2949-4A93-B301-2AE1E7A14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9B3C-ADF0-4CE0-8D34-06564B5CED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8560-12D6-4C27-906F-77D98860B2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E517-C7BD-4C39-9990-604A970B7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AC32-6FC0-4BBD-9BF6-905D2FA8D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C520-C446-41F4-852D-B63B382DB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EDE9-2FD3-4356-B7A0-E774FE1C3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431C-1F96-4476-8254-185D712BA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EBDF-6582-421A-BC09-6B24DA132B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445-C320-4800-A95E-94DA1D449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4C7-BF75-4620-A562-90445E2A1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493-2D81-4059-8594-E87ECF915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3F41-A9B4-43EC-A3DA-2602A04AB8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4DA-A7F7-4BB5-9010-D3E01B9D5C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17A-288C-40CA-8FBF-F6DD840964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2950-8CCE-436A-BB3B-A12115E42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FE01-E58E-43C1-932C-D80F5CFA3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F0A-F11F-47A0-9440-E39184CCF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7074-A5F5-4A91-BA21-F129669BD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168-CFC3-4AF8-9610-0ACA96A22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5374-E449-4A8C-9D18-5134A0BA23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C05A-7FB9-4141-8E5E-953C507F5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FA1A-8585-4E1E-89B2-7AD4C20D9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515A-9D9D-4C2A-9B8B-53482D2641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D9FC-BED8-4649-8D5C-45E4D8D1E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D9CF-95D5-435A-96B7-1F776E246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0E5-934C-4F7C-9928-1E58EC7EA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545C-F4FC-4CAD-A624-F110493F4D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99B5-D19B-4B65-88C2-1287E27406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80F-4E4B-4B48-9667-C2D464D87A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45A6-B83E-4297-8712-040EA25C3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4F2-C4F9-41DB-943D-699BDC68F6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9B82-40A5-4D5D-882E-0FCC54CB7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B4E0-14C9-4E2D-ABDE-ED2143EFB0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3F6B-27E5-4DE2-BA46-22D4C93E1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9518-A63E-48C5-9BC3-EA5EA71A7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19240" y="1700280"/>
            <a:ext cx="5105520" cy="14000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585880" y="3297240"/>
            <a:ext cx="39722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9633" descr=""/>
          <p:cNvPicPr/>
          <p:nvPr/>
        </p:nvPicPr>
        <p:blipFill>
          <a:blip r:embed="rId1"/>
          <a:stretch/>
        </p:blipFill>
        <p:spPr>
          <a:xfrm>
            <a:off x="1119240" y="1052640"/>
            <a:ext cx="6905520" cy="220032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9634" descr=""/>
          <p:cNvPicPr/>
          <p:nvPr/>
        </p:nvPicPr>
        <p:blipFill>
          <a:blip r:embed="rId2"/>
          <a:stretch/>
        </p:blipFill>
        <p:spPr>
          <a:xfrm>
            <a:off x="538200" y="3400560"/>
            <a:ext cx="8067600" cy="2333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7567560" y="134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4211640" y="2276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7308720" y="220500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2050920" y="3716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4859280" y="3716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8317080" y="378936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1979640" y="458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5003640" y="45813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2"/>
          <a:stretch/>
        </p:blipFill>
        <p:spPr>
          <a:xfrm>
            <a:off x="7956720" y="4653000"/>
            <a:ext cx="79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00160" y="938160"/>
            <a:ext cx="8743680" cy="498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04800" y="1924200"/>
            <a:ext cx="7934400" cy="3009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6227640" y="3730680"/>
            <a:ext cx="18734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268360" y="4336920"/>
            <a:ext cx="4680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71440" y="1004760"/>
            <a:ext cx="8601120" cy="4848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042920" y="3011400"/>
            <a:ext cx="3673440" cy="922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971640" y="4019400"/>
            <a:ext cx="396072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39607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633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85840" y="773280"/>
            <a:ext cx="8572320" cy="5895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087560" y="3890880"/>
            <a:ext cx="5111640" cy="978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00000" y="498492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826920" y="558972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826920" y="6165720"/>
            <a:ext cx="6481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52360" y="947880"/>
            <a:ext cx="8639280" cy="4962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4032360" cy="1079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1547640" y="3573360"/>
            <a:ext cx="288000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1476360" y="4091040"/>
            <a:ext cx="287964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1476360" y="472428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684360" y="5329080"/>
            <a:ext cx="597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37960" y="1238400"/>
            <a:ext cx="86680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429320" cy="6143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1081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659640" y="2205000"/>
            <a:ext cx="1081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732720" y="292428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5148360" y="364500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6732720" y="364500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5148360" y="436572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6588000" y="4365720"/>
            <a:ext cx="129708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5076720" y="50418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6516720" y="5041800"/>
            <a:ext cx="12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5148360" y="573408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3"/>
          <a:stretch/>
        </p:blipFill>
        <p:spPr>
          <a:xfrm>
            <a:off x="6588000" y="573408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561960" y="1347840"/>
            <a:ext cx="8020080" cy="4162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561440" cy="1150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75614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2:3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