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2A0-8C49-4564-BA01-CE593114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A75-47D1-43B8-9868-58EA3A2D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A3CF1-CC09-4FCD-AE83-5F0A128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BE2DB-1CBC-4ACC-8E2E-798011A1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A58C6-2D9B-4934-8B49-EA90C6CC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567F4-5AF6-45B5-BC78-E18670AD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5ED3E-A516-4568-BF2E-221C8F7D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F5E61-B20B-4095-9B7B-45436D6D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D195B-CD2E-4340-976E-8B34178A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93257-BAF7-4B7A-B6ED-6E54D34C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D1399-E560-4885-9171-E81EE089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CE7BE-EB6B-4F11-935C-22DD729B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DF7-3365-4942-9AE4-A32BD97A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A765B-EC32-4688-9945-58D34A67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8EC5F-75E7-4D46-AB66-C7D1A6C7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8BFA9-CD4C-418C-8B14-2A450803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0D217-E57F-4F71-B161-31A619C6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8F25C-0A07-4867-9F24-B9CC00E9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532BB-F221-4EF1-9C69-A29C7CA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95C98-A3E6-4C77-99C3-B69DA402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127BC-D75A-4BEF-B686-B333D5F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6180E-7006-4ACE-B4A7-3A4B72EA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5E4F9-987E-4282-8D4D-551E7CA7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777-E8E6-4C9E-AF9F-62A5CC36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38E66-786A-4111-A91B-CA8667DB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0639B-D083-4902-95A4-8D9B4808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92429-1D4A-48F6-BCA4-21A46064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D40F2-6D39-4019-B634-F0504242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25CC6-BCA8-4152-8C07-36664816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ED28B-1E21-477E-AF0B-11769EBE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1AF05-335D-4582-9198-AAA9181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21058-AE42-4AB2-A2BD-BA4DFFDA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9F108-9A21-45E3-8894-94A89518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EDD3F-06E5-43BD-A430-57E9090B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1730-3B5B-4A75-AD8F-FAC0FB01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A41FF-BF41-4262-884E-6E8FFF26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88945-6850-48AE-A366-70B9DAFB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BC30D-01E7-4C39-9DA9-504DBADE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54972-9EDC-4C6B-AD60-6BBC2AB9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53041-49E7-48F7-BAAF-D631D206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4B9D4-0EFF-4B75-9B67-CBC01CB2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4B2CF-5A18-4387-BEDE-5A1CC9D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D1DA7-92A5-49B6-B02C-D2ABA70F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621A5-E378-421C-84D5-37EFAD0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9F32E-160A-470B-953A-755DB2BC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24BD-8B8D-458E-B76B-783C1918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AA749-0E60-426A-99E9-F8A0B7EB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84D1F-3C68-4A38-8A3E-728269EC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2D219-DF38-4873-A707-428B0F0D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05717-B77D-41D8-B542-12853BC8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41CCA-D03B-4618-B9B9-F147B4BF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1F33F-6763-4370-85A9-942ED515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D5D8C-F932-4A42-AA3C-85D83FDA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8DF2C-A3A5-47C5-8B0D-9F2DD321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FE118-9BB4-4131-9579-63D8B44B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0806E-7151-4000-9F8E-E9DE76BB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56CF-137C-45C8-892B-DACEE89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B7329-33D1-4BDA-AD9C-4346D49E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38F29-A4B2-474B-9E9A-3397D556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EE986-275F-4F48-9895-7D70A2E3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7D746-0E60-4F52-A8DE-1FAEBA02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F49FD-AE05-4B26-8AC0-18359369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07725-5EDE-4E4A-B16F-573FD346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45702-AFD7-4772-9C08-C186D722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01F31-7F31-431E-85C6-A007B15C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29860-4F12-42A7-9BB6-27F72F44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83A06-626C-4B4B-8259-F029620E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2D39-E12D-49DE-9A61-6BBD9B9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97A3C-1D7B-40B9-9B07-2B1C7674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C9BD4-C47F-49F3-9253-56B3E2B9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05E40-4457-4828-9E86-023FB116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EE466-38A9-4C3A-8D01-CAE51FFE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0DFD2-EA91-41F6-A57C-34D1F70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49058-5B8B-4638-B032-705882A9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763B3-B5CA-4309-82B2-CCAB7AEE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A76CD-C862-4AED-8502-3F855447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C7F63-801D-4B89-ADD3-D901FBAA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E5CBD-5FB3-4F3F-A40B-DCCA4D21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621A-FCBF-40CE-B489-AD5CABAE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1F20D-0A4C-4CAD-AF74-03FB96C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59B74-0B40-4674-B4AC-62DEADA9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C6061-0CEE-4CFD-9DA2-5A31E9D0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145D2-7294-4C3E-909B-30F5D7CA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6362D-DE91-4D2E-BA62-047799C5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7D363-12E5-4F91-A6BC-9BF01BC4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48244-9552-4AAD-BE48-E54A163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A183B-FE4D-4394-8481-17A4CF2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BE34B-1D43-4908-A47F-9C6D8D9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8A80F-1A4F-43C4-ABDA-E4306C70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6D28-AFF9-4B02-8B18-516112DC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707E5-95DA-405F-BA09-8566E706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F6AD3-CBA0-4A23-8514-046674F3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9F4AE-6866-4086-BC32-9AD15EF4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F0036-0A07-42F8-BD2C-DFCC09C7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B7E1B8-8FE4-4B64-B20F-9A688302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BE445-B241-4D93-BC0B-3B9EE1DD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D41E5A-D398-47B9-B9D3-1EED622C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F7CE1-2DF2-4AF7-BDB8-2DF0367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29AAF-4034-433D-A34F-11A07E31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BD839-65AB-4E7A-B298-88CBAC40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04AD-6D1F-47D2-9F5A-4331F2B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184FA-CD76-4E4D-B8C4-9381EBFD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BA78E-3D47-47FF-9D8D-88C6F9D4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9CF11-1E25-4C70-8EE7-48945B2B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38494-0F47-4486-9090-EDAC27AC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DC7AA-5B3F-42FE-979A-D43C8313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2D3C4-4D1E-4A34-B5FD-B3C862CC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A4A95-D331-4146-8AAB-2B12266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DF0CB-44B3-4E5B-9C12-DA8A1C65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2D7B0-932E-4174-9F9B-51D6A149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762857-7BE0-4ECF-9F9F-69FD9C64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D7D-4EF0-4599-80D4-245BC89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4C3E-49D6-4D20-8D65-46C384B6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9881B-0482-4ACA-B7CF-792EB5E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BCC71-76A5-4608-8673-8BCBCAE3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5C78AA-0ED3-4860-8524-4184275B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037FE-8D50-4F24-BA23-6B88AE98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A16E1-FBF7-40D5-B441-F8B655F2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CB3296-CD75-457A-9CCE-0DA31C11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C0070-26A2-49D3-922D-DDB99FC8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1F571-56A2-4162-B446-A8FFF4AB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B7D95B-F4D1-4446-A190-6B004B63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E8290-F98B-47CD-832B-6A28D841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A533-76DC-4927-8DD3-E33F4E4F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EF8A0-D54B-4AC6-A7BB-1BD614C8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74B36-6CB8-449A-866B-D120B7B9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BEFE1-A233-46C0-AC15-D39A91B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C9B0D-2B0B-4162-8D21-26867CF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55B13-F398-406C-84B0-0E991A7A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09B61-391C-451E-BEF7-0F33862B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9E9D6-A9AB-4162-A4C3-87597BAB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27D1A-4E2D-4483-9682-5D9C1F69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63E598-ED7D-459D-B01A-64B1E8C9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73109-AED5-46B6-96C4-E4378219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1015-6FF7-4F89-BF06-B7527FAA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29A26-0240-42D6-8953-FA20DBC6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874D8A-8216-44E6-BC8F-4647C011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5E7C73-4FB3-4581-BD1B-8C41AB46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0B6D03-427D-450C-AAE0-DD64DDF6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86E2E-F877-476A-ACE9-70B70C3F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CC5DC-87D6-4F13-A867-E3FACE4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5E26F-D7C6-47BA-9A34-CB3C23B5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5D30D-A9EF-43C8-B8A0-1A66A316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F911D-9005-40D8-99D7-D165C42B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0E2F60-6192-49F2-9E1C-FBF1C64E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FE4B-F1D9-4237-A18E-D65D910A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A01459-95F3-4D69-A4EE-23DA0551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0DB33-60B2-4BEF-BCF1-722BFD84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98B212-15EF-40A7-BBCF-010B14FB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4D6A3E-6EFD-48CC-8A0A-85CF3752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1038C-56E4-4EAA-AE5A-328D8472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CCAE5-444A-4849-9F00-BF1AC13B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DAEDC-E4C4-485F-A07E-82042027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AF43B6-4E2E-45C4-9A64-34EF7598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8D20B2-6016-40FD-B144-0FF931C2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92616-D843-4E4A-A102-463C38B0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D68F-A8F5-4F08-82BA-819D6B7D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78EFD-AB88-40FB-A216-60E19744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3CAA35-6ED7-410A-B672-D843AB38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E4325-775D-49CE-A707-680FE5C5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C185C-A491-4AD7-A368-614F1EB3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F66A3-AE56-4F9B-B0A0-59073DB0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29D8A-B721-42C8-AE20-D99E53F6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7B3B05-0886-48FA-9E15-0675C077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D8E6FB-D944-4C4D-958B-2F3A416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AA18B-284F-44C2-A714-3F0C1F8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214CE-1FC6-4672-8629-C2E6BDE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FDC5D-202B-4851-93D3-B7C2DC68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38CA1B-B063-4662-B9F7-7A3F23D5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7C5AF-32BB-4FAE-A7E3-61AF614F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1430C-80FC-41FF-ADFC-0C072310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30F829-1F6E-4F28-BC5E-EC29AEC1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7917C4-B5EE-4888-9F5B-20EC9A89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F37630-E12D-4C91-80A8-3E17DCA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4F266D-A093-4321-9CB4-F284479B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207C0B-8A54-4CE7-BF6C-0AF3F990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73DE1B-464A-4703-AAF6-852588EA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079BCB-5C46-44F0-8AD2-AE7972C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4377-7E3A-4075-99FE-AD5358B2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77DA6F-765A-4F00-94AF-18CCF29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E2B981-4EF3-4721-8455-0FFD3B9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FF7679-B3C7-41E5-B6BA-FC0C34EB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FC896-7C1E-4D8A-A5C2-0E0BA7AD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8F9B3B-6FC1-41D8-9FD1-29EC0251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D8447E-4FD2-4F9E-88E4-F12F5B0D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D7C877-C56F-4757-879B-7FE2B164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22B08F-E32A-4BFD-89BB-CE4AF392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6901E5-3245-4278-988F-BB8C5866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0AA81-E9B5-469E-9340-DE476F3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A479-3EC3-472E-BFA2-8C49BDDC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9F115C-4F8A-41C9-AD40-1F4E23A5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C7E5F3-DD69-4A0D-9938-0B05938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CA4218-E0BB-4692-9E39-4BB9B65E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8028AC-7D2B-4D71-8AE5-427AADEF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B6C32D-B93F-4479-BA0A-130D9E1D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5E0AC3-9F70-4980-A434-2C7267E5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5D2C9A-DA1E-40DE-9D87-A515B43F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9D58-EBFA-4134-AB89-C8CE5C95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EDED-CBFD-4DF4-B8E9-8DE4AE9E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D58-04D5-4F10-AEF8-6335EA29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B40F-27AE-45EF-AAC1-25EC0A9D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EE4F-D838-4C08-980A-FE7DE07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7B44-2753-4D77-895E-6A502BD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A3FA-3483-4B06-8730-F03208D8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D654-F3C5-47EB-8060-E3DD2BE7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CDD4-1181-4AEC-8D99-DB6D0ABA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2117-7C7C-42F9-95DA-D2255F79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2C43-CD2B-4E0D-9643-D9FBCF20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0145-2C1A-427A-BE44-A0D39176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3EE1-3C6C-4321-B3E2-3328B453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BBE-3701-41C4-8770-89F24043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3E4F-5CDF-49BA-B1C1-BAA40FB7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88EB-45C1-43E7-984E-AB46B90B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4D3A-33AA-4FCA-9427-F2991A9F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5316E-CD2C-4A1B-A390-1D6B74A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F7FC-1EAA-42F6-8C64-0FAB5BA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5A812-E5B7-42D3-81D9-D82683A3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A472C-BAD4-4F3E-85C5-C5C37362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1610-4EF7-470F-B0F3-BF2ABBFA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9805-CDBD-433C-B4F9-9A05DC57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EAAD6-AB75-4964-831D-2E89C55E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134-271C-46AF-8594-08535D30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897BA-C3E2-4968-9156-275E9D6C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1ABB4-C32F-4E8E-A56B-201513D2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EA315-322D-4CDD-BBB8-060300BE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7BD60-C8BD-4498-A1CC-E519239C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F3195-86D6-476A-AEEC-F354FD0E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7FD65-C8C7-4599-881D-4205E509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FCA9-51D3-4359-9AA4-0516D87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4371-322A-4CD2-AD86-E9AE7EB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6935-612C-4B9D-8686-494FD91B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FA26C-3E89-42AC-AC87-DD95A9C2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A94-BB7F-4E80-BF38-7488EE1D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D6B28-B7B0-4CDB-BD76-E39EF743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2DB48-EF2A-4DE5-A034-E3BE9907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0192A-BD3B-4901-8D5C-0CAC2470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8DC40-413A-4E19-8AAA-3ADED16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64204-B6DF-478D-9BBB-326E8873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768D9-5D50-4190-BCCC-0BABDE0B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0851-90FF-469C-96F7-12209A6E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2970A-139C-4A41-901D-729828C0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55530-168E-4C69-BA15-DCE217C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60122-0512-4955-AF4D-1BD0C303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BFD-3AF3-4FF4-985D-CA994833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748E2-F304-41BE-ACFE-28D9946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2155A-27AF-4704-9E12-F27D0032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D3356-B188-4D95-81FB-32D9B17F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1D14-0AAE-48C7-84FD-B0C3881F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DD5F9-0690-476A-AE25-EE91825A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ED928-AD52-42F4-8447-571C79E7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C2BC8-8258-4357-A562-D6B4322A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2B8FD-C517-41D8-A1E4-AA6B9DDA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0C60B-1199-4C5B-BDBB-A89F0007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54288-56E8-4D19-BD54-D6E1630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470-B562-4A0B-9024-212C7F69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23135-49CE-4B5D-80DA-6C3F141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4D952-DA7F-4A4A-BE31-018CBAE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77A37-54E8-4BF5-98FC-31D5CF8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63DA6-C420-4FFE-A484-680F055A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AB06C-ECBE-4FC8-BFE3-2E47FF63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41A04-1E2D-4861-9AD6-A445E686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63000-B3AB-4344-AF44-DD73E4B6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5B278-164A-410F-BF13-67BAD494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0B3E9-5345-4721-AD1B-0742415B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009B2-A198-406B-9E56-87F5155B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8AE-CFF8-4CBF-806D-51EA02ED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A830F-533B-490F-AFD0-C1CE87E7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4A3D4-2B4C-419C-9A79-AF53AD8A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2E2DD-C2E0-407E-80D9-4EB27130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D2E5D-F10A-4CA6-8755-CEF63EF0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E0E0F-847C-4703-B7FE-13EE7E36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DE770-A5A2-4655-A03F-E6A5E0CA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00E8-EC98-4D52-ACD3-5A845F9D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3CFAF-D628-490E-8954-27D92E74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9182A-2C18-48F2-B7C2-1767C107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40B35-0B3C-473A-BF74-3F1893F5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088E-F050-4C4B-99B2-65B615A7BC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08CB-D32D-40FF-9C86-EBE7177305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CDDA-BD32-4368-9B82-6EDB438FFC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F62-C8ED-4650-9568-20B980E23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4D1D-765D-4D43-955B-94E7888CE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F46D-A723-4EB6-8884-D901B9BCF6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CFE8-7C3E-4D1D-82CC-B6A38B5073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CB63-22A6-42A1-99BF-68155B805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36CC-354E-4836-83D1-D7A240A494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E2C4-CDEB-4EA5-883A-1219A6670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450-C4C6-4EBF-9E9C-2B85B553F2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ED81-7F65-45A9-A8C8-360EE65964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6D74-D9A3-4434-91A2-426F652C3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608B-8606-4448-8C66-36B860130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338E-EE45-4C88-AEE4-D69D25B95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7CCA-6DFD-496B-A8CB-DD8A99D0D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D167-D940-4550-8857-4B90ECB3E0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B0F0-4D48-4178-B424-E69E3EDE4F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778A-31D4-4051-80E9-EDCDAD7D6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68D-76C1-455A-8EEB-F20B744184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300-D9B9-4219-8365-FB0968A6A9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ED4E-502A-412D-99F5-237B62EA3D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23A-3F34-4DF1-92DB-E49C32F5ED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F8A2-8032-4153-A432-AFC2D07445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39CE-9147-4EBA-858C-87B1458A5C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063E-1602-46D8-8D04-C6C1EB2F0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2B96-B482-47BB-B277-4CBF0DA48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F7E1-8E74-4980-8303-6D0834401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D277-DECD-407C-967E-56263F75E4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D53-F2B8-4BD5-BFAD-00317D39CF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EC0-7F55-4820-A473-5D9D60C042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2FEF-A91F-4B62-AAB4-01B95F56F2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5555-5FF7-400D-AE10-1F426C9054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20D-8E58-4CD5-BB18-F1B1C5C2A1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CAC3-1ED5-4B67-A4CA-A263C42880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14F1-7872-4799-9D3C-D38534286C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9D16-8CAD-429F-A94F-1F7A01E458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795A-A37E-4B05-9D51-399868B39B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49B1-50B0-496D-A6C6-76FE2D13D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0E30-F617-4512-BCEF-71BE98C97E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A4F7-88D9-4B6C-8B90-686EB1536C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558F-609B-4D0F-9934-242E71B45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64960" y="3005280"/>
            <a:ext cx="87728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971640"/>
            <a:ext cx="8705520" cy="55148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987640" y="175896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651640" y="2276640"/>
            <a:ext cx="3241440" cy="41767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667640" y="171612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28560" y="1057320"/>
            <a:ext cx="7886880" cy="4743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024360" cy="33112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987640" y="106668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3240000" cy="41040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308720" y="1036800"/>
            <a:ext cx="151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8705520" cy="4876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71640" y="28526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4932360" y="23335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971640" y="449424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7"/>
          <a:stretch/>
        </p:blipFill>
        <p:spPr>
          <a:xfrm>
            <a:off x="971640" y="501336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8"/>
          <a:stretch/>
        </p:blipFill>
        <p:spPr>
          <a:xfrm>
            <a:off x="4932360" y="450864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9"/>
          <a:stretch/>
        </p:blipFill>
        <p:spPr>
          <a:xfrm>
            <a:off x="4932360" y="5027760"/>
            <a:ext cx="29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209520" y="1019160"/>
            <a:ext cx="8724960" cy="4819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6804000" y="4164120"/>
            <a:ext cx="180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233280" y="612720"/>
            <a:ext cx="8677440" cy="61246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476360" y="5734080"/>
            <a:ext cx="741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476360" y="6237360"/>
            <a:ext cx="741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731880" y="119160"/>
            <a:ext cx="7908840" cy="66196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187280" y="2205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1187280" y="270828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1187280" y="3213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1332000" y="472428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1332000" y="522936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1332000" y="573264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9"/>
          <a:stretch/>
        </p:blipFill>
        <p:spPr>
          <a:xfrm>
            <a:off x="1332000" y="6237360"/>
            <a:ext cx="67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71360" y="760320"/>
            <a:ext cx="8801280" cy="5848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826920" y="352908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55640" y="512928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11280" y="5589720"/>
            <a:ext cx="8137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179280" y="1138320"/>
            <a:ext cx="8785440" cy="182232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2" descr=""/>
          <p:cNvPicPr/>
          <p:nvPr/>
        </p:nvPicPr>
        <p:blipFill>
          <a:blip r:embed="rId2"/>
          <a:stretch/>
        </p:blipFill>
        <p:spPr>
          <a:xfrm>
            <a:off x="1271520" y="3273480"/>
            <a:ext cx="6724800" cy="2162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27672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29876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651640" y="1557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5580000" y="2060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8423280" y="1557360"/>
            <a:ext cx="46980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8459640" y="2060640"/>
            <a:ext cx="47016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9"/>
          <a:stretch/>
        </p:blipFill>
        <p:spPr>
          <a:xfrm>
            <a:off x="327672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0"/>
          <a:stretch/>
        </p:blipFill>
        <p:spPr>
          <a:xfrm>
            <a:off x="2916360" y="4508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1"/>
          <a:stretch/>
        </p:blipFill>
        <p:spPr>
          <a:xfrm>
            <a:off x="637236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2"/>
          <a:stretch/>
        </p:blipFill>
        <p:spPr>
          <a:xfrm>
            <a:off x="6545160" y="443700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7:0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