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F99-9398-4B50-BEFB-B7A95496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A95-DF38-4865-A88C-34F19633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11FE7-5512-44D0-9216-09688BB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DDE7-234E-439B-9490-A91C9909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29638-6D76-4AF5-B5FA-BE36B94F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48A33-5ACE-4375-9438-C6D7FF6E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F548C-8388-4B4B-88EA-32AC91D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D1B4B-C424-42F2-B0FC-DAAC0F4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42222-F5E2-4FFD-A77D-E194085A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5BF7C-2885-429A-A126-AF48CBDC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0F047-3FC8-4D3E-BF3A-390881A8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AE362-72C9-4866-83AD-94BD0132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357-A547-40A7-A663-696796CE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07B49-6965-4158-A336-27166D9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A40B0-14ED-4E02-8C88-EA036CCC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B532F-6606-4A5C-AB12-6F8CF59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45F6C-A922-421D-91DF-6C95FF01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67E62-E02D-45F6-BD4B-84E716A9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F979F-BF86-45DD-A728-6F8C315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5FF08-0057-4D4E-AEBB-AFCEA301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DC7A8-6C04-4E07-93CF-5836418E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EB125-9875-4ABF-93A6-CE1733FF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44178-603A-404F-8604-DCF2DE0E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B5C-290F-4499-8B00-E1279AA7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06911-96F6-456A-8AB9-8D9B425F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A87D9-C758-4E00-96CC-430A326C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D657C-B31C-4CCF-8E85-6590B8D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680A6-0853-4E1E-A48B-87A14726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75B0F-1649-4BB0-A24B-0DA1D709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9D18A-EA0A-474D-8CD7-8D5FF8CE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7CA7A-2918-48D7-A48B-F819561B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B8FE1-5C19-4325-B88F-EDF5E5C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AE1F7-2C33-4141-BC47-FD4F665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7A546-84E7-4909-AA5F-128E2D2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6258-B398-4C24-A600-482BC1DF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23DFD-B2C6-4ADC-ACB4-D0393F74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7994F-ECBA-41D5-8F0C-4A3322F8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26148-9790-4B83-8876-123F5F72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FFE31-634A-4463-BEFD-650B7FDE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14D29-BF14-48F7-A2F3-AD589C6E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DC551-B4F1-4006-B1A5-23F6E1F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D2D2D-78B2-4779-9C90-C30B235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E3519-1C29-4E2B-85CC-CABAB297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26299-FAD3-45C2-91DB-95BB1146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FE9DB-6F1D-434E-B38F-3B9E1E4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593F-9DFB-4587-855B-DF7D1290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B6CDA-BE0D-4AE0-9DB7-0F94B84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20AE8-37AB-4865-89C7-D07483D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68B7B-F898-4E3C-93D1-A413BF5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20926-375D-4BA4-A2B7-583AF923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7BB9A-2B8D-414F-865B-F269DD9E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2E0B2-6AFE-4E1E-9027-E60A7244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AC6EA4-6776-4382-AACC-AEAD4009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BC25A-1D2A-4ED7-9EB6-0FC91F5F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02C67-894C-4CAA-A379-B7341C23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317DC-B962-4EED-82BC-D320DB5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55D9-ED48-473B-BEE8-82FD8E43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F9D2C-7CB2-48CB-9752-B5403C61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BAFC5-6859-4158-8645-2F71C9C4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03215-58B1-481F-8718-A46ACF7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ACF3C-4A96-4E92-860C-C77E4F5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48DBF-0A14-4132-B56B-B6C6E01B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6F8C3-9B5D-4540-BE1D-A843A69D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16236-8D4B-40A1-BC87-8A2242C5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2AD75-EC97-4A52-8BB7-0186BE06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802FD-2AEE-4D6C-A254-5821E5A0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FEA07-B48C-4654-A93E-9817CE4D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16E2-054A-4EAE-A61D-3AB7BE5E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80CC0-F965-4020-9EDA-A19BD10C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9914A-73AF-4093-8539-EB15EBE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49284-291A-4C68-816A-414E5E5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9C4A8-519E-441B-ABC4-DD72AB4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A31D3-17F1-4BA3-BF4F-E8BC1A2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5EFB8-2ACC-4228-B6A1-F493616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7DA1E-4D2C-4478-83CF-D866622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29E2A-D0BB-41FA-90A8-28E037C8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7E8E7-BCC0-40AB-8D8C-4E70E5E2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346AD-DE04-4DCF-A955-048087FD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5F1-3288-462D-9033-D16636AF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3D07D-0BA1-4C10-90DC-85ABEC6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388E5-65F7-4847-B710-AC7C4FFD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E204F-F571-4A13-8FFA-89CB641B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E4E54-8067-466B-B5EE-985A7DF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04EA9-A09E-41A1-98F7-68772CD8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7BDE7-0457-4C45-A249-9553D16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097FA0-7EA9-4D96-83E1-2B1973A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2EE10-BB9C-4851-9824-E997F67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DEED27-28AD-496F-BB96-0934A41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B0D6A-C657-45E7-98D1-86F71B07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7BB-30C9-45EF-B7F0-5A93A166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5249C-4601-4FFE-89A5-CEDD9A0A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97F2B-5889-4252-9830-7DDA83F6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CED41-3A97-40C8-8D8A-1E3BD70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B3638-2DD5-4892-AD7E-7A48F81E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583B3-E0B6-4548-9BEE-0088993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22B9D-1565-449F-AF62-553FD2EF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D3D90-5F82-4923-94B3-E2D81CEF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ADFDE-4812-4131-9D7A-4F3441A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FED4B-2A0A-4B8B-AEE9-DD26796D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AC2B83-6D2A-407B-9BAF-82A572E5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7593-C03B-4559-AD66-E1EAF10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D51E9-A90A-4A98-88F3-E4CAEF7A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0D46D-2B2A-4015-973F-354D1F4C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A354A-367E-4528-9A4F-7357C43E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41C24-642D-45DB-8267-A146C6BC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00E10B-4C4E-4E87-831A-0DE877EE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34579-58D5-46A3-9F79-5AF6354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19527-E202-45B0-8E2B-7153BF24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5C273-1286-45C7-8D4E-8FBE6149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07617-1F26-4412-A1BA-994C7DA1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CD45E-4290-4BCD-AF89-2364858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1E9-A04E-4740-90D4-3B6B967C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DB80-22CA-46E7-A9EF-34F03D2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A102F-E9E9-4EC3-82DB-51B1D8AF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BE2DF-52E0-4CDC-AE84-F9133AF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4C087-2EFC-4194-8DE4-BD5BBA7A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F3AB77-56F2-4383-B816-965F63A9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5ABCA-8B64-4EB9-BF70-C7F8FF09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19879-3DA6-4F39-AE2F-8E80DBDE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F3B46-7371-4B32-B01C-F28545B0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A2701-EB0C-4511-A34F-F6AB61E2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ED0C5-28C5-4FE0-B3CF-DA65E16F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F4967-F026-4681-A813-8C5C868A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5338-51FD-4D4B-8996-CA0A306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BFD664-B4D9-429E-8D26-377DD3CA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13E47-4B34-4EDA-8B5D-93C0103E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EFF5F-BEA3-415D-A4DC-679CC209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D11C7-EB33-471C-BB6C-34DB8AA6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8D069-4871-498A-8463-F83F2574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E9611-F9FF-4682-8ADB-C3CE6BBB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D2CDC-18CA-436B-A4AD-ECDFBFD1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DA67E-1329-45C1-BE97-435CDB32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F10F2-4264-47F6-AFA5-D3DCACC4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37B32-011B-4853-A91C-1A4C284C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D2C2-D27F-4BC4-882C-EFA9C215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BD9B37-4D39-48BE-9AA2-AEAC7B7E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1DBB5-085C-4AC6-A48E-F907DFA5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B4B855-88DF-4BF4-B736-4CCB963D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62E98-0519-4003-AC6C-85B416FC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6CCFF-0907-416A-A949-697CD14E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6770A-7B20-4176-BD17-2CF75616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772559-3062-4461-910E-C160E053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E2755-AC62-45D1-9BAC-C9A6D16E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95E04-7BD4-43F5-8505-ACBAF714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C834BC-72BE-4698-9700-B7DFE249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936E-C2E6-4667-978F-C44BC024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4C008-5AAF-4369-BBA5-744937A4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F3017-B070-48D1-B1FD-638B949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C5D77-EE46-4464-B8F9-C01BCB42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C8728-DE18-454E-8031-B83FB83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4E312-CACD-42BB-A4DD-8E17496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4394E-7809-4BCE-AD00-6096DFB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0D54BE-D59F-463D-B2C6-428CE22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DBB62-F6F2-4AA3-AD93-44FE43AD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673AD-27AB-4381-BA3C-78878C21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86080-D4A3-4BC9-BE78-6257CA77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E64-D623-43A5-8EC4-2FF9B8B4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0CAAB-58DA-420C-AA08-389E03DB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53F3F-F763-44CD-81AC-67364D89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00F3E1-D1E4-4798-BE78-26B3BDF0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37D65-A234-4254-9124-5A0C7D13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E50404-AA22-4549-98BF-0D7FAD86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912D0-C0A2-44EE-9771-56ECB58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CFF852-CEBB-4929-8A2F-F9F4FAA4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5B22B-B084-415D-954C-07FC1F6F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224DB-53C3-4CF1-B411-3C799B02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83E9E-D40B-496A-81EF-F689F975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6C21-191D-4F68-98CA-50947DA0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5133D-14A9-4FAB-A790-66C27726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91B26-E5FF-494B-926D-5BBCDEAE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A175E-F958-42E9-8832-751C3EC6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A9F2-2B9B-4D8C-8255-ACC0F6D3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D0F5-D0AA-4317-A532-50606FE3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ABC5-C627-48B6-973D-DE6F57C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9E1B-9F14-4B08-933E-E795A04B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B6D-7B36-4520-8E69-D8283E4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E2EC-2D25-4901-9BAC-9C0325B8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B164E-04B4-4A1C-BBED-BC816D75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23A6-108D-4674-835F-FE5D791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47AF-6355-4DE5-A636-4CEE713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63F9-5AC9-4809-8C42-286D7CBA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1A26D-B209-49D4-BA37-4FA00252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BBAD-986E-4C08-B825-11E6075D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3B3D-B560-4D96-9F79-150FB905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70B9-46F6-4041-8A27-C7066A3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BBD2-236D-43E0-BFE0-6C8C706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2A9-3968-43D6-A51A-B7B869CB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556D-A19D-4141-8C73-5DA8339A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DF03-09B7-4109-8F74-23CE294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8CD7-39E1-4F3E-A72F-1900DDC9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E27D9-6187-48C5-BACE-C13AB02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BCE22-A7A5-4523-900E-8D0FE12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28F9-F8BB-4A8F-BAE8-1E85E157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7A20-2B61-4336-9D85-1751F18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72C8-CEAA-4C2F-B73C-5F787F99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7832-6763-4A92-A94C-2DFEE136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7B71A-A6EE-45C3-8CA5-FD367949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813-DD90-4AD1-8CEE-2614C09E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72E3-8A03-42D4-AECE-2C71A7E7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EC11-6039-4EFC-AB73-A0476D0C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D412-FA30-4346-80DB-90210CA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3147-A402-4F16-8C3B-EF6B9F6D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35A0-95EC-44B6-BB1A-C0AC2A3D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8EFA-C23C-4EEB-9606-67F8735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CE23-6835-478D-8E42-A316EDC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4084C-0BA1-4801-AA88-EED5520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80CE-8341-4F7D-B2C5-E8632E2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4B7F-50B8-46C7-9E39-222B8AC0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10B-3ED3-472E-AD8D-143273E8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1209-E096-4727-8547-0C1241D5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C72C7-B8B4-4D47-8A7C-5C322F85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11BB-AFED-4969-9C67-8AD1782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99247-71B4-4C65-94AA-8C1FC48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4710-D82C-40AA-ACA2-95AF7DB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9EE5-B099-4CF1-AB40-22D9CD86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F816D-1914-4421-BDA6-103CA6FC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4D68A-D59A-47E5-809E-4095FCB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184A5-7D77-44AF-A851-E24A7797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7BBAC-1B41-4E4C-9EBA-D596667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42F-EAD7-4460-A3FA-FEFB065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6C26-A1A7-4AF7-B6A0-37C38213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131A-A03B-4AE9-8796-27C4289A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6844-688D-48B3-B3C5-1055F6D7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4F371-DF2C-478C-A20C-EA0027D9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F39F8-C979-42E6-AF86-04B420D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C5CC-A482-49F0-9148-9651798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14F8A-1E93-4ACC-90E9-A36FFC4B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A10C-7C7F-463D-AEBB-636C9F04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4EEA1-CDDB-4288-A961-3EBACE1C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DC139-AEE6-4BAA-BE05-7C3A8FE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3AE-FC64-4412-B06C-0B19B82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F860-0574-4EB4-A582-089CA1B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425E-3A05-4BFA-B654-8E97AA63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874B-0574-4844-B35C-AC3A0293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F4B25-7DB5-4842-8BF8-4A4C3249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D6BBF-B7B3-40A4-89EE-79821298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DCC0E-F31C-4158-8459-A7A8D99A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65D28-3571-421C-B9A7-5A79A446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1936-0B76-44D1-8A1A-B3294699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A32C9-1A10-4CEF-A76C-602E0F5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BD58-4ECF-430B-930B-D0678AE1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5D1-1AF4-4744-AB4F-B09E87B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863DB-F0A0-460D-B2E6-6142F674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F6C15-E95C-4387-9739-9051ADC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6B4A-165B-48E5-A00B-42646FD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6452F-9EFC-4070-AFFF-D7321724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2EE45-1B0F-49DE-92FF-33A5580C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CD3C8-0574-43F4-93F1-2AD6CE15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9B32A-CCB0-4BE8-B536-CFDB4C52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709BC-B67D-473D-82E2-9CB5D438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5388A-D3B0-4531-9809-0DE24606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1FF3A-B87A-46A2-8F3B-0B05E835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2F5-25C1-46C8-8604-ED0FD04966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F6F7-9C65-4C8C-9F17-9D1CE379A6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08AF-348B-4925-82DD-D886EBAFC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05AD-5021-4FA0-A7DA-1425614B4A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5BCA-899E-4305-8507-C23701308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1D5-3B87-4CEF-A61B-AB202EC39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C8E4-7075-48AF-869F-E074D335AC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6A8-8317-44FA-B5BC-79F49B530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DC76-B691-4F77-834E-78FC99C870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CC0D-AD73-4334-A6E0-B076EEA8D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30D5-C1EC-4E93-AB84-311E767C2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F1CD-7803-4702-9353-50619CB57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40DE-35BC-47FE-86F8-0555A239C8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B80-390B-4836-9CC7-3F08888B48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0CB-FC22-4EC8-A4C2-E3EAD4A2B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40D-069F-41F8-B0E8-979091A15E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BC1A-A7FB-4FC0-97A8-6F5FDBE48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F7A-A0F5-4E6D-B049-BB1375A8D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234-7183-470B-B667-9BDFE5377C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80B2-5E04-4018-94CC-F2DE045C8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2961-8EE1-418A-9394-CCE28CB62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51B6-FB01-4BCA-A3CA-2EF260E3D1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8FC6-CB80-4EF0-8167-B31AE0F52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62BF-2D37-4CC2-800E-F110C8C269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7A1E-CC75-4B92-BAFB-9C51ABCF1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40CC-50A1-41C5-B080-B5EB9B44DC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9A1-799C-4415-A6CB-45AB805E4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0B1B-D7ED-4285-9F31-7236032F1F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258-70D9-450C-A974-0E5405257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E2B3-54ED-4530-B48D-470099105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91D1-EECA-4A47-904D-EE849897A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B1E7-F1F3-4CAF-8516-1540419ED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DCC0-4061-4C01-A086-86CC1D1C6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E43E-1CF2-4AA5-B9F0-28427497D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EE13-3B4F-4024-9843-C9DE2C75A7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16EE-01B0-47CE-8F2B-0B872471DF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5966-DECF-4E47-9818-54809D0863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FEAF-CD6A-4FED-8795-DFB4BB7B1F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2D81-8CA0-4C39-86BA-7FB7B40DCF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FAB-0E6F-4155-B851-2E7B4AB057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12920" y="2997360"/>
            <a:ext cx="80467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304920" y="766800"/>
            <a:ext cx="8534160" cy="5324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4788000" y="247644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932360" y="327024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932360" y="4738680"/>
            <a:ext cx="287964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5003640" y="5516640"/>
            <a:ext cx="288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68609" descr=""/>
          <p:cNvPicPr/>
          <p:nvPr/>
        </p:nvPicPr>
        <p:blipFill>
          <a:blip r:embed="rId1"/>
          <a:stretch/>
        </p:blipFill>
        <p:spPr>
          <a:xfrm>
            <a:off x="614520" y="1581120"/>
            <a:ext cx="7914960" cy="36957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3564000" y="16146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140360" y="2349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4932360" y="3141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5651640" y="387504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4356000" y="46530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6659640" y="465300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67585" descr=""/>
          <p:cNvPicPr/>
          <p:nvPr/>
        </p:nvPicPr>
        <p:blipFill>
          <a:blip r:embed="rId1"/>
          <a:stretch/>
        </p:blipFill>
        <p:spPr>
          <a:xfrm>
            <a:off x="209520" y="1514520"/>
            <a:ext cx="8724960" cy="382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3280" y="716040"/>
            <a:ext cx="8677440" cy="5952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2472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80000" y="393372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356000" y="465300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124000" y="544500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124000" y="619452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81120" y="723960"/>
            <a:ext cx="7781760" cy="58006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140360" y="765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2124000" y="15573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987640" y="22766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724360" y="22766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2268360" y="306864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6688080" y="3068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1763640" y="530064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6012000" y="5257800"/>
            <a:ext cx="2663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898560" y="6021360"/>
            <a:ext cx="201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576360" y="1952640"/>
            <a:ext cx="7991280" cy="2952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692360" y="2781360"/>
            <a:ext cx="237492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2195640" y="429264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932360" y="429264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7352" descr=""/>
          <p:cNvPicPr/>
          <p:nvPr/>
        </p:nvPicPr>
        <p:blipFill>
          <a:blip r:embed="rId1"/>
          <a:stretch/>
        </p:blipFill>
        <p:spPr>
          <a:xfrm>
            <a:off x="257040" y="1181160"/>
            <a:ext cx="8629920" cy="4495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667640" y="2852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66764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7667640" y="5157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614520" y="1219320"/>
            <a:ext cx="7914960" cy="4419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738036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738036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308720" y="50277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285840" y="1147680"/>
            <a:ext cx="8572320" cy="4562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916360" y="358776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5767560" y="3602160"/>
            <a:ext cx="11095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3030480" y="512748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5881680" y="5141880"/>
            <a:ext cx="11095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666720" y="1962000"/>
            <a:ext cx="7810560" cy="2934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2700360" y="2795760"/>
            <a:ext cx="223200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594036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2700360" y="432108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445080" y="4321080"/>
            <a:ext cx="1366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33360" y="2071800"/>
            <a:ext cx="8477280" cy="2714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2684520" y="31701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6012000" y="31845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2670120" y="41353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221600" y="41338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4:1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