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399-7B7C-499D-B1A6-CF8D4804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981-816D-46E0-A804-580AE587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096B3-9B1A-422A-9E30-1FBE9556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5ACF7-8E95-475C-A269-37BF4D8D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A7B60-03BC-4AFB-B058-87298BAC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F6133-B73A-4F7F-B899-AC6A406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21CD6-DBEC-418B-8FB6-A21872A7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B3C78-F6F6-4C25-B70C-63B1BC41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3F11C-C821-4924-BDC7-CBB448E4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CA790-7BD8-4BB5-938B-EDA1AD72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F6908-6F21-4C0C-B46C-05CE5095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C7759-5C20-4999-9519-11D9F315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32F-7A35-412B-9BA6-97AE0186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C2242-CFD5-43F4-948E-01F77DF0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B3A59-D40D-47B5-AEEE-8C549BD0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6DC4D-4508-48C0-838A-3255ADDC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05C19-1319-4A9D-9E22-2ECB066B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76678-553A-4341-8271-CD71E3D1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E577D-0517-4C9B-8ABF-F3D4104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E1676-0166-4FB4-9EAD-1FCE3289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AEDE3-370F-4EBC-B5A4-B4AEB14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E4BF9-E080-4BF8-B599-A8DEE1C1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604E-DACE-40B2-8444-19B710D0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AE3-F9DD-4DCC-96B7-394A74D0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1C0AF-C5F9-4ECA-82E3-A4C674F6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B0615-EEEC-48DE-94F5-AFAF42A4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CC7F8-7371-463A-96B6-DE7E8BE7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EE730-9FB7-4AD9-B2EB-56958DF0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613CE-A32A-4ECE-80C1-D924A5D6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E3228-8689-4FE7-877A-9A7E59B5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2637D-2ED3-4719-85CB-6883871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33553-DACD-46C1-B93A-8E16AC16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4B32C-CC35-4498-8627-E3D10530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E693D-C133-4867-B5A2-55293297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4942-8E00-4349-8E2E-B39A1ABE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1AE3B-84A0-4B23-9421-EFD252EB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9DDA5-978E-47D7-B393-08E836C2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CBF68-DA8B-45AE-A089-87A0A6FD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7B9FE-CFF0-4BE9-B51C-C39F055F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7A5B0-AEE3-4315-BA42-B7246AC8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FA5A5-1172-4594-ADFE-86FE97FA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DA932-C67D-4587-9719-5FF1824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5C628-68EF-44EC-85AE-622DA8C2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0BF7F-95D0-4013-95A6-2118F91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CC7F0-E290-4D5C-8048-3801B908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1795-C9F6-4D86-9AA5-C07BC32B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3AC29-CB43-4789-B674-7924BBF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28C59-0CDD-4337-B7C8-EA05D8D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21120-C333-441E-A54D-C41F96A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FF2A7-FF88-4B55-ACA4-4E65C373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3D492-DD3F-4BFD-B366-794C2066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953DE-9D13-4651-BCBC-B05C2E79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A4C23-18E5-4D85-9278-21EBD6F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E67AB-FDF9-4E01-B610-F9892D27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4987C-FD1A-44AE-8010-65B5173E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061DC-7426-4453-BCE0-8A8BF087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1557-B83F-49D9-958C-6692E109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E96CC-06E7-4CF2-BAF3-D2130994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0FADD-B6CF-4150-A1B5-3E55B85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D6DD9-04B7-4C64-A237-3D7C902A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4EEDA-FB31-470A-8397-5C517ED4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8471A-9431-40C1-B853-8D0B01D7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DDDAB-8AE2-4800-893B-A16DD593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867CA-9B4A-40B1-850C-F3644F55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B8510-DC96-4A91-B8D5-D5091E6E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95145-E298-4A76-8491-190F3712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EBA77-A424-415C-9C41-C1A45BA2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3D94-0842-4A35-845E-62AA3F8B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4319A-1C55-4843-8A60-3B790545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F1E09-5CC8-4B94-8D98-2E835629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76117-ADAC-4FEE-AD1E-1D7F2017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ED9AE-E3CA-4AEB-B47F-7F9A0EF4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76302-AE81-4F50-BBDB-56A0F9B1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94D1D-3257-4096-A892-04EB9D0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01272-EF0D-408E-B76A-F75F0706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9EAA9-E358-4113-B85E-C719C689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621B3-3464-40AB-8395-BD692EB3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20E94-CCEF-40E3-8069-DE628E14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D91A-A58B-4D7E-A2F5-B36B6220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0941A-597B-439C-A6FF-36C3F63A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4B1A7-C7EF-45A7-A919-0259F040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1CD77-9AB3-452E-B239-C75BFBA7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552CA-1039-4AB9-89CF-1FA61874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66E62-06F1-434B-9D33-991DF859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437A6-6493-4CE7-B64C-B798DA55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BE17C-FC44-45E5-A820-95293463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1BE86-85BC-4396-9208-1457F4A2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2C0BC-5CE1-4980-9CB3-C69BB0A8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310F8-79DA-410A-86DC-A00B6B74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E036-8DFC-4791-B21A-9DBFA283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FA07F-4DF9-42F1-8E23-24388FBA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7B829-E4BE-46F4-AF93-DF8F7E41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50A42-CF2C-424F-B9AD-98AE1516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E384C-BF42-4EDB-94D6-F1B0249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EF3EA-5DCB-44EA-AE39-CD3C2DB3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20BD6-8A28-45DA-8B71-7008DDAC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A04EC-9657-4D09-9A11-908047D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93211-7442-4D5F-94A1-A4BD1617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6C9EA-E87A-4AA9-940F-C4D38232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DB4EF-CF82-417B-9CEB-D49A4CE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0F2C-316B-4D0C-8713-C9B3A28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DBB33-F79E-41B8-A485-55D31033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AADDD-AE54-437D-AF3B-8AA4A105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B9BDD-EF7A-4384-833D-D95B57FF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8381D-FDE0-4B25-9DB8-75336A23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AB732-44B8-4A32-9867-14231018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F1993-D756-4D43-9E0A-6714D480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6CB62A-C297-4280-8270-C7F3D351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C4A50-AB9E-4E3A-ACFA-13293053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B950E-8064-484F-B8EE-0C7D973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BF40D-CFB5-43B3-9003-9CBF78F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B8E-3D44-452A-AFCC-1175F297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D6A5-DBCB-4DB5-AFE9-1CFBF4B2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506FC-7F32-4239-8EA7-02E4728D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9FC4C-9623-4045-B3D0-05CBB77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E7420-2BD6-4A78-900A-DACF2C1E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D1857-D963-4B39-87CE-1EAA2ACE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D2413-050A-4B7E-B532-C3F5E339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3A5A9-1284-4C4A-B4C1-E8B88A91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6A4E0-5DEA-4CC8-B2DF-21893AA7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3AD43-0FA2-4CB5-AF43-4E1C7604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AD609-614A-4FBA-BAA5-292E532E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24674-E676-4502-AF5A-2282D041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20A9-57CD-46F5-9C70-6CABED13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5B4056-0C02-4FC0-8B84-AAFCE99E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36FA7-3557-448C-875C-FF64BA13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51DA3-1141-4C62-93F5-8AB5F52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53A5FD-F66E-48F9-B564-AC5C4E9F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E5C80-E8EF-47B9-A8A4-48F93EC8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93B4A-B323-4A82-953E-BCF33B93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F13FC-FDA8-4043-81B5-DCC8198D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EF366-9190-4796-8E53-57E2676B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CFA57-122A-41F2-A10B-2B65D94F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2858B4-57B8-4705-A59A-ED9EDE24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6226-5D23-4CA2-82D3-C860CB5E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8C184-70D0-4C1F-966C-D2A2C332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42E4A-F47E-40ED-9B0B-DE343A72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8F41B-E846-4052-86CC-309E874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04175-CDF5-491F-8F09-170F2827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F16685-9980-41E5-B4D2-94A1FA16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8B947-61DE-494D-B0CC-457EC3B6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575048-42C8-4056-B588-D077D520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A953C4-88B8-405E-9632-C59CD332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5BF508-D6D2-40E7-9DBA-7127AB80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02BE9A-F3E2-4BCB-9AAC-A4DF347E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E3D5-33E7-431B-9785-62ABDD6C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FA39FB-1844-4C90-9877-FCB4440D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F5A90-3975-4028-92D8-FB2874C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3F0560-B49E-4434-8781-7FFD8624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D6213-E77E-4B3F-8EC8-76F4DCAC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B44B7-519D-482C-8929-5F7B5AE9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5C6525-BFF3-4D93-B924-0F0154E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6F033-C23D-4A50-9B47-34FE1BFD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CA0270-EADE-46BC-8198-4DE0EC94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C3D62-837F-47C0-BF75-97115088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53D84-5228-4D5B-8474-4AC2C089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AC74-33E1-4C97-A8F3-9284318A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17C60-5FBE-4B6D-A30A-176011DD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BFC07-4854-4173-920A-4F0DD429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57E5E4-94FE-4061-95E8-E056A27F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9025E-B8CE-4212-A95B-649AD487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E293FB-B783-47A4-A915-7E356B63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9AE89-C683-447E-8E6F-97EED32C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4C6C6-5342-4A4F-9A8F-5B62574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4B4F2E-3B80-49EA-B71C-CE7669AC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78F4F-5C5D-4C64-A602-F0364A24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B3303-6F99-43AB-B805-EEF8C06A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AAC3-F212-40D1-8492-6D6C83C4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C900B-20B5-4DB2-96DF-FCCB1D7E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3E8A9-8E05-41FD-BF19-AAB8695F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F3819-EA01-409D-B78C-23E7D918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82817-133A-440A-9E8D-F2BB0311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B2ACCD-FF0A-4C7D-80D2-554A8E11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3FA905-5E1E-4329-B2BA-FD64EB6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B5D04C-372A-4E70-B9DB-204B0F66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A92E01-B149-4A61-9375-3D1A49A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9DAF1A-826C-4EED-B2F1-70123C4D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C2E2A0-A397-4293-B5F0-F73584AC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6772-BC9A-49D1-87EA-B2F95C38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B217D8-44D8-4D16-9F1F-DC4DF0B2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B23745-2EBC-4633-ABD2-69636C0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FA5EA5-B308-41F9-8EC0-10CD0ABD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ABF97-2361-4898-8068-5EF24C2C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53598F-0CC1-4A0C-88C4-563DC3B6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D38E29-5D5D-4172-83CC-D7BBAAA5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3F6122-28EA-4CC9-80B4-65067190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6D43B2-2D16-45F7-8969-810B7BE5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8FE155-4C7D-44AB-9D8E-0CC4E7A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304036-CB1E-4AFB-8D7D-6E8E90F7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AA7A6-4AC3-457B-8C29-86ED3590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17CF67-B8E0-4490-BD74-9BD9EEB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58B2FE-D391-4588-B18B-322EB0B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F9AB27-7EDC-4543-85A6-78B8D74E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5BB543-90F7-4B66-9EB3-55A31B15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C1FB8A-5173-4E92-93DC-DC193130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E4E064-9A02-431C-985B-E3FE9307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C73ABA-0DBB-45A9-8BF9-851D3D79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E92C-89D8-4B3B-8676-5EAD74FD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604A-4C0D-4E5F-9247-DEDAED8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FD3-C2EB-49E5-B24A-360990BB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7B3C-FC4E-4F4B-B91E-790EA0EA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362D9-40E6-4A86-BE64-07AA991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A6ED-BF77-4DB3-837B-6B7B631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ED23-5833-4CFA-A032-C9095B4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AF54-EC96-4098-8046-F35C1CD9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CF7D-0A24-4461-A58F-3004A6D2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7A3D-ECC1-4C17-B44A-3452C72B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0ACB-861A-40AE-AD75-6D2A69AA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F1B2-8ADF-442D-91EC-AF6DCB01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B1168-E1B2-410D-BF16-BDD1DE8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198-0FEE-47F5-9B85-87EBD449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5496F-8F3C-433C-BEC2-675A4895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EE4C-1E29-4CBE-801A-02C89B2B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3E6B-0195-4804-80AF-7DB3D610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3DA0-E94D-4C23-9885-EE3F8E3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0D6D-278A-4612-8134-CB1AFB38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8E067-29AB-43D5-9235-85E2E5A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87E9A-62F0-49E4-848A-34077564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56A04-DB1E-4EF7-93CE-4EB7A570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7916-664B-46E3-80F7-1CB65070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DC9D9-DAEA-4D2C-A180-2700AD84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B31-D46F-4640-9678-F1322226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6A6EF-0B81-443A-B64C-21878B71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8239B-7840-4D3F-B200-E9E80325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8D80-EDC2-4807-BE77-82E1B7AC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E97C-0D82-4616-A588-05995AD6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A8760-8D1C-4CAC-BD3D-A9DC1D7E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4458A-6D5B-4374-A105-8DF89E85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C5A59-37F4-48CC-B7E7-B4B7FACB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C5AB6-0710-4245-B559-9C8CCCA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D5A5-30FC-49F8-BA45-9A40D3F1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4E37E-B7AD-48D9-A961-07107915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1E2-682D-43EF-BA5A-EE451C88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1CBB-6D5A-46B9-8BF9-8D7EE806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2300-9005-4305-BC86-B6979034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0DE8B-CE31-4D4C-9E89-3D3AC5C0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94A0-9A1D-430A-BB95-8A515127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9ED40-7E07-416D-BA59-66B965C5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AB397-478D-4081-9E56-28755DC2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7360D-2C72-430C-9B3D-2716BC1F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EE52D-2EFD-43C7-8F0C-33376A9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77278-99FB-4859-A362-6FD62BE3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40913-2AEB-49F9-A6E7-F9B5DEB9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62E-D623-4B0D-A9EB-8D02E1E1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7AE0-FCDA-4359-BDB4-545A5994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A3EB-1CE7-4651-95C9-E77D4CAD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4E82-28A7-4043-BB53-7AC4AEB8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8A2A9-6369-49EE-BC2C-563F9AC4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79655-7240-45EF-803F-F687599C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B0B24-7AE0-4BFE-96C6-DED401BB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22C17-AA57-455D-BDED-F7BE027C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68E55-B8B4-4A3D-9E22-F88CFB5E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6509F-789A-407E-9F1F-F4A5514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B9CD3-78BE-42B8-839C-7807DB52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0C8-BCDC-4298-9039-6054CF9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E3783-F402-42D2-8B29-7876154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EB462-237D-4320-917C-E6AA947D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56079-984A-4A70-BC97-CBDDC7AA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ACEB6-F8CB-4643-BBCC-662BEF19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F7120-8557-4C83-AF14-B6B28DCC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9DB8-E545-463B-93CC-1042AE5A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A593C-CD72-4D12-A9F0-19DF82D3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B871C-4C23-4C7C-867E-8056CCA2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8E360-F3F2-4747-868E-0301B23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E13C5-A5D5-4C3D-AAAE-5505403F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42B-5427-4E73-87F1-2D897E80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0B54C-89DE-46FF-A425-554D53E8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697F7-6E2C-4ACE-BB9D-F9EFBE1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C4239-D47C-4B6B-9AE3-101C67B2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D7787-A3EC-4749-BC88-10859367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20786-4D75-4F57-93FF-19EFCD27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0B0E4-35C5-4372-8ECF-4543BE86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E8AFE-0580-45D9-9C65-4F406C66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EC65C-2866-4248-AC37-F03D0367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E090F-B508-4D3E-9F12-BEA08873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ED6C3-6448-4180-8A63-82F2349B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0713-D83C-467F-854C-59618B3091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FDC3-89A4-4D9D-A18C-5E51D800B8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2946-2321-415E-A71F-444F20800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EA4D-4279-4331-B3CE-8B88FB36E3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89FA-B204-4957-B5B6-5B51A1903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9A1D-BB2D-46B6-97BB-DE3DC94507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7784-333A-407E-A65F-22FD69329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5AA6-A75C-405A-9263-8D498D0B5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3DCA-4524-46CE-90AC-3AB62EDB32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15D6-2DDA-427D-884D-E5B955F509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B4F6-EB44-488F-8CAE-F2FF4434B6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DE0-5335-4BE6-B897-434990ABEB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ED45-7D92-46A2-A523-2ECA0D6EB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510F-4C6B-4C82-9589-3A0506EBB4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9015-EF2D-4FFB-A9DB-95B427FBA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3CB4-B807-4A89-B0FC-FED2E68516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D085-EED6-4096-A4BB-2FA2E3321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1D0E-F117-4F90-B883-D3B6FF5376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B136-71F7-444D-9313-8BD776D990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084C-6EF4-45D9-9516-1EE7627B61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12F-E62B-4F82-A2C3-A4888FF4A9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373C-DD56-41AD-9027-A31C998A8C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6C48-3324-4FF9-8BEA-283B907CE9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4184-AAE4-474D-99CF-9285AF935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E9AF-C091-495A-AE52-260DE45512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E247-80F8-49F0-B648-09C1F0F15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538A-9438-4600-8FB5-D85EA8EA6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3B66-6523-4E0C-92C1-92D0FC035B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BF44-98DB-4641-8EC8-19603F3AB9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D41F-5DE1-42B0-9023-4976719AAA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E14B-8A34-4784-B6B6-61CFA6F59C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D754-E43F-49C1-990A-A88603286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00BE-53A3-400F-8B3B-C16E6301C7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3272-E307-4325-B259-B5403C63E8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960B-2BD1-4876-8B79-EC42CB46E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6A8D-6077-4941-8B22-CEBE23F3D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58A2-D24E-4199-955F-9E873BBDA8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E5C5-2B07-4E7D-A203-75E755081C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F3EF-AFDD-4E2D-8B78-DAFC2C8AF7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390F-1321-4F18-B1E6-5B83E9DD6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8D8B-5A1A-474A-B125-222FC0111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F6A4-13AD-4D22-9F46-32A0BE63D9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30040" y="3009960"/>
            <a:ext cx="8823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96920" y="1133640"/>
            <a:ext cx="8751960" cy="184464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" descr=""/>
          <p:cNvPicPr/>
          <p:nvPr/>
        </p:nvPicPr>
        <p:blipFill>
          <a:blip r:embed="rId2"/>
          <a:stretch/>
        </p:blipFill>
        <p:spPr>
          <a:xfrm>
            <a:off x="1344600" y="3767040"/>
            <a:ext cx="7124760" cy="2266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3059280" y="1557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3348000" y="213372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5867280" y="1557360"/>
            <a:ext cx="50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5867280" y="2060640"/>
            <a:ext cx="50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8272440" y="161460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7999560" y="207504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3708360" y="436572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3635280" y="501336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6732720" y="436572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6948360" y="4941720"/>
            <a:ext cx="79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62000" y="700200"/>
            <a:ext cx="8820000" cy="60386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932360" y="22334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908000" y="4249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2124000" y="62658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533520" y="1809720"/>
            <a:ext cx="8076960" cy="32385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752472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4427640" y="46245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385920" y="504720"/>
            <a:ext cx="8372160" cy="62010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292720" y="1901880"/>
            <a:ext cx="33116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5435640" y="260820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292720" y="494172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364000" y="5589720"/>
            <a:ext cx="331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681120" y="1643040"/>
            <a:ext cx="7781760" cy="35719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5076720" y="2620800"/>
            <a:ext cx="338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003640" y="3284640"/>
            <a:ext cx="338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328680" y="1743120"/>
            <a:ext cx="8486640" cy="33717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4859280" y="3860640"/>
            <a:ext cx="396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047600" y="1809720"/>
            <a:ext cx="7048800" cy="32385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28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04760" y="104760"/>
            <a:ext cx="8934480" cy="6648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755640" y="1036800"/>
            <a:ext cx="30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684360" y="299736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684360" y="370188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826920" y="429264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826920" y="494172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826920" y="558972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0"/>
          <a:stretch/>
        </p:blipFill>
        <p:spPr>
          <a:xfrm>
            <a:off x="971640" y="6237360"/>
            <a:ext cx="532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14480" y="309600"/>
            <a:ext cx="8915400" cy="6238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84660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841320" y="449424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826920" y="5157720"/>
            <a:ext cx="52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755640" y="5805360"/>
            <a:ext cx="5257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9:4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