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gif" ContentType="image/gif"/>
  <Override PartName="/ppt/media/image6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182E-F915-42E5-AF8C-BE078EE4B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114120"/>
            <a:ext cx="687060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6960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2804400"/>
            <a:ext cx="76960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6953-ED56-43A8-9D02-CA62027C6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114120"/>
            <a:ext cx="687060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5552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29600" y="1371600"/>
            <a:ext cx="375552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2804400"/>
            <a:ext cx="375552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29600" y="2804400"/>
            <a:ext cx="375552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1FE9-0B4B-4CC4-99ED-DA9CDF06F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114120"/>
            <a:ext cx="687060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4778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87880" y="1371600"/>
            <a:ext cx="24778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89960" y="1371600"/>
            <a:ext cx="24778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2804400"/>
            <a:ext cx="24778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87880" y="2804400"/>
            <a:ext cx="24778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89960" y="2804400"/>
            <a:ext cx="24778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81F1-86BE-4001-BEF0-642EB1CD0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5EF17-475E-4A4A-8F4E-98D8BF385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14120"/>
            <a:ext cx="687060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6960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41DC3-4535-47D9-82B1-FD8A05560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14120"/>
            <a:ext cx="687060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6960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B2146-25F9-4024-831A-9FF3876EC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14120"/>
            <a:ext cx="687060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555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29600" y="1371600"/>
            <a:ext cx="37555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71E31-F692-4A2C-BAF6-6B351B5E5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14120"/>
            <a:ext cx="687060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736B8-999D-4BFC-B76A-D5CC5B78A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685440" y="114120"/>
            <a:ext cx="687060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24A72-41EA-4984-84F6-E5F45B555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114120"/>
            <a:ext cx="687060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5552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29600" y="1371600"/>
            <a:ext cx="37555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85800" y="2804400"/>
            <a:ext cx="375552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373A1-947B-47AD-92F5-B9DD65E0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14120"/>
            <a:ext cx="687060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6960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FFDF-AFC5-42DD-85C1-BCB5DDD81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114120"/>
            <a:ext cx="687060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555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29600" y="1371600"/>
            <a:ext cx="375552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29600" y="2804400"/>
            <a:ext cx="375552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39AAC-7085-4820-BEF0-9DF5A7BF1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114120"/>
            <a:ext cx="687060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5552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29600" y="1371600"/>
            <a:ext cx="375552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85800" y="2804400"/>
            <a:ext cx="76960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66E93-C220-445E-BFD2-E6533F97C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14120"/>
            <a:ext cx="687060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6960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85800" y="2804400"/>
            <a:ext cx="76960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1C0AC-8C63-4CEF-B5F9-DA4461C33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114120"/>
            <a:ext cx="687060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5552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29600" y="1371600"/>
            <a:ext cx="375552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2804400"/>
            <a:ext cx="375552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29600" y="2804400"/>
            <a:ext cx="375552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2A704-4B62-4857-86CB-32B694BF0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440" y="114120"/>
            <a:ext cx="687060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4778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87880" y="1371600"/>
            <a:ext cx="24778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889960" y="1371600"/>
            <a:ext cx="24778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685800" y="2804400"/>
            <a:ext cx="24778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87880" y="2804400"/>
            <a:ext cx="24778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5889960" y="2804400"/>
            <a:ext cx="24778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DF49F-EDAB-469F-82E4-CE667C948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14120"/>
            <a:ext cx="687060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6960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DDF0-A0BA-424D-B70A-ECDBDBF15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114120"/>
            <a:ext cx="687060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555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29600" y="1371600"/>
            <a:ext cx="37555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ABA2-2CA6-4773-ADD2-75E337BE1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14120"/>
            <a:ext cx="687060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D48C-AF18-4D4C-B42E-F0CDA365F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440" y="114120"/>
            <a:ext cx="687060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FDBE-432E-449B-AFFB-15A8617C0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114120"/>
            <a:ext cx="687060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5552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29600" y="1371600"/>
            <a:ext cx="37555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2804400"/>
            <a:ext cx="375552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99DB-A84C-4FF0-BD1D-FD7E24B88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114120"/>
            <a:ext cx="687060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555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29600" y="1371600"/>
            <a:ext cx="375552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29600" y="2804400"/>
            <a:ext cx="375552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6FCA-E6A3-4C33-8F24-2231EFCA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114120"/>
            <a:ext cx="687060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5552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29600" y="1371600"/>
            <a:ext cx="375552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2804400"/>
            <a:ext cx="76960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A5A6-F8C4-4BD7-A7A0-DC489112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922880" y="-271800"/>
            <a:ext cx="87156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14120"/>
            <a:ext cx="687060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6960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82760" indent="-1857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742680" indent="-1483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040040" indent="-14832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337040" indent="-14832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337040" indent="-14832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337040" indent="-14832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2E09F-78C1-46E3-AA7A-E36C977B139A}" type="datetime"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4686480"/>
            <a:ext cx="289548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068EE-C400-4BE9-9EA3-C728CC3B657D}" type="slidenum"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8011440" y="-243720"/>
            <a:ext cx="87300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959600" y="-52200"/>
            <a:ext cx="7682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4154400"/>
            <a:ext cx="1784520" cy="934920"/>
            <a:chOff x="7920" y="4154400"/>
            <a:chExt cx="1784520" cy="934920"/>
          </a:xfrm>
        </p:grpSpPr>
        <p:sp>
          <p:nvSpPr>
            <p:cNvPr id="9" name="Freeform 11"/>
            <p:cNvSpPr/>
            <p:nvPr/>
          </p:nvSpPr>
          <p:spPr>
            <a:xfrm>
              <a:off x="38160" y="4172040"/>
              <a:ext cx="1728720" cy="7729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4263840"/>
              <a:ext cx="112680" cy="15372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4492440"/>
              <a:ext cx="1257480" cy="4881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4534200"/>
              <a:ext cx="833400" cy="4442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4205520"/>
              <a:ext cx="214200" cy="14292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4956120"/>
              <a:ext cx="120600" cy="13320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799920" y="4293720"/>
              <a:ext cx="306720" cy="45612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4273200"/>
              <a:ext cx="577800" cy="20844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4395960"/>
              <a:ext cx="247680" cy="8100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4154400"/>
              <a:ext cx="1784520" cy="928440"/>
              <a:chOff x="7920" y="4154400"/>
              <a:chExt cx="1784520" cy="92844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4240080"/>
                <a:ext cx="870120" cy="842760"/>
                <a:chOff x="792000" y="4240080"/>
                <a:chExt cx="870120" cy="84276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4269600"/>
                  <a:ext cx="249120" cy="1036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440" y="4925520"/>
                  <a:ext cx="182520" cy="157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4240080"/>
                  <a:ext cx="68400" cy="13968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4443840"/>
                <a:ext cx="944640" cy="296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560" y="4626000"/>
                <a:ext cx="387360" cy="17604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4381560"/>
                <a:ext cx="169920" cy="2822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4154400"/>
                <a:ext cx="1784520" cy="807120"/>
                <a:chOff x="7920" y="4154400"/>
                <a:chExt cx="1784520" cy="80712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4816080"/>
                  <a:ext cx="119160" cy="10296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4437720"/>
                  <a:ext cx="1336680" cy="5238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4486320"/>
                  <a:ext cx="127080" cy="19908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4154400"/>
                  <a:ext cx="511200" cy="70416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4344120"/>
                  <a:ext cx="152280" cy="29844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4320000"/>
                  <a:ext cx="309600" cy="16020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4211280"/>
                  <a:ext cx="747720" cy="25128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4291920"/>
                  <a:ext cx="388800" cy="10296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1587600"/>
            <a:ext cx="385920" cy="3230280"/>
            <a:chOff x="8680320" y="1587600"/>
            <a:chExt cx="385920" cy="32302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3119400"/>
              <a:ext cx="325440" cy="1698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1587600"/>
              <a:ext cx="325440" cy="19425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259400" y="-222120"/>
            <a:ext cx="2251440" cy="2014560"/>
            <a:chOff x="7259400" y="-222120"/>
            <a:chExt cx="2251440" cy="2014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259400" y="-222120"/>
              <a:ext cx="2251440" cy="2014560"/>
              <a:chOff x="7259400" y="-222120"/>
              <a:chExt cx="2251440" cy="2014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33160" y="1237320"/>
                <a:ext cx="71280" cy="45684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259400" y="-222120"/>
                <a:ext cx="2251440" cy="2014560"/>
                <a:chOff x="7259400" y="-222120"/>
                <a:chExt cx="2251440" cy="2014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91920" y="61200"/>
                  <a:ext cx="184320" cy="19836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52840" y="291600"/>
                  <a:ext cx="32436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98680" y="23760"/>
                  <a:ext cx="6073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929000" y="-281160"/>
                  <a:ext cx="9118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31560" y="1035360"/>
                  <a:ext cx="20232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55600" y="919080"/>
                  <a:ext cx="21780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27560" y="207000"/>
                  <a:ext cx="217800" cy="23328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97680" y="120240"/>
                  <a:ext cx="2156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0" name=""/>
            <p:cNvGrpSpPr/>
            <p:nvPr/>
          </p:nvGrpSpPr>
          <p:grpSpPr>
            <a:xfrm>
              <a:off x="7731000" y="100440"/>
              <a:ext cx="66240" cy="114120"/>
              <a:chOff x="7731000" y="100440"/>
              <a:chExt cx="66240" cy="114120"/>
            </a:xfrm>
          </p:grpSpPr>
          <p:sp>
            <p:nvSpPr>
              <p:cNvPr id="51" name="Line 52"/>
              <p:cNvSpPr/>
              <p:nvPr/>
            </p:nvSpPr>
            <p:spPr>
              <a:xfrm>
                <a:off x="7731000" y="100440"/>
                <a:ext cx="66240" cy="114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 txBox="1"/>
              <p:nvPr/>
            </p:nvSpPr>
            <p:spPr>
              <a:xfrm>
                <a:off x="7731000" y="100440"/>
                <a:ext cx="66240" cy="114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reeform 2"/>
          <p:cNvSpPr/>
          <p:nvPr/>
        </p:nvSpPr>
        <p:spPr>
          <a:xfrm>
            <a:off x="20520" y="9360"/>
            <a:ext cx="8896320" cy="508500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Group 8"/>
          <p:cNvGrpSpPr/>
          <p:nvPr/>
        </p:nvGrpSpPr>
        <p:grpSpPr>
          <a:xfrm>
            <a:off x="195120" y="176040"/>
            <a:ext cx="3787920" cy="1333440"/>
            <a:chOff x="195120" y="176040"/>
            <a:chExt cx="3787920" cy="1333440"/>
          </a:xfrm>
        </p:grpSpPr>
        <p:sp>
          <p:nvSpPr>
            <p:cNvPr id="91" name="Freeform 9"/>
            <p:cNvSpPr/>
            <p:nvPr/>
          </p:nvSpPr>
          <p:spPr>
            <a:xfrm>
              <a:off x="280800" y="210600"/>
              <a:ext cx="3571920" cy="12110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Freeform 10"/>
            <p:cNvSpPr/>
            <p:nvPr/>
          </p:nvSpPr>
          <p:spPr>
            <a:xfrm>
              <a:off x="263520" y="310320"/>
              <a:ext cx="3562200" cy="11991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Freeform 11"/>
            <p:cNvSpPr/>
            <p:nvPr/>
          </p:nvSpPr>
          <p:spPr>
            <a:xfrm>
              <a:off x="752400" y="409320"/>
              <a:ext cx="2361960" cy="10944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" name="Group 12"/>
            <p:cNvGrpSpPr/>
            <p:nvPr/>
          </p:nvGrpSpPr>
          <p:grpSpPr>
            <a:xfrm>
              <a:off x="195120" y="176040"/>
              <a:ext cx="3787920" cy="1287360"/>
              <a:chOff x="195120" y="176040"/>
              <a:chExt cx="3787920" cy="1287360"/>
            </a:xfrm>
          </p:grpSpPr>
          <p:sp>
            <p:nvSpPr>
              <p:cNvPr id="95" name="Freeform 13"/>
              <p:cNvSpPr/>
              <p:nvPr/>
            </p:nvSpPr>
            <p:spPr>
              <a:xfrm>
                <a:off x="3182760" y="1113120"/>
                <a:ext cx="336600" cy="25380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Freeform 14"/>
              <p:cNvSpPr/>
              <p:nvPr/>
            </p:nvSpPr>
            <p:spPr>
              <a:xfrm>
                <a:off x="195120" y="176040"/>
                <a:ext cx="3787920" cy="12873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Freeform 15"/>
              <p:cNvSpPr/>
              <p:nvPr/>
            </p:nvSpPr>
            <p:spPr>
              <a:xfrm>
                <a:off x="514080" y="189000"/>
                <a:ext cx="2676600" cy="7297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Freeform 16"/>
              <p:cNvSpPr/>
              <p:nvPr/>
            </p:nvSpPr>
            <p:spPr>
              <a:xfrm>
                <a:off x="649080" y="298440"/>
                <a:ext cx="360360" cy="4906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Freeform 17"/>
              <p:cNvSpPr/>
              <p:nvPr/>
            </p:nvSpPr>
            <p:spPr>
              <a:xfrm>
                <a:off x="1342800" y="637920"/>
                <a:ext cx="1096920" cy="43344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" name="Group 18"/>
          <p:cNvGrpSpPr/>
          <p:nvPr/>
        </p:nvGrpSpPr>
        <p:grpSpPr>
          <a:xfrm>
            <a:off x="7865280" y="3209040"/>
            <a:ext cx="834840" cy="930600"/>
            <a:chOff x="7865280" y="3209040"/>
            <a:chExt cx="834840" cy="930600"/>
          </a:xfrm>
        </p:grpSpPr>
        <p:sp>
          <p:nvSpPr>
            <p:cNvPr id="101" name="Freeform 19"/>
            <p:cNvSpPr/>
            <p:nvPr/>
          </p:nvSpPr>
          <p:spPr>
            <a:xfrm rot="7320000">
              <a:off x="7909200" y="3421440"/>
              <a:ext cx="748440" cy="46800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Freeform 20"/>
            <p:cNvSpPr/>
            <p:nvPr/>
          </p:nvSpPr>
          <p:spPr>
            <a:xfrm rot="7320000">
              <a:off x="7929360" y="3416760"/>
              <a:ext cx="743760" cy="46332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Freeform 21"/>
            <p:cNvSpPr/>
            <p:nvPr/>
          </p:nvSpPr>
          <p:spPr>
            <a:xfrm rot="7320000">
              <a:off x="7990200" y="3400560"/>
              <a:ext cx="493200" cy="4233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Group 22"/>
            <p:cNvGrpSpPr/>
            <p:nvPr/>
          </p:nvGrpSpPr>
          <p:grpSpPr>
            <a:xfrm>
              <a:off x="7865280" y="3209040"/>
              <a:ext cx="834840" cy="930600"/>
              <a:chOff x="7865280" y="3209040"/>
              <a:chExt cx="834840" cy="930600"/>
            </a:xfrm>
          </p:grpSpPr>
          <p:sp>
            <p:nvSpPr>
              <p:cNvPr id="105" name="Freeform 23"/>
              <p:cNvSpPr/>
              <p:nvPr/>
            </p:nvSpPr>
            <p:spPr>
              <a:xfrm rot="7320000">
                <a:off x="7927200" y="3770280"/>
                <a:ext cx="7128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7320000">
                <a:off x="7886880" y="3429000"/>
                <a:ext cx="791280" cy="4899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Freeform 25"/>
              <p:cNvSpPr/>
              <p:nvPr/>
            </p:nvSpPr>
            <p:spPr>
              <a:xfrm rot="7320000">
                <a:off x="8147160" y="3535920"/>
                <a:ext cx="560160" cy="27720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Freeform 26"/>
              <p:cNvSpPr/>
              <p:nvPr/>
            </p:nvSpPr>
            <p:spPr>
              <a:xfrm rot="7320000">
                <a:off x="8525880" y="3381120"/>
                <a:ext cx="7596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7320000">
                <a:off x="8190360" y="3534840"/>
                <a:ext cx="227880" cy="16344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0" name="Freeform 28"/>
          <p:cNvSpPr/>
          <p:nvPr/>
        </p:nvSpPr>
        <p:spPr>
          <a:xfrm>
            <a:off x="901800" y="3790800"/>
            <a:ext cx="6807240" cy="54612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reeform 29"/>
          <p:cNvSpPr/>
          <p:nvPr/>
        </p:nvSpPr>
        <p:spPr>
          <a:xfrm>
            <a:off x="4076640" y="1447920"/>
            <a:ext cx="889200" cy="28548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114120"/>
            <a:ext cx="687060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6960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82760" indent="-1857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742680" indent="-1483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040040" indent="-14832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337040" indent="-14832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337040" indent="-14832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337040" indent="-14832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4"/>
          </p:nvPr>
        </p:nvSpPr>
        <p:spPr>
          <a:xfrm>
            <a:off x="68580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338C9-4043-40AB-B080-F6ED5FDEA216}" type="datetime"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5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6"/>
          </p:nvPr>
        </p:nvSpPr>
        <p:spPr>
          <a:xfrm>
            <a:off x="655308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48178-0B0F-4566-9C4F-534E667995A4}" type="slidenum"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1"/>
          <p:cNvSpPr/>
          <p:nvPr/>
        </p:nvSpPr>
        <p:spPr>
          <a:xfrm>
            <a:off x="1116000" y="1851120"/>
            <a:ext cx="684072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点亮小灯泡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福州市义序中心小学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图片 49153" descr="6657_1284876613ZDn0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232" name="文本框 49154"/>
          <p:cNvSpPr/>
          <p:nvPr/>
        </p:nvSpPr>
        <p:spPr>
          <a:xfrm>
            <a:off x="2457360" y="1428840"/>
            <a:ext cx="5143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华文琥珀"/>
              </a:rPr>
              <a:t>同学们再见！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987480"/>
            <a:ext cx="4105440" cy="76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活动要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4360" y="1762200"/>
            <a:ext cx="76960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仔细观察材料，发挥我们的智慧，小组合作，比一比哪组先使小灯泡亮起来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把表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中的图连接起来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小组内交流收获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755640" y="-182520"/>
            <a:ext cx="770400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omic Sans MS"/>
                <a:ea typeface="黑体"/>
              </a:rPr>
              <a:t>你能让小灯泡亮起来吗？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5" descr="73b654e4f80c627552ef37d455cf18de"/>
          <p:cNvPicPr/>
          <p:nvPr/>
        </p:nvPicPr>
        <p:blipFill>
          <a:blip r:embed="rId1"/>
          <a:srcRect l="13396" t="0" r="0" b="0"/>
          <a:stretch/>
        </p:blipFill>
        <p:spPr>
          <a:xfrm>
            <a:off x="0" y="915840"/>
            <a:ext cx="3959280" cy="3214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2" descr="C:\Users\Administrator\Desktop\YRV{FTP%@HRN0AM6@_9BT8L.png"/>
          <p:cNvPicPr/>
          <p:nvPr/>
        </p:nvPicPr>
        <p:blipFill>
          <a:blip r:embed="rId2"/>
          <a:stretch/>
        </p:blipFill>
        <p:spPr>
          <a:xfrm>
            <a:off x="3419640" y="411120"/>
            <a:ext cx="5557680" cy="388296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7"/>
          <p:cNvSpPr/>
          <p:nvPr/>
        </p:nvSpPr>
        <p:spPr>
          <a:xfrm>
            <a:off x="2340000" y="372420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负极 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-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2268360" y="700200"/>
            <a:ext cx="18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正极 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+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9"/>
          <p:cNvSpPr/>
          <p:nvPr/>
        </p:nvSpPr>
        <p:spPr>
          <a:xfrm>
            <a:off x="1692360" y="987480"/>
            <a:ext cx="647640" cy="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0"/>
          <p:cNvSpPr/>
          <p:nvPr/>
        </p:nvSpPr>
        <p:spPr>
          <a:xfrm>
            <a:off x="1692360" y="4084560"/>
            <a:ext cx="718920" cy="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6443640" y="321948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金属螺纹壳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8"/>
          <p:cNvSpPr/>
          <p:nvPr/>
        </p:nvSpPr>
        <p:spPr>
          <a:xfrm>
            <a:off x="5580000" y="3508200"/>
            <a:ext cx="792360" cy="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7171200" y="38671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连接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6957720" y="2571840"/>
            <a:ext cx="99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连接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8"/>
          <p:cNvSpPr/>
          <p:nvPr/>
        </p:nvSpPr>
        <p:spPr>
          <a:xfrm>
            <a:off x="5651640" y="1131840"/>
            <a:ext cx="1152360" cy="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8"/>
          <p:cNvSpPr/>
          <p:nvPr/>
        </p:nvSpPr>
        <p:spPr>
          <a:xfrm>
            <a:off x="5148360" y="1779480"/>
            <a:ext cx="1655640" cy="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8"/>
          <p:cNvSpPr/>
          <p:nvPr/>
        </p:nvSpPr>
        <p:spPr>
          <a:xfrm>
            <a:off x="5219640" y="2355840"/>
            <a:ext cx="1584360" cy="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8"/>
          <p:cNvSpPr/>
          <p:nvPr/>
        </p:nvSpPr>
        <p:spPr>
          <a:xfrm>
            <a:off x="5724360" y="2859120"/>
            <a:ext cx="1079640" cy="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8"/>
          <p:cNvSpPr/>
          <p:nvPr/>
        </p:nvSpPr>
        <p:spPr>
          <a:xfrm>
            <a:off x="5076720" y="4156200"/>
            <a:ext cx="1798920" cy="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6732720" y="843120"/>
            <a:ext cx="108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灯泡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6883560" y="1492200"/>
            <a:ext cx="78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灯丝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6957000" y="1995480"/>
            <a:ext cx="99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金属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十字星 20"/>
          <p:cNvSpPr/>
          <p:nvPr/>
        </p:nvSpPr>
        <p:spPr>
          <a:xfrm>
            <a:off x="5435640" y="915840"/>
            <a:ext cx="360360" cy="360360"/>
          </a:xfrm>
          <a:custGeom>
            <a:avLst/>
            <a:gdLst>
              <a:gd name="textAreaLeft" fmla="*/ 148320 w 360360"/>
              <a:gd name="textAreaRight" fmla="*/ 212040 w 36036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ef66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十字星 21"/>
          <p:cNvSpPr/>
          <p:nvPr/>
        </p:nvSpPr>
        <p:spPr>
          <a:xfrm>
            <a:off x="1476360" y="3940200"/>
            <a:ext cx="358920" cy="360360"/>
          </a:xfrm>
          <a:custGeom>
            <a:avLst/>
            <a:gdLst>
              <a:gd name="textAreaLeft" fmla="*/ 147960 w 358920"/>
              <a:gd name="textAreaRight" fmla="*/ 210960 w 35892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ef66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十字星 22"/>
          <p:cNvSpPr/>
          <p:nvPr/>
        </p:nvSpPr>
        <p:spPr>
          <a:xfrm>
            <a:off x="5076720" y="1563840"/>
            <a:ext cx="358920" cy="360360"/>
          </a:xfrm>
          <a:custGeom>
            <a:avLst/>
            <a:gdLst>
              <a:gd name="textAreaLeft" fmla="*/ 147960 w 358920"/>
              <a:gd name="textAreaRight" fmla="*/ 210960 w 35892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ef66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十字星 23"/>
          <p:cNvSpPr/>
          <p:nvPr/>
        </p:nvSpPr>
        <p:spPr>
          <a:xfrm>
            <a:off x="5148360" y="2139840"/>
            <a:ext cx="360360" cy="360360"/>
          </a:xfrm>
          <a:custGeom>
            <a:avLst/>
            <a:gdLst>
              <a:gd name="textAreaLeft" fmla="*/ 148320 w 360360"/>
              <a:gd name="textAreaRight" fmla="*/ 212040 w 36036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ef66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十字星 24"/>
          <p:cNvSpPr/>
          <p:nvPr/>
        </p:nvSpPr>
        <p:spPr>
          <a:xfrm>
            <a:off x="5435640" y="3292560"/>
            <a:ext cx="360360" cy="358560"/>
          </a:xfrm>
          <a:custGeom>
            <a:avLst/>
            <a:gdLst>
              <a:gd name="textAreaLeft" fmla="*/ 148320 w 360360"/>
              <a:gd name="textAreaRight" fmla="*/ 212040 w 360360"/>
              <a:gd name="textAreaTop" fmla="*/ 147600 h 358560"/>
              <a:gd name="textAreaBottom" fmla="*/ 21096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ef66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十字星 25"/>
          <p:cNvSpPr/>
          <p:nvPr/>
        </p:nvSpPr>
        <p:spPr>
          <a:xfrm>
            <a:off x="5508720" y="2643120"/>
            <a:ext cx="358560" cy="360360"/>
          </a:xfrm>
          <a:custGeom>
            <a:avLst/>
            <a:gdLst>
              <a:gd name="textAreaLeft" fmla="*/ 147600 w 358560"/>
              <a:gd name="textAreaRight" fmla="*/ 210960 w 35856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ef66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十字星 26"/>
          <p:cNvSpPr/>
          <p:nvPr/>
        </p:nvSpPr>
        <p:spPr>
          <a:xfrm>
            <a:off x="4859280" y="4011480"/>
            <a:ext cx="360360" cy="360360"/>
          </a:xfrm>
          <a:custGeom>
            <a:avLst/>
            <a:gdLst>
              <a:gd name="textAreaLeft" fmla="*/ 148320 w 360360"/>
              <a:gd name="textAreaRight" fmla="*/ 212040 w 36036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ef66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任意多边形 37"/>
          <p:cNvSpPr/>
          <p:nvPr/>
        </p:nvSpPr>
        <p:spPr>
          <a:xfrm>
            <a:off x="3984480" y="1623960"/>
            <a:ext cx="1501920" cy="2646360"/>
          </a:xfrm>
          <a:custGeom>
            <a:avLst/>
            <a:gdLst/>
            <a:ahLst/>
            <a:rect l="l" t="t" r="r" b="b"/>
            <a:pathLst>
              <a:path w="1502229" h="2645228">
                <a:moveTo>
                  <a:pt x="228600" y="24493"/>
                </a:moveTo>
                <a:cubicBezTo>
                  <a:pt x="256654" y="18882"/>
                  <a:pt x="275180" y="15849"/>
                  <a:pt x="302079" y="8164"/>
                </a:cubicBezTo>
                <a:cubicBezTo>
                  <a:pt x="310354" y="5800"/>
                  <a:pt x="318408" y="2721"/>
                  <a:pt x="326572" y="0"/>
                </a:cubicBezTo>
                <a:lnTo>
                  <a:pt x="669472" y="8164"/>
                </a:lnTo>
                <a:cubicBezTo>
                  <a:pt x="680682" y="8651"/>
                  <a:pt x="691176" y="13894"/>
                  <a:pt x="702129" y="16328"/>
                </a:cubicBezTo>
                <a:cubicBezTo>
                  <a:pt x="732073" y="22982"/>
                  <a:pt x="747181" y="24129"/>
                  <a:pt x="775608" y="32657"/>
                </a:cubicBezTo>
                <a:cubicBezTo>
                  <a:pt x="792094" y="37603"/>
                  <a:pt x="824593" y="48986"/>
                  <a:pt x="824593" y="48986"/>
                </a:cubicBezTo>
                <a:cubicBezTo>
                  <a:pt x="898072" y="46264"/>
                  <a:pt x="971635" y="45269"/>
                  <a:pt x="1045029" y="40821"/>
                </a:cubicBezTo>
                <a:cubicBezTo>
                  <a:pt x="1142818" y="34894"/>
                  <a:pt x="1045220" y="32624"/>
                  <a:pt x="1143000" y="16328"/>
                </a:cubicBezTo>
                <a:lnTo>
                  <a:pt x="1191986" y="8164"/>
                </a:lnTo>
                <a:cubicBezTo>
                  <a:pt x="1273629" y="10885"/>
                  <a:pt x="1355376" y="11386"/>
                  <a:pt x="1436915" y="16328"/>
                </a:cubicBezTo>
                <a:cubicBezTo>
                  <a:pt x="1445505" y="16849"/>
                  <a:pt x="1455323" y="18408"/>
                  <a:pt x="1461408" y="24493"/>
                </a:cubicBezTo>
                <a:cubicBezTo>
                  <a:pt x="1475284" y="38369"/>
                  <a:pt x="1494065" y="73478"/>
                  <a:pt x="1494065" y="73478"/>
                </a:cubicBezTo>
                <a:cubicBezTo>
                  <a:pt x="1496786" y="81642"/>
                  <a:pt x="1502229" y="89365"/>
                  <a:pt x="1502229" y="97971"/>
                </a:cubicBezTo>
                <a:cubicBezTo>
                  <a:pt x="1502229" y="109192"/>
                  <a:pt x="1497148" y="119839"/>
                  <a:pt x="1494065" y="130628"/>
                </a:cubicBezTo>
                <a:cubicBezTo>
                  <a:pt x="1485615" y="160202"/>
                  <a:pt x="1487461" y="152780"/>
                  <a:pt x="1469572" y="179614"/>
                </a:cubicBezTo>
                <a:cubicBezTo>
                  <a:pt x="1472293" y="231321"/>
                  <a:pt x="1473048" y="283170"/>
                  <a:pt x="1477736" y="334736"/>
                </a:cubicBezTo>
                <a:cubicBezTo>
                  <a:pt x="1478515" y="343306"/>
                  <a:pt x="1485900" y="350622"/>
                  <a:pt x="1485900" y="359228"/>
                </a:cubicBezTo>
                <a:cubicBezTo>
                  <a:pt x="1485900" y="578363"/>
                  <a:pt x="1488122" y="547785"/>
                  <a:pt x="1469572" y="677636"/>
                </a:cubicBezTo>
                <a:cubicBezTo>
                  <a:pt x="1466851" y="729343"/>
                  <a:pt x="1464742" y="781086"/>
                  <a:pt x="1461408" y="832757"/>
                </a:cubicBezTo>
                <a:cubicBezTo>
                  <a:pt x="1459298" y="865459"/>
                  <a:pt x="1453243" y="897958"/>
                  <a:pt x="1453243" y="930728"/>
                </a:cubicBezTo>
                <a:cubicBezTo>
                  <a:pt x="1453243" y="1017857"/>
                  <a:pt x="1457539" y="1104943"/>
                  <a:pt x="1461408" y="1191986"/>
                </a:cubicBezTo>
                <a:cubicBezTo>
                  <a:pt x="1465410" y="1282038"/>
                  <a:pt x="1466273" y="1278324"/>
                  <a:pt x="1477736" y="1347107"/>
                </a:cubicBezTo>
                <a:cubicBezTo>
                  <a:pt x="1475015" y="1371600"/>
                  <a:pt x="1473623" y="1396278"/>
                  <a:pt x="1469572" y="1420586"/>
                </a:cubicBezTo>
                <a:cubicBezTo>
                  <a:pt x="1468157" y="1429075"/>
                  <a:pt x="1463772" y="1436804"/>
                  <a:pt x="1461408" y="1445078"/>
                </a:cubicBezTo>
                <a:cubicBezTo>
                  <a:pt x="1458325" y="1455867"/>
                  <a:pt x="1455965" y="1466850"/>
                  <a:pt x="1453243" y="1477736"/>
                </a:cubicBezTo>
                <a:cubicBezTo>
                  <a:pt x="1455965" y="1700893"/>
                  <a:pt x="1456279" y="1924092"/>
                  <a:pt x="1461408" y="2147207"/>
                </a:cubicBezTo>
                <a:cubicBezTo>
                  <a:pt x="1461727" y="2161080"/>
                  <a:pt x="1466207" y="2174566"/>
                  <a:pt x="1469572" y="2188028"/>
                </a:cubicBezTo>
                <a:cubicBezTo>
                  <a:pt x="1471659" y="2196377"/>
                  <a:pt x="1475015" y="2204357"/>
                  <a:pt x="1477736" y="2212521"/>
                </a:cubicBezTo>
                <a:cubicBezTo>
                  <a:pt x="1490000" y="2335161"/>
                  <a:pt x="1489902" y="2293208"/>
                  <a:pt x="1477736" y="2457450"/>
                </a:cubicBezTo>
                <a:cubicBezTo>
                  <a:pt x="1476835" y="2469617"/>
                  <a:pt x="1471865" y="2520271"/>
                  <a:pt x="1461408" y="2539093"/>
                </a:cubicBezTo>
                <a:cubicBezTo>
                  <a:pt x="1451877" y="2556248"/>
                  <a:pt x="1445078" y="2577192"/>
                  <a:pt x="1428750" y="2588078"/>
                </a:cubicBezTo>
                <a:lnTo>
                  <a:pt x="1404258" y="2604407"/>
                </a:lnTo>
                <a:cubicBezTo>
                  <a:pt x="1401536" y="2612571"/>
                  <a:pt x="1403096" y="2623898"/>
                  <a:pt x="1396093" y="2628900"/>
                </a:cubicBezTo>
                <a:cubicBezTo>
                  <a:pt x="1382087" y="2638904"/>
                  <a:pt x="1347108" y="2645228"/>
                  <a:pt x="1347108" y="2645228"/>
                </a:cubicBezTo>
                <a:lnTo>
                  <a:pt x="840922" y="2637064"/>
                </a:lnTo>
                <a:cubicBezTo>
                  <a:pt x="829706" y="2636724"/>
                  <a:pt x="819218" y="2631334"/>
                  <a:pt x="808265" y="2628900"/>
                </a:cubicBezTo>
                <a:cubicBezTo>
                  <a:pt x="769402" y="2620264"/>
                  <a:pt x="742151" y="2617748"/>
                  <a:pt x="702129" y="2604407"/>
                </a:cubicBezTo>
                <a:cubicBezTo>
                  <a:pt x="685800" y="2598964"/>
                  <a:pt x="670284" y="2589636"/>
                  <a:pt x="653143" y="2588078"/>
                </a:cubicBezTo>
                <a:lnTo>
                  <a:pt x="563336" y="2579914"/>
                </a:lnTo>
                <a:cubicBezTo>
                  <a:pt x="468445" y="2548285"/>
                  <a:pt x="530272" y="2565719"/>
                  <a:pt x="310243" y="2579914"/>
                </a:cubicBezTo>
                <a:cubicBezTo>
                  <a:pt x="301655" y="2580468"/>
                  <a:pt x="294099" y="2585991"/>
                  <a:pt x="285750" y="2588078"/>
                </a:cubicBezTo>
                <a:cubicBezTo>
                  <a:pt x="272288" y="2591444"/>
                  <a:pt x="258617" y="2593962"/>
                  <a:pt x="244929" y="2596243"/>
                </a:cubicBezTo>
                <a:cubicBezTo>
                  <a:pt x="225947" y="2599407"/>
                  <a:pt x="206829" y="2601686"/>
                  <a:pt x="187779" y="2604407"/>
                </a:cubicBezTo>
                <a:cubicBezTo>
                  <a:pt x="149679" y="2601686"/>
                  <a:pt x="110661" y="2604992"/>
                  <a:pt x="73479" y="2596243"/>
                </a:cubicBezTo>
                <a:cubicBezTo>
                  <a:pt x="62240" y="2593598"/>
                  <a:pt x="58593" y="2578155"/>
                  <a:pt x="48986" y="2571750"/>
                </a:cubicBezTo>
                <a:cubicBezTo>
                  <a:pt x="41825" y="2566976"/>
                  <a:pt x="32657" y="2566307"/>
                  <a:pt x="24493" y="2563586"/>
                </a:cubicBezTo>
                <a:lnTo>
                  <a:pt x="0" y="2547257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图片 31" descr="(NN`VMV1X9YU1VBF~K}X(0P.png"/>
          <p:cNvPicPr/>
          <p:nvPr/>
        </p:nvPicPr>
        <p:blipFill>
          <a:blip r:embed="rId1"/>
          <a:stretch/>
        </p:blipFill>
        <p:spPr>
          <a:xfrm>
            <a:off x="3203640" y="771480"/>
            <a:ext cx="1368360" cy="344664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5"/>
          <p:cNvSpPr/>
          <p:nvPr/>
        </p:nvSpPr>
        <p:spPr>
          <a:xfrm>
            <a:off x="4673520" y="1571760"/>
            <a:ext cx="381240" cy="56880"/>
          </a:xfrm>
          <a:prstGeom prst="rightArrow">
            <a:avLst>
              <a:gd name="adj1" fmla="val 50000"/>
              <a:gd name="adj2" fmla="val 125672"/>
            </a:avLst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6"/>
          <p:cNvSpPr/>
          <p:nvPr/>
        </p:nvSpPr>
        <p:spPr>
          <a:xfrm>
            <a:off x="5130720" y="1571760"/>
            <a:ext cx="381240" cy="56880"/>
          </a:xfrm>
          <a:prstGeom prst="rightArrow">
            <a:avLst>
              <a:gd name="adj1" fmla="val 50000"/>
              <a:gd name="adj2" fmla="val 125672"/>
            </a:avLst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7"/>
          <p:cNvSpPr/>
          <p:nvPr/>
        </p:nvSpPr>
        <p:spPr>
          <a:xfrm>
            <a:off x="5435640" y="1685880"/>
            <a:ext cx="76320" cy="343080"/>
          </a:xfrm>
          <a:prstGeom prst="downArrow">
            <a:avLst>
              <a:gd name="adj1" fmla="val 50000"/>
              <a:gd name="adj2" fmla="val 149843"/>
            </a:avLst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8"/>
          <p:cNvSpPr/>
          <p:nvPr/>
        </p:nvSpPr>
        <p:spPr>
          <a:xfrm>
            <a:off x="5435640" y="2085840"/>
            <a:ext cx="76320" cy="343080"/>
          </a:xfrm>
          <a:prstGeom prst="downArrow">
            <a:avLst>
              <a:gd name="adj1" fmla="val 50000"/>
              <a:gd name="adj2" fmla="val 149843"/>
            </a:avLst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AutoShape 9"/>
          <p:cNvSpPr/>
          <p:nvPr/>
        </p:nvSpPr>
        <p:spPr>
          <a:xfrm>
            <a:off x="5435640" y="2600280"/>
            <a:ext cx="76320" cy="343080"/>
          </a:xfrm>
          <a:prstGeom prst="downArrow">
            <a:avLst>
              <a:gd name="adj1" fmla="val 50000"/>
              <a:gd name="adj2" fmla="val 149843"/>
            </a:avLst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AutoShape 10"/>
          <p:cNvSpPr/>
          <p:nvPr/>
        </p:nvSpPr>
        <p:spPr>
          <a:xfrm>
            <a:off x="5435640" y="3057480"/>
            <a:ext cx="76320" cy="343080"/>
          </a:xfrm>
          <a:prstGeom prst="downArrow">
            <a:avLst>
              <a:gd name="adj1" fmla="val 50000"/>
              <a:gd name="adj2" fmla="val 149843"/>
            </a:avLst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11"/>
          <p:cNvSpPr/>
          <p:nvPr/>
        </p:nvSpPr>
        <p:spPr>
          <a:xfrm>
            <a:off x="5435640" y="3571920"/>
            <a:ext cx="73080" cy="565200"/>
          </a:xfrm>
          <a:prstGeom prst="downArrow">
            <a:avLst>
              <a:gd name="adj1" fmla="val 50000"/>
              <a:gd name="adj2" fmla="val 257764"/>
            </a:avLst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13"/>
          <p:cNvSpPr/>
          <p:nvPr/>
        </p:nvSpPr>
        <p:spPr>
          <a:xfrm>
            <a:off x="4788000" y="4192560"/>
            <a:ext cx="601560" cy="57240"/>
          </a:xfrm>
          <a:prstGeom prst="leftArrow">
            <a:avLst>
              <a:gd name="adj1" fmla="val 50000"/>
              <a:gd name="adj2" fmla="val 197003"/>
            </a:avLst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14"/>
          <p:cNvSpPr/>
          <p:nvPr/>
        </p:nvSpPr>
        <p:spPr>
          <a:xfrm>
            <a:off x="3995640" y="4192560"/>
            <a:ext cx="673200" cy="57240"/>
          </a:xfrm>
          <a:prstGeom prst="leftArrow">
            <a:avLst>
              <a:gd name="adj1" fmla="val 50000"/>
              <a:gd name="adj2" fmla="val 220464"/>
            </a:avLst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16"/>
          <p:cNvSpPr/>
          <p:nvPr/>
        </p:nvSpPr>
        <p:spPr>
          <a:xfrm>
            <a:off x="3892680" y="3629160"/>
            <a:ext cx="95040" cy="507960"/>
          </a:xfrm>
          <a:prstGeom prst="upArrow">
            <a:avLst>
              <a:gd name="adj1" fmla="val 50000"/>
              <a:gd name="adj2" fmla="val 178132"/>
            </a:avLst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17"/>
          <p:cNvSpPr/>
          <p:nvPr/>
        </p:nvSpPr>
        <p:spPr>
          <a:xfrm>
            <a:off x="3911760" y="3171960"/>
            <a:ext cx="75960" cy="399960"/>
          </a:xfrm>
          <a:prstGeom prst="upArrow">
            <a:avLst>
              <a:gd name="adj1" fmla="val 50000"/>
              <a:gd name="adj2" fmla="val 175513"/>
            </a:avLst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AutoShape 18"/>
          <p:cNvSpPr/>
          <p:nvPr/>
        </p:nvSpPr>
        <p:spPr>
          <a:xfrm>
            <a:off x="3911760" y="2657520"/>
            <a:ext cx="75960" cy="399960"/>
          </a:xfrm>
          <a:prstGeom prst="upArrow">
            <a:avLst>
              <a:gd name="adj1" fmla="val 50000"/>
              <a:gd name="adj2" fmla="val 175513"/>
            </a:avLst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19"/>
          <p:cNvSpPr/>
          <p:nvPr/>
        </p:nvSpPr>
        <p:spPr>
          <a:xfrm>
            <a:off x="3911760" y="2143080"/>
            <a:ext cx="75960" cy="399960"/>
          </a:xfrm>
          <a:prstGeom prst="upArrow">
            <a:avLst>
              <a:gd name="adj1" fmla="val 50000"/>
              <a:gd name="adj2" fmla="val 175513"/>
            </a:avLst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20"/>
          <p:cNvSpPr/>
          <p:nvPr/>
        </p:nvSpPr>
        <p:spPr>
          <a:xfrm>
            <a:off x="3924360" y="1654200"/>
            <a:ext cx="76320" cy="399960"/>
          </a:xfrm>
          <a:prstGeom prst="upArrow">
            <a:avLst>
              <a:gd name="adj1" fmla="val 50000"/>
              <a:gd name="adj2" fmla="val 174685"/>
            </a:avLst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21"/>
          <p:cNvSpPr/>
          <p:nvPr/>
        </p:nvSpPr>
        <p:spPr>
          <a:xfrm>
            <a:off x="3924360" y="1058760"/>
            <a:ext cx="360360" cy="486000"/>
          </a:xfrm>
          <a:custGeom>
            <a:avLst/>
            <a:gdLst>
              <a:gd name="textAreaLeft" fmla="*/ 63000 w 360360"/>
              <a:gd name="textAreaRight" fmla="*/ 261360 w 360360"/>
              <a:gd name="textAreaTop" fmla="*/ 64800 h 486000"/>
              <a:gd name="textAreaBottom" fmla="*/ 421200 h 48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112268"/>
                <a:lnTo>
                  <a:pt x="20812" y="12001"/>
                </a:lnTo>
                <a:lnTo>
                  <a:pt x="17280" y="21600"/>
                </a:lnTo>
                <a:lnTo>
                  <a:pt x="12172" y="12001"/>
                </a:lnTo>
                <a:lnTo>
                  <a:pt x="14332" y="12001"/>
                </a:lnTo>
                <a:arcTo wR="7560" hR="21600" stAng="-3287732" swAng="-175483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66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22"/>
          <p:cNvSpPr/>
          <p:nvPr/>
        </p:nvSpPr>
        <p:spPr>
          <a:xfrm>
            <a:off x="4216320" y="1571760"/>
            <a:ext cx="381240" cy="56880"/>
          </a:xfrm>
          <a:prstGeom prst="rightArrow">
            <a:avLst>
              <a:gd name="adj1" fmla="val 50000"/>
              <a:gd name="adj2" fmla="val 125672"/>
            </a:avLst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48"/>
          <p:cNvSpPr/>
          <p:nvPr/>
        </p:nvSpPr>
        <p:spPr>
          <a:xfrm flipV="1">
            <a:off x="4697280" y="592200"/>
            <a:ext cx="1067040" cy="285840"/>
          </a:xfrm>
          <a:prstGeom prst="line">
            <a:avLst/>
          </a:prstGeom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49"/>
          <p:cNvSpPr/>
          <p:nvPr/>
        </p:nvSpPr>
        <p:spPr>
          <a:xfrm flipV="1">
            <a:off x="4773600" y="1049040"/>
            <a:ext cx="609480" cy="57240"/>
          </a:xfrm>
          <a:prstGeom prst="line">
            <a:avLst/>
          </a:prstGeom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50"/>
          <p:cNvSpPr/>
          <p:nvPr/>
        </p:nvSpPr>
        <p:spPr>
          <a:xfrm>
            <a:off x="4773600" y="1392120"/>
            <a:ext cx="838080" cy="228600"/>
          </a:xfrm>
          <a:prstGeom prst="line">
            <a:avLst/>
          </a:prstGeom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51"/>
          <p:cNvSpPr/>
          <p:nvPr/>
        </p:nvSpPr>
        <p:spPr>
          <a:xfrm flipV="1">
            <a:off x="4468680" y="477360"/>
            <a:ext cx="381240" cy="228600"/>
          </a:xfrm>
          <a:prstGeom prst="line">
            <a:avLst/>
          </a:prstGeom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52"/>
          <p:cNvSpPr/>
          <p:nvPr/>
        </p:nvSpPr>
        <p:spPr>
          <a:xfrm flipV="1">
            <a:off x="4164120" y="249120"/>
            <a:ext cx="228600" cy="400320"/>
          </a:xfrm>
          <a:prstGeom prst="line">
            <a:avLst/>
          </a:prstGeom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53"/>
          <p:cNvSpPr/>
          <p:nvPr/>
        </p:nvSpPr>
        <p:spPr>
          <a:xfrm flipH="1" flipV="1">
            <a:off x="3782880" y="249120"/>
            <a:ext cx="76320" cy="400320"/>
          </a:xfrm>
          <a:prstGeom prst="line">
            <a:avLst/>
          </a:prstGeom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54"/>
          <p:cNvSpPr/>
          <p:nvPr/>
        </p:nvSpPr>
        <p:spPr>
          <a:xfrm flipH="1" flipV="1">
            <a:off x="2944440" y="248760"/>
            <a:ext cx="685800" cy="514440"/>
          </a:xfrm>
          <a:prstGeom prst="line">
            <a:avLst/>
          </a:prstGeom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55"/>
          <p:cNvSpPr/>
          <p:nvPr/>
        </p:nvSpPr>
        <p:spPr>
          <a:xfrm flipH="1" flipV="1">
            <a:off x="2944800" y="705960"/>
            <a:ext cx="457200" cy="228600"/>
          </a:xfrm>
          <a:prstGeom prst="line">
            <a:avLst/>
          </a:prstGeom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56"/>
          <p:cNvSpPr/>
          <p:nvPr/>
        </p:nvSpPr>
        <p:spPr>
          <a:xfrm flipH="1" flipV="1">
            <a:off x="2410920" y="992160"/>
            <a:ext cx="838440" cy="114480"/>
          </a:xfrm>
          <a:prstGeom prst="line">
            <a:avLst/>
          </a:prstGeom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57"/>
          <p:cNvSpPr/>
          <p:nvPr/>
        </p:nvSpPr>
        <p:spPr>
          <a:xfrm flipH="1">
            <a:off x="2563560" y="1335240"/>
            <a:ext cx="685800" cy="0"/>
          </a:xfrm>
          <a:prstGeom prst="line">
            <a:avLst/>
          </a:prstGeom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58"/>
          <p:cNvSpPr/>
          <p:nvPr/>
        </p:nvSpPr>
        <p:spPr>
          <a:xfrm flipH="1">
            <a:off x="2563920" y="1506600"/>
            <a:ext cx="914400" cy="285840"/>
          </a:xfrm>
          <a:prstGeom prst="line">
            <a:avLst/>
          </a:prstGeom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59"/>
          <p:cNvSpPr/>
          <p:nvPr/>
        </p:nvSpPr>
        <p:spPr>
          <a:xfrm>
            <a:off x="4621320" y="1506600"/>
            <a:ext cx="228600" cy="285840"/>
          </a:xfrm>
          <a:prstGeom prst="line">
            <a:avLst/>
          </a:prstGeom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31"/>
          <p:cNvSpPr/>
          <p:nvPr/>
        </p:nvSpPr>
        <p:spPr>
          <a:xfrm>
            <a:off x="250920" y="2409840"/>
            <a:ext cx="38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宋体"/>
              </a:rPr>
              <a:t>电流的路通了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任意多边形 34"/>
          <p:cNvSpPr/>
          <p:nvPr/>
        </p:nvSpPr>
        <p:spPr>
          <a:xfrm>
            <a:off x="3951360" y="2065320"/>
            <a:ext cx="19080" cy="162000"/>
          </a:xfrm>
          <a:custGeom>
            <a:avLst/>
            <a:gdLst/>
            <a:ahLst/>
            <a:rect l="l" t="t" r="r" b="b"/>
            <a:pathLst>
              <a:path w="18911" h="162444">
                <a:moveTo>
                  <a:pt x="8165" y="0"/>
                </a:moveTo>
                <a:cubicBezTo>
                  <a:pt x="5443" y="8164"/>
                  <a:pt x="0" y="15887"/>
                  <a:pt x="0" y="24493"/>
                </a:cubicBezTo>
                <a:cubicBezTo>
                  <a:pt x="0" y="49137"/>
                  <a:pt x="4114" y="73664"/>
                  <a:pt x="8165" y="97972"/>
                </a:cubicBezTo>
                <a:cubicBezTo>
                  <a:pt x="18911" y="162444"/>
                  <a:pt x="16329" y="83280"/>
                  <a:pt x="16329" y="146957"/>
                </a:cubicBezTo>
              </a:path>
            </a:pathLst>
          </a:custGeom>
          <a:solidFill>
            <a:srgbClr val="ffef66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任意多边形 38"/>
          <p:cNvSpPr/>
          <p:nvPr/>
        </p:nvSpPr>
        <p:spPr>
          <a:xfrm>
            <a:off x="4178160" y="1630440"/>
            <a:ext cx="401760" cy="42840"/>
          </a:xfrm>
          <a:custGeom>
            <a:avLst/>
            <a:gdLst/>
            <a:ahLst/>
            <a:rect l="l" t="t" r="r" b="b"/>
            <a:pathLst>
              <a:path w="402330" h="41999">
                <a:moveTo>
                  <a:pt x="34937" y="34814"/>
                </a:moveTo>
                <a:cubicBezTo>
                  <a:pt x="117203" y="14249"/>
                  <a:pt x="0" y="41999"/>
                  <a:pt x="141073" y="18486"/>
                </a:cubicBezTo>
                <a:cubicBezTo>
                  <a:pt x="202081" y="8318"/>
                  <a:pt x="117048" y="5519"/>
                  <a:pt x="214552" y="2157"/>
                </a:cubicBezTo>
                <a:cubicBezTo>
                  <a:pt x="277107" y="0"/>
                  <a:pt x="339737" y="2157"/>
                  <a:pt x="402330" y="2157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任意多边形 39"/>
          <p:cNvSpPr/>
          <p:nvPr/>
        </p:nvSpPr>
        <p:spPr>
          <a:xfrm>
            <a:off x="3924360" y="4156200"/>
            <a:ext cx="644400" cy="46080"/>
          </a:xfrm>
          <a:custGeom>
            <a:avLst/>
            <a:gdLst/>
            <a:ahLst/>
            <a:rect l="l" t="t" r="r" b="b"/>
            <a:pathLst>
              <a:path w="898072" h="89807">
                <a:moveTo>
                  <a:pt x="0" y="0"/>
                </a:moveTo>
                <a:cubicBezTo>
                  <a:pt x="8164" y="5443"/>
                  <a:pt x="18363" y="8666"/>
                  <a:pt x="24493" y="16328"/>
                </a:cubicBezTo>
                <a:cubicBezTo>
                  <a:pt x="29869" y="23048"/>
                  <a:pt x="25655" y="35819"/>
                  <a:pt x="32658" y="40821"/>
                </a:cubicBezTo>
                <a:cubicBezTo>
                  <a:pt x="46664" y="50825"/>
                  <a:pt x="81643" y="57150"/>
                  <a:pt x="81643" y="57150"/>
                </a:cubicBezTo>
                <a:lnTo>
                  <a:pt x="530679" y="48986"/>
                </a:lnTo>
                <a:cubicBezTo>
                  <a:pt x="539280" y="48689"/>
                  <a:pt x="546869" y="43085"/>
                  <a:pt x="555172" y="40821"/>
                </a:cubicBezTo>
                <a:cubicBezTo>
                  <a:pt x="576823" y="34916"/>
                  <a:pt x="620486" y="24493"/>
                  <a:pt x="620486" y="24493"/>
                </a:cubicBezTo>
                <a:cubicBezTo>
                  <a:pt x="674915" y="27214"/>
                  <a:pt x="729480" y="27936"/>
                  <a:pt x="783772" y="32657"/>
                </a:cubicBezTo>
                <a:cubicBezTo>
                  <a:pt x="808615" y="34817"/>
                  <a:pt x="811319" y="46431"/>
                  <a:pt x="832758" y="57150"/>
                </a:cubicBezTo>
                <a:cubicBezTo>
                  <a:pt x="840455" y="60999"/>
                  <a:pt x="849086" y="62593"/>
                  <a:pt x="857250" y="65314"/>
                </a:cubicBezTo>
                <a:cubicBezTo>
                  <a:pt x="886806" y="85019"/>
                  <a:pt x="872966" y="77255"/>
                  <a:pt x="898072" y="89807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任意多边形 40"/>
          <p:cNvSpPr/>
          <p:nvPr/>
        </p:nvSpPr>
        <p:spPr>
          <a:xfrm>
            <a:off x="3951360" y="2023920"/>
            <a:ext cx="360" cy="57240"/>
          </a:xfrm>
          <a:custGeom>
            <a:avLst/>
            <a:gdLst/>
            <a:ahLst/>
            <a:rect l="l" t="t" r="r" b="b"/>
            <a:pathLst>
              <a:path w="1" h="57150">
                <a:moveTo>
                  <a:pt x="0" y="0"/>
                </a:moveTo>
                <a:lnTo>
                  <a:pt x="0" y="57150"/>
                </a:lnTo>
              </a:path>
            </a:pathLst>
          </a:custGeom>
          <a:solidFill>
            <a:srgbClr val="ffef66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3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dur="indefinite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3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7000"/>
                            </p:stCondLst>
                            <p:childTnLst>
                              <p:par>
                                <p:cTn id="100" dur="indefinite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8500"/>
                            </p:stCondLst>
                            <p:childTnLst>
                              <p:par>
                                <p:cTn id="10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9000"/>
                            </p:stCondLst>
                            <p:childTnLst>
                              <p:par>
                                <p:cTn id="10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9500"/>
                            </p:stCondLst>
                            <p:childTnLst>
                              <p:par>
                                <p:cTn id="11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1500"/>
                            </p:stCondLst>
                            <p:childTnLst>
                              <p:par>
                                <p:cTn id="12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2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6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3500"/>
                            </p:stCondLst>
                            <p:childTnLst>
                              <p:par>
                                <p:cTn id="14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4500"/>
                            </p:stCondLst>
                            <p:childTnLst>
                              <p:par>
                                <p:cTn id="14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5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6500"/>
                            </p:stCondLst>
                            <p:childTnLst>
                              <p:par>
                                <p:cTn id="156" dur="indefinite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8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4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7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0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3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6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9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2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5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8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1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 flipH="1">
            <a:off x="107640" y="303120"/>
            <a:ext cx="1676520" cy="125748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3"/>
          <p:cNvSpPr/>
          <p:nvPr/>
        </p:nvSpPr>
        <p:spPr>
          <a:xfrm>
            <a:off x="971640" y="771480"/>
            <a:ext cx="76438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  <a:ea typeface="宋体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Comic Sans MS"/>
                <a:ea typeface="宋体"/>
              </a:rPr>
              <a:t>小灯泡亮起来的秘密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1692360" y="1995480"/>
            <a:ext cx="611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电从电池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正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流出，经过灯泡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灯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，顺着导线回到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负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，电流的路通了，于是灯泡就亮起来了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图片 3" descr="(NN`VMV1X9YU1VBF~K}X(0P.png"/>
          <p:cNvPicPr/>
          <p:nvPr/>
        </p:nvPicPr>
        <p:blipFill>
          <a:blip r:embed="rId1"/>
          <a:stretch/>
        </p:blipFill>
        <p:spPr>
          <a:xfrm>
            <a:off x="3995640" y="627120"/>
            <a:ext cx="1584360" cy="3446280"/>
          </a:xfrm>
          <a:prstGeom prst="rect">
            <a:avLst/>
          </a:prstGeom>
          <a:ln w="0">
            <a:noFill/>
          </a:ln>
        </p:spPr>
      </p:pic>
      <p:sp>
        <p:nvSpPr>
          <p:cNvPr id="221" name="任意多边形 7"/>
          <p:cNvSpPr/>
          <p:nvPr/>
        </p:nvSpPr>
        <p:spPr>
          <a:xfrm>
            <a:off x="4808520" y="1984320"/>
            <a:ext cx="865080" cy="2325600"/>
          </a:xfrm>
          <a:custGeom>
            <a:avLst/>
            <a:gdLst/>
            <a:ahLst/>
            <a:rect l="l" t="t" r="r" b="b"/>
            <a:pathLst>
              <a:path w="865415" h="2326822">
                <a:moveTo>
                  <a:pt x="57150" y="97972"/>
                </a:moveTo>
                <a:cubicBezTo>
                  <a:pt x="140974" y="77017"/>
                  <a:pt x="37078" y="105499"/>
                  <a:pt x="122465" y="73479"/>
                </a:cubicBezTo>
                <a:cubicBezTo>
                  <a:pt x="132971" y="69539"/>
                  <a:pt x="144236" y="68036"/>
                  <a:pt x="155122" y="65315"/>
                </a:cubicBezTo>
                <a:cubicBezTo>
                  <a:pt x="163286" y="59872"/>
                  <a:pt x="170648" y="52971"/>
                  <a:pt x="179615" y="48986"/>
                </a:cubicBezTo>
                <a:cubicBezTo>
                  <a:pt x="195343" y="41996"/>
                  <a:pt x="212272" y="38101"/>
                  <a:pt x="228600" y="32658"/>
                </a:cubicBezTo>
                <a:lnTo>
                  <a:pt x="277586" y="16329"/>
                </a:lnTo>
                <a:lnTo>
                  <a:pt x="302079" y="8165"/>
                </a:lnTo>
                <a:lnTo>
                  <a:pt x="326572" y="0"/>
                </a:lnTo>
                <a:cubicBezTo>
                  <a:pt x="381000" y="2722"/>
                  <a:pt x="435818" y="1116"/>
                  <a:pt x="489857" y="8165"/>
                </a:cubicBezTo>
                <a:cubicBezTo>
                  <a:pt x="499587" y="9434"/>
                  <a:pt x="505831" y="19625"/>
                  <a:pt x="514350" y="24493"/>
                </a:cubicBezTo>
                <a:cubicBezTo>
                  <a:pt x="586858" y="65926"/>
                  <a:pt x="511827" y="17370"/>
                  <a:pt x="571500" y="57150"/>
                </a:cubicBezTo>
                <a:cubicBezTo>
                  <a:pt x="576943" y="65314"/>
                  <a:pt x="580167" y="75513"/>
                  <a:pt x="587829" y="81643"/>
                </a:cubicBezTo>
                <a:cubicBezTo>
                  <a:pt x="594549" y="87019"/>
                  <a:pt x="604625" y="85959"/>
                  <a:pt x="612322" y="89808"/>
                </a:cubicBezTo>
                <a:cubicBezTo>
                  <a:pt x="621098" y="94196"/>
                  <a:pt x="628651" y="100693"/>
                  <a:pt x="636815" y="106136"/>
                </a:cubicBezTo>
                <a:cubicBezTo>
                  <a:pt x="674915" y="163286"/>
                  <a:pt x="653143" y="144237"/>
                  <a:pt x="693965" y="171450"/>
                </a:cubicBezTo>
                <a:cubicBezTo>
                  <a:pt x="740765" y="241653"/>
                  <a:pt x="684651" y="152824"/>
                  <a:pt x="718457" y="220436"/>
                </a:cubicBezTo>
                <a:cubicBezTo>
                  <a:pt x="722845" y="229212"/>
                  <a:pt x="729343" y="236765"/>
                  <a:pt x="734786" y="244929"/>
                </a:cubicBezTo>
                <a:cubicBezTo>
                  <a:pt x="737507" y="253093"/>
                  <a:pt x="740686" y="261119"/>
                  <a:pt x="742950" y="269422"/>
                </a:cubicBezTo>
                <a:cubicBezTo>
                  <a:pt x="746068" y="280854"/>
                  <a:pt x="758049" y="337311"/>
                  <a:pt x="767443" y="359229"/>
                </a:cubicBezTo>
                <a:cubicBezTo>
                  <a:pt x="772237" y="370416"/>
                  <a:pt x="777734" y="381319"/>
                  <a:pt x="783772" y="391886"/>
                </a:cubicBezTo>
                <a:cubicBezTo>
                  <a:pt x="788640" y="400405"/>
                  <a:pt x="796115" y="407412"/>
                  <a:pt x="800100" y="416379"/>
                </a:cubicBezTo>
                <a:cubicBezTo>
                  <a:pt x="807090" y="432108"/>
                  <a:pt x="812255" y="448667"/>
                  <a:pt x="816429" y="465365"/>
                </a:cubicBezTo>
                <a:lnTo>
                  <a:pt x="832757" y="530679"/>
                </a:lnTo>
                <a:cubicBezTo>
                  <a:pt x="835479" y="636815"/>
                  <a:pt x="837133" y="742983"/>
                  <a:pt x="840922" y="849086"/>
                </a:cubicBezTo>
                <a:cubicBezTo>
                  <a:pt x="842576" y="895401"/>
                  <a:pt x="845532" y="941671"/>
                  <a:pt x="849086" y="987879"/>
                </a:cubicBezTo>
                <a:cubicBezTo>
                  <a:pt x="850976" y="1012450"/>
                  <a:pt x="854798" y="1036837"/>
                  <a:pt x="857250" y="1061358"/>
                </a:cubicBezTo>
                <a:cubicBezTo>
                  <a:pt x="860241" y="1091268"/>
                  <a:pt x="862693" y="1121229"/>
                  <a:pt x="865415" y="1151165"/>
                </a:cubicBezTo>
                <a:cubicBezTo>
                  <a:pt x="862144" y="1275451"/>
                  <a:pt x="860586" y="1462196"/>
                  <a:pt x="849086" y="1600200"/>
                </a:cubicBezTo>
                <a:cubicBezTo>
                  <a:pt x="847488" y="1619377"/>
                  <a:pt x="843309" y="1638255"/>
                  <a:pt x="840922" y="1657350"/>
                </a:cubicBezTo>
                <a:cubicBezTo>
                  <a:pt x="837865" y="1681803"/>
                  <a:pt x="836504" y="1706472"/>
                  <a:pt x="832757" y="1730829"/>
                </a:cubicBezTo>
                <a:cubicBezTo>
                  <a:pt x="829828" y="1749868"/>
                  <a:pt x="822525" y="1769689"/>
                  <a:pt x="816429" y="1787979"/>
                </a:cubicBezTo>
                <a:cubicBezTo>
                  <a:pt x="815691" y="1802737"/>
                  <a:pt x="819839" y="1931285"/>
                  <a:pt x="800100" y="1983922"/>
                </a:cubicBezTo>
                <a:cubicBezTo>
                  <a:pt x="795827" y="1995318"/>
                  <a:pt x="788566" y="2005393"/>
                  <a:pt x="783772" y="2016579"/>
                </a:cubicBezTo>
                <a:cubicBezTo>
                  <a:pt x="780382" y="2024489"/>
                  <a:pt x="779786" y="2033549"/>
                  <a:pt x="775607" y="2041072"/>
                </a:cubicBezTo>
                <a:cubicBezTo>
                  <a:pt x="766076" y="2058227"/>
                  <a:pt x="742950" y="2090058"/>
                  <a:pt x="742950" y="2090058"/>
                </a:cubicBezTo>
                <a:cubicBezTo>
                  <a:pt x="726395" y="2139724"/>
                  <a:pt x="745590" y="2089300"/>
                  <a:pt x="718457" y="2139043"/>
                </a:cubicBezTo>
                <a:cubicBezTo>
                  <a:pt x="706801" y="2160412"/>
                  <a:pt x="699302" y="2184105"/>
                  <a:pt x="685800" y="2204358"/>
                </a:cubicBezTo>
                <a:cubicBezTo>
                  <a:pt x="680357" y="2212522"/>
                  <a:pt x="674340" y="2220331"/>
                  <a:pt x="669472" y="2228850"/>
                </a:cubicBezTo>
                <a:cubicBezTo>
                  <a:pt x="648461" y="2265620"/>
                  <a:pt x="661293" y="2258798"/>
                  <a:pt x="628650" y="2286000"/>
                </a:cubicBezTo>
                <a:cubicBezTo>
                  <a:pt x="602773" y="2307564"/>
                  <a:pt x="590773" y="2306791"/>
                  <a:pt x="555172" y="2318658"/>
                </a:cubicBezTo>
                <a:lnTo>
                  <a:pt x="530679" y="2326822"/>
                </a:lnTo>
                <a:lnTo>
                  <a:pt x="155122" y="2318658"/>
                </a:lnTo>
                <a:cubicBezTo>
                  <a:pt x="146523" y="2318307"/>
                  <a:pt x="138152" y="2314672"/>
                  <a:pt x="130629" y="2310493"/>
                </a:cubicBezTo>
                <a:cubicBezTo>
                  <a:pt x="113474" y="2300962"/>
                  <a:pt x="81643" y="2277836"/>
                  <a:pt x="81643" y="2277836"/>
                </a:cubicBezTo>
                <a:cubicBezTo>
                  <a:pt x="76200" y="2269672"/>
                  <a:pt x="69300" y="2262309"/>
                  <a:pt x="65315" y="2253343"/>
                </a:cubicBezTo>
                <a:cubicBezTo>
                  <a:pt x="58325" y="2237615"/>
                  <a:pt x="58533" y="2218679"/>
                  <a:pt x="48986" y="2204358"/>
                </a:cubicBezTo>
                <a:lnTo>
                  <a:pt x="32657" y="2179865"/>
                </a:lnTo>
                <a:cubicBezTo>
                  <a:pt x="13226" y="2121570"/>
                  <a:pt x="25877" y="2145200"/>
                  <a:pt x="0" y="2106386"/>
                </a:cubicBezTo>
                <a:lnTo>
                  <a:pt x="8165" y="205740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60360" y="2517840"/>
            <a:ext cx="2446560" cy="100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omic Sans MS"/>
              </a:rPr>
              <a:t>短路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任意多边形 4"/>
          <p:cNvSpPr/>
          <p:nvPr/>
        </p:nvSpPr>
        <p:spPr>
          <a:xfrm>
            <a:off x="4816440" y="1886040"/>
            <a:ext cx="34920" cy="244440"/>
          </a:xfrm>
          <a:custGeom>
            <a:avLst/>
            <a:gdLst/>
            <a:ahLst/>
            <a:rect l="l" t="t" r="r" b="b"/>
            <a:pathLst>
              <a:path w="34640" h="244314">
                <a:moveTo>
                  <a:pt x="33130" y="0"/>
                </a:moveTo>
                <a:cubicBezTo>
                  <a:pt x="27687" y="8164"/>
                  <a:pt x="20666" y="15474"/>
                  <a:pt x="16801" y="24493"/>
                </a:cubicBezTo>
                <a:cubicBezTo>
                  <a:pt x="0" y="63694"/>
                  <a:pt x="9717" y="119704"/>
                  <a:pt x="16801" y="155121"/>
                </a:cubicBezTo>
                <a:cubicBezTo>
                  <a:pt x="34640" y="244314"/>
                  <a:pt x="33130" y="152484"/>
                  <a:pt x="33130" y="187779"/>
                </a:cubicBezTo>
              </a:path>
            </a:pathLst>
          </a:custGeom>
          <a:solidFill>
            <a:srgbClr val="ffef66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3" dur="2000" fill="hold"/>
                                        <p:tgtEl>
                                          <p:spTgt spid="2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AutoShape 2"/>
          <p:cNvSpPr/>
          <p:nvPr/>
        </p:nvSpPr>
        <p:spPr>
          <a:xfrm>
            <a:off x="3780000" y="2787480"/>
            <a:ext cx="4267080" cy="1486080"/>
          </a:xfrm>
          <a:prstGeom prst="cloudCallout">
            <a:avLst>
              <a:gd name="adj1" fmla="val -96055"/>
              <a:gd name="adj2" fmla="val 39662"/>
            </a:avLst>
          </a:prstGeom>
          <a:solidFill>
            <a:srgbClr val="ffe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4067280" y="3076560"/>
            <a:ext cx="349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你能想个什么办法让双手解放出来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Picture 5" descr="20120311(001)"/>
          <p:cNvPicPr/>
          <p:nvPr/>
        </p:nvPicPr>
        <p:blipFill>
          <a:blip r:embed="rId1"/>
          <a:stretch/>
        </p:blipFill>
        <p:spPr>
          <a:xfrm>
            <a:off x="1116000" y="843120"/>
            <a:ext cx="3240000" cy="182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987480"/>
            <a:ext cx="4105440" cy="76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活动要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84360" y="1762200"/>
            <a:ext cx="76960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仔细观察开关，并把它接入电路，试一试开关的作用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把表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中的图连接起来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小组内交流收获并填写实验记录单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Rectangle 2"/>
          <p:cNvSpPr/>
          <p:nvPr/>
        </p:nvSpPr>
        <p:spPr>
          <a:xfrm>
            <a:off x="755640" y="-182520"/>
            <a:ext cx="770400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omic Sans MS"/>
                <a:ea typeface="黑体"/>
              </a:rPr>
              <a:t>你能控制小灯泡的亮暗吗？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矩形 22533"/>
          <p:cNvSpPr txBox="1"/>
          <p:nvPr/>
        </p:nvSpPr>
        <p:spPr>
          <a:xfrm>
            <a:off x="1763640" y="1924200"/>
            <a:ext cx="5507280" cy="91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003300"/>
                  </a:solidFill>
                  <a:round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在今天的学习中你还有其他发现吗？</a:t>
            </a:r>
            <a:endParaRPr b="1" lang="en-US" sz="2400" spc="1" strike="noStrike">
              <a:ln w="19080">
                <a:solidFill>
                  <a:srgbClr val="003300"/>
                </a:solidFill>
                <a:round/>
              </a:ln>
              <a:solidFill>
                <a:srgbClr val="33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2T03:31:50Z</dcterms:created>
  <dc:creator/>
  <dc:description/>
  <dc:language>en-US</dc:language>
  <cp:lastModifiedBy>清风</cp:lastModifiedBy>
  <dcterms:modified xsi:type="dcterms:W3CDTF">2020-03-31T12:55:03Z</dcterms:modified>
  <cp:revision>22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513</vt:lpwstr>
  </property>
</Properties>
</file>