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866E-565A-47ED-99DF-CADC9267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C7E3-922F-4F4C-B3DB-27FC92466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3DB-B50B-4E8E-B598-8E1F33AE7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73D-B868-4FCC-8DAF-98B4F2CA3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7A9-47A7-4877-AE27-C265DF492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20C-874F-422E-BCCC-5ADDC434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CB39-8E1A-4A22-8399-44A58399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4C36-014D-4A1B-899D-7C15EEC1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E094-9870-4F15-8A46-DF56A4DE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B9BD-3E9A-4E52-98ED-76B254F4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403-CEA1-4785-9B9B-BBEF73A2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F85-626B-453C-A609-A9F8232A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7E5-C004-4670-8934-7013B9BE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311-5CD0-4AEC-B0A1-973B0E3A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A24-9168-4962-8BBB-B9681E44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DC42-E1FE-4C70-AD32-00C3183B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06FF-A32A-46E4-8013-90027DC0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251D-01B6-4D62-83DA-D5123B6E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6307-B576-41ED-8689-CA5D753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3AF-9ACE-4156-913A-B447F70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1E63-0B48-469E-8471-EC2E397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6E7-08D4-45B8-A292-A51F6F1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A491-D9BD-4632-87F8-7F2F8BD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CA40-EE97-4874-844F-D9DBB74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2780-FD10-4620-8C50-82216B1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876D-E23D-4FFE-9181-8C863458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B2B-030C-4C96-A703-1389985E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0E0-5B6A-4274-BD0D-88F1C24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ACE-4448-4DE6-8F5D-3948828C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5BF-5EFD-40FB-B836-B29B583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91A-C390-4DF4-B90E-C9386F7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F77-A0A5-47F7-81E6-2FE3065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74C-AB59-46B4-906C-6AA7B03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412-8BDB-4D88-9FF4-03A4315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03DA-C05D-4B4D-BAD6-3EC55C90E6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C8CB-9CDA-4BCA-A3AF-1E6E022E995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752480" y="68580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科学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971640" y="2205000"/>
            <a:ext cx="72007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4648320" y="1628640"/>
            <a:ext cx="34527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四年级下册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457200" y="1522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科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286000" y="3571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电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000680" y="357192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爆炸形 2 2"/>
          <p:cNvSpPr/>
          <p:nvPr/>
        </p:nvSpPr>
        <p:spPr>
          <a:xfrm>
            <a:off x="357120" y="214200"/>
            <a:ext cx="3714840" cy="264348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extBox 3" descr=""/>
          <p:cNvPicPr/>
          <p:nvPr/>
        </p:nvPicPr>
        <p:blipFill>
          <a:blip r:embed="rId2"/>
          <a:stretch/>
        </p:blipFill>
        <p:spPr>
          <a:xfrm>
            <a:off x="811080" y="938160"/>
            <a:ext cx="2907000" cy="1139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571680" y="3214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1" lang="zh-CN" sz="5400" spc="-1" strike="noStrike">
                <a:solidFill>
                  <a:srgbClr val="002060"/>
                </a:solidFill>
                <a:latin typeface="黑体"/>
                <a:ea typeface="黑体"/>
              </a:rPr>
              <a:t>用“电路检测器”检测家用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220V</a:t>
            </a:r>
            <a:r>
              <a:rPr b="1" lang="zh-CN" sz="5400" spc="-1" strike="noStrike">
                <a:solidFill>
                  <a:srgbClr val="002060"/>
                </a:solidFill>
                <a:latin typeface="黑体"/>
                <a:ea typeface="黑体"/>
              </a:rPr>
              <a:t>的电器电路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838080" y="207324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时小组要分工合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声讨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28800" y="314496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边实验边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记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WordArt 5" descr=""/>
          <p:cNvPicPr/>
          <p:nvPr/>
        </p:nvPicPr>
        <p:blipFill>
          <a:blip r:embed="rId2"/>
          <a:stretch/>
        </p:blipFill>
        <p:spPr>
          <a:xfrm>
            <a:off x="768240" y="743040"/>
            <a:ext cx="3035520" cy="993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14400" y="4032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检测出故障的元件到老师处更换好的元件，最终使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>
            <a:hlinkClick r:id="rId3" action="ppaction://hlinksldjump"/>
          </p:cNvPr>
          <p:cNvSpPr/>
          <p:nvPr/>
        </p:nvSpPr>
        <p:spPr>
          <a:xfrm>
            <a:off x="8763120" y="6477120"/>
            <a:ext cx="228600" cy="38088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76200" y="928800"/>
          <a:ext cx="8410680" cy="5824440"/>
        </p:xfrm>
        <a:graphic>
          <a:graphicData uri="http://schemas.openxmlformats.org/drawingml/2006/table">
            <a:tbl>
              <a:tblPr/>
              <a:tblGrid>
                <a:gridCol w="1300320"/>
                <a:gridCol w="1103040"/>
                <a:gridCol w="1203480"/>
                <a:gridCol w="1197000"/>
                <a:gridCol w="1203120"/>
                <a:gridCol w="1200240"/>
                <a:gridCol w="12034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路中有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处故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是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使电流中断，灯泡不亮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68"/>
          <p:cNvSpPr/>
          <p:nvPr/>
        </p:nvSpPr>
        <p:spPr>
          <a:xfrm>
            <a:off x="457200" y="-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000080" y="2571840"/>
            <a:ext cx="77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练一练：课堂检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428760" y="2070360"/>
            <a:ext cx="82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填空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（          ）从电池的一端经导线流出，通过小灯泡，回到电池的另一端，形成一个完整的（           ），小灯泡就会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当电池的两端被电线直接连接在一起时，就会发生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利用电来点亮小灯泡需要一个完整的电流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电路出故障了，电流就会（                     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500120" y="15717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714680" y="255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2428920" y="3500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1000080" y="450072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5857920" y="49878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或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571680" y="170136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选择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家用电器的电压一般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5V  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V   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50V   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检测一根电线，用电路检测器的两个检测头和一根电线的两端相连接，如果小灯泡亮了，就说明这根电线没有问题；反之，则说明这根电线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没有故障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出现故障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不是导体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无法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会产生触电事故，致人死亡的是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5V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干电池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6V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电瓶车铅酸电池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20V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家用插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4357800" y="18572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4000680" y="3691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5643720" y="47624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3"/>
          <p:cNvSpPr txBox="1"/>
          <p:nvPr/>
        </p:nvSpPr>
        <p:spPr>
          <a:xfrm>
            <a:off x="1714680" y="1857240"/>
            <a:ext cx="53337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宋体"/>
              </a:rPr>
              <a:t>小科学家们，请整理好实验器材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宋体"/>
              <a:ea typeface="宋体"/>
            </a:endParaRPr>
          </a:p>
        </p:txBody>
      </p:sp>
    </p:spTree>
  </p:cSld>
  <p:transition spd="slow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9"/>
          <p:cNvSpPr/>
          <p:nvPr/>
        </p:nvSpPr>
        <p:spPr>
          <a:xfrm>
            <a:off x="642960" y="121428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要使电路中的小灯泡发光，整个电路应该处于什么状态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071720" y="257184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电路有些地方有断开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1071720" y="31431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电路形成完整的回路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1071720" y="31431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整个电路形成完整的回路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130760" y="4000680"/>
            <a:ext cx="115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单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箭头 14"/>
          <p:cNvSpPr/>
          <p:nvPr/>
        </p:nvSpPr>
        <p:spPr>
          <a:xfrm>
            <a:off x="2571840" y="4786200"/>
            <a:ext cx="42840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43" descr="电路图.png"/>
          <p:cNvPicPr/>
          <p:nvPr/>
        </p:nvPicPr>
        <p:blipFill>
          <a:blip r:embed="rId2"/>
          <a:stretch/>
        </p:blipFill>
        <p:spPr>
          <a:xfrm>
            <a:off x="3214800" y="4000680"/>
            <a:ext cx="3435120" cy="2000160"/>
          </a:xfrm>
          <a:prstGeom prst="rect">
            <a:avLst/>
          </a:prstGeom>
          <a:ln w="0">
            <a:noFill/>
          </a:ln>
        </p:spPr>
      </p:pic>
      <p:sp>
        <p:nvSpPr>
          <p:cNvPr id="162" name="椭圆 44"/>
          <p:cNvSpPr/>
          <p:nvPr/>
        </p:nvSpPr>
        <p:spPr>
          <a:xfrm>
            <a:off x="5072040" y="564372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流程图: 汇总连接 45"/>
          <p:cNvSpPr/>
          <p:nvPr/>
        </p:nvSpPr>
        <p:spPr>
          <a:xfrm>
            <a:off x="4429080" y="4143240"/>
            <a:ext cx="428760" cy="428760"/>
          </a:xfrm>
          <a:prstGeom prst="flowChartSummingJunction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5121 -0.00578 0.07777 -0.00671 0.13889 -0.00879 C 0.13819 -0.02498 0.13645 -0.04093 0.13645 -0.05712 C 0.13645 -0.06406 0.1368 -0.071 0.13767 -0.07794 C 0.13819 -0.08164 0.14027 -0.08834 0.14027 -0.08834 C 0.13871 -0.2123 0.16371 -0.2019 0.09357 -0.19912 C 0.0684 -0.19218 0.04791 -0.1938 0.01944 -0.19218 C -0.00851 -0.1864 -0.03698 -0.19103 -0.06493 -0.1938 C -0.06875 -0.19565 -0.07275 -0.19727 -0.07657 -0.19912 C -0.0816 -0.19843 -0.09167 -0.19426 -0.0974 -0.1938 C -0.12726 -0.19195 -0.15712 -0.19172 -0.18698 -0.19033 C -0.20521 -0.18293 -0.19045 -0.14246 -0.18837 -0.12118 C -0.18872 -0.08418 -0.18889 -0.04741 -0.18959 -0.01041 C -0.18976 -0.00578 -0.1941 0.00139 -0.19098 0.00347 C -0.18941 0.0044 -0.14636 -0.00139 -0.14289 -0.00185 C -0.10434 -0.00023 -0.06858 0.00347 -0.02986 0.00347 E">
                                      <p:cBhvr>
                                        <p:cTn id="44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214280" y="135720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猜想：电路中可能什么地方出故障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71680" y="714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活动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928880" y="20001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猜想小灯泡不亮的原因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285920" y="2857680"/>
            <a:ext cx="578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_______________________2.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_______________________4.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857240" y="29289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小灯泡坏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785960" y="3429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灯座松了，没有连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785960" y="39290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导线断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785960" y="43959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电池没电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642960" y="8571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想一想：用什么办法来检测有故障的电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928800" y="1857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查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1643040" y="24289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检查电路中的连接是否完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857160" y="2928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替换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285920" y="3598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用另外的灯泡、电池、导线等来替换电路中的材料，看看小灯泡是否能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857160" y="450072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1714680" y="50720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用仪器检测电路中的故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000080" y="7858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一做：做个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dianlu2.jpg"/>
          <p:cNvPicPr/>
          <p:nvPr/>
        </p:nvPicPr>
        <p:blipFill>
          <a:blip r:embed="rId2"/>
          <a:stretch/>
        </p:blipFill>
        <p:spPr>
          <a:xfrm>
            <a:off x="928800" y="1643040"/>
            <a:ext cx="70722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401d"/>
          <p:cNvPicPr/>
          <p:nvPr/>
        </p:nvPicPr>
        <p:blipFill>
          <a:blip r:embed="rId2"/>
          <a:stretch/>
        </p:blipFill>
        <p:spPr>
          <a:xfrm>
            <a:off x="1071720" y="1357200"/>
            <a:ext cx="6858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"/>
          <p:cNvGrpSpPr/>
          <p:nvPr/>
        </p:nvGrpSpPr>
        <p:grpSpPr>
          <a:xfrm>
            <a:off x="5000760" y="3733920"/>
            <a:ext cx="1218600" cy="838080"/>
            <a:chOff x="5000760" y="3733920"/>
            <a:chExt cx="1218600" cy="838080"/>
          </a:xfrm>
        </p:grpSpPr>
        <p:sp>
          <p:nvSpPr>
            <p:cNvPr id="183" name="Oval 5"/>
            <p:cNvSpPr/>
            <p:nvPr/>
          </p:nvSpPr>
          <p:spPr>
            <a:xfrm>
              <a:off x="5000760" y="4013280"/>
              <a:ext cx="947160" cy="558720"/>
            </a:xfrm>
            <a:prstGeom prst="ellipse">
              <a:avLst/>
            </a:prstGeom>
            <a:noFill/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 flipV="1">
              <a:off x="5677560" y="3733920"/>
              <a:ext cx="541800" cy="2793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7"/>
          <p:cNvSpPr/>
          <p:nvPr/>
        </p:nvSpPr>
        <p:spPr>
          <a:xfrm>
            <a:off x="1457280" y="507204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检测头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3429720" y="5486040"/>
            <a:ext cx="1294560" cy="762120"/>
            <a:chOff x="3429720" y="5486040"/>
            <a:chExt cx="1294560" cy="762120"/>
          </a:xfrm>
        </p:grpSpPr>
        <p:sp>
          <p:nvSpPr>
            <p:cNvPr id="187" name="Oval 9"/>
            <p:cNvSpPr/>
            <p:nvPr/>
          </p:nvSpPr>
          <p:spPr>
            <a:xfrm flipH="1">
              <a:off x="3717720" y="5740200"/>
              <a:ext cx="1006560" cy="507960"/>
            </a:xfrm>
            <a:prstGeom prst="ellipse">
              <a:avLst/>
            </a:prstGeom>
            <a:noFill/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H="1" flipV="1">
              <a:off x="3429720" y="5486040"/>
              <a:ext cx="575640" cy="25380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1"/>
          <p:cNvSpPr/>
          <p:nvPr/>
        </p:nvSpPr>
        <p:spPr>
          <a:xfrm>
            <a:off x="6477120" y="32767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检测头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92880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做一做：做个简单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295280" y="106668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dd9"/>
                </a:solidFill>
                <a:latin typeface="Arial"/>
              </a:rPr>
              <a:t>思考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43000" y="24382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6ea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怎样用电路检测器检测一个有故障的电路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000080" y="7858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一做：做个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" descr="dianlu2.jpg"/>
          <p:cNvPicPr/>
          <p:nvPr/>
        </p:nvPicPr>
        <p:blipFill>
          <a:blip r:embed="rId2"/>
          <a:stretch/>
        </p:blipFill>
        <p:spPr>
          <a:xfrm>
            <a:off x="1214280" y="1500120"/>
            <a:ext cx="67154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1428840" y="242892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自制的“电路检测器”检测盒子中有故障的电路，并使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571680" y="714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活动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7:44:47Z</dcterms:created>
  <dc:creator/>
  <dc:description/>
  <dc:language>en-US</dc:language>
  <cp:lastModifiedBy/>
  <dcterms:modified xsi:type="dcterms:W3CDTF">2020-02-15T01:22:35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2000000000001024120</vt:lpwstr>
  </property>
</Properties>
</file>