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950-50B5-4570-A2F2-8C83980D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EB4-E178-4503-B139-14D7E6C7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C61-AA0E-49C2-B197-C65461F3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C1B-72C8-4707-99B5-86CE8E01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B4FA-AAC5-422B-A7AA-82CFED73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BB3C-287E-4E6B-A401-4B48F877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B9D4-5F61-49BE-B794-80679A90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D6B5-DCCD-4185-9BCF-99B96278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C8F3-4A26-4BD5-BAF2-7F102EDC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C6D7-085B-4E39-BC09-9CC2CAC4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0FF1-70F6-40B5-9F08-8FCA1A64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331-DDF9-4108-9186-AA70B485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A189-7D94-4A35-B76F-52019B1D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A289-02C2-4388-B9CE-93D0B920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9915-F66B-45CD-A391-12FF1D62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F38F-392F-4ED9-9A29-77CDF47F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D6B3-C136-4D2D-AECB-3172DE4D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339-3C58-4C0D-A693-20610C76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D49-4E0C-4010-B26D-E721AB0E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D04-EC3F-4AB4-8527-44CDB7BC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AC0-D183-481D-9D6E-C6C9629A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412-735C-4076-841E-BC2BC4C8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69C-B846-4C9B-9438-D66D2065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C28-1C5E-47F2-BB9D-422168D9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FBF9-4F46-479F-957A-91D1700BA0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F222-B09C-4052-8038-E75DE8DF7F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5058"/>
          <p:cNvSpPr/>
          <p:nvPr/>
        </p:nvSpPr>
        <p:spPr>
          <a:xfrm>
            <a:off x="503280" y="1871640"/>
            <a:ext cx="7708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第一单元  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第五课 导体与绝缘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5059"/>
          <p:cNvSpPr/>
          <p:nvPr/>
        </p:nvSpPr>
        <p:spPr>
          <a:xfrm>
            <a:off x="5148360" y="4941720"/>
            <a:ext cx="352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46-120H9105351-52"/>
          <p:cNvPicPr/>
          <p:nvPr/>
        </p:nvPicPr>
        <p:blipFill>
          <a:blip r:embed="rId2"/>
          <a:stretch/>
        </p:blipFill>
        <p:spPr>
          <a:xfrm>
            <a:off x="684360" y="4849920"/>
            <a:ext cx="2385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9440" y="439200"/>
            <a:ext cx="7558200" cy="37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拓展思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人体和水是导体还是绝缘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46-120H9105351-52"/>
          <p:cNvPicPr/>
          <p:nvPr/>
        </p:nvPicPr>
        <p:blipFill>
          <a:blip r:embed="rId2"/>
          <a:stretch/>
        </p:blipFill>
        <p:spPr>
          <a:xfrm>
            <a:off x="5194440" y="425448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520" y="4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安全用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520" y="1428480"/>
            <a:ext cx="822960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一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在我们的教室中，找找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电器设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些地方用到了导体，哪些地方用到了绝缘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一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绝缘体的用处是什么？导体的用处又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开关"/>
          <p:cNvPicPr/>
          <p:nvPr/>
        </p:nvPicPr>
        <p:blipFill>
          <a:blip r:embed="rId2"/>
          <a:stretch/>
        </p:blipFill>
        <p:spPr>
          <a:xfrm>
            <a:off x="5875200" y="2479680"/>
            <a:ext cx="24019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25602"/>
          <p:cNvSpPr/>
          <p:nvPr/>
        </p:nvSpPr>
        <p:spPr>
          <a:xfrm>
            <a:off x="606600" y="1874880"/>
            <a:ext cx="74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利用导体把电送到人们需要的地方。利用绝缘体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阻止电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人们不需要的地方，因此我们要好好保护这些绝缘材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5604"/>
          <p:cNvSpPr/>
          <p:nvPr/>
        </p:nvSpPr>
        <p:spPr>
          <a:xfrm>
            <a:off x="577800" y="4114800"/>
            <a:ext cx="73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：通过今天这节课的学习，你觉得在安全用电方面，我们应该注意哪些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9600" y="107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知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"/>
          <p:cNvSpPr/>
          <p:nvPr/>
        </p:nvSpPr>
        <p:spPr>
          <a:xfrm>
            <a:off x="468360" y="2135160"/>
            <a:ext cx="6732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检查电器时，必须断开电源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不要用湿布擦拭电器、插座和开关，也不能用湿手触摸它们。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不用东西去捅交流电插孔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金属材料一般都是导体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电线外面用塑料包裹，是因为塑料是绝缘体。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"/>
          <p:cNvSpPr/>
          <p:nvPr/>
        </p:nvSpPr>
        <p:spPr>
          <a:xfrm>
            <a:off x="5837400" y="2135160"/>
            <a:ext cx="9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"/>
          <p:cNvSpPr/>
          <p:nvPr/>
        </p:nvSpPr>
        <p:spPr>
          <a:xfrm>
            <a:off x="4751280" y="3170160"/>
            <a:ext cx="9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4"/>
          <p:cNvSpPr/>
          <p:nvPr/>
        </p:nvSpPr>
        <p:spPr>
          <a:xfrm>
            <a:off x="5172120" y="4538520"/>
            <a:ext cx="9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5"/>
          <p:cNvSpPr/>
          <p:nvPr/>
        </p:nvSpPr>
        <p:spPr>
          <a:xfrm>
            <a:off x="5440320" y="3859200"/>
            <a:ext cx="9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6"/>
          <p:cNvSpPr/>
          <p:nvPr/>
        </p:nvSpPr>
        <p:spPr>
          <a:xfrm>
            <a:off x="1914480" y="5583240"/>
            <a:ext cx="9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22550"/>
          <p:cNvSpPr/>
          <p:nvPr/>
        </p:nvSpPr>
        <p:spPr>
          <a:xfrm>
            <a:off x="92160" y="4239720"/>
            <a:ext cx="810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我们身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的物体能让电流通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的物体不能让电流通过。来看这根电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哪部分能让电流通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哪部分不能让电流通过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3" descr=""/>
          <p:cNvPicPr/>
          <p:nvPr/>
        </p:nvPicPr>
        <p:blipFill>
          <a:blip r:embed="rId2"/>
          <a:stretch/>
        </p:blipFill>
        <p:spPr>
          <a:xfrm>
            <a:off x="882720" y="958680"/>
            <a:ext cx="571500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2529" descr="NQ6@@T$ZASM{0[8RNBZ`SWG"/>
          <p:cNvPicPr/>
          <p:nvPr/>
        </p:nvPicPr>
        <p:blipFill>
          <a:blip r:embed="rId2"/>
          <a:stretch/>
        </p:blipFill>
        <p:spPr>
          <a:xfrm>
            <a:off x="1173240" y="639720"/>
            <a:ext cx="5175000" cy="2676600"/>
          </a:xfrm>
          <a:prstGeom prst="rect">
            <a:avLst/>
          </a:prstGeom>
          <a:ln w="0">
            <a:noFill/>
          </a:ln>
        </p:spPr>
      </p:pic>
      <p:sp>
        <p:nvSpPr>
          <p:cNvPr id="88" name="矩形 22550"/>
          <p:cNvSpPr/>
          <p:nvPr/>
        </p:nvSpPr>
        <p:spPr>
          <a:xfrm>
            <a:off x="355680" y="3582360"/>
            <a:ext cx="8647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教师演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电线外面的塑料连接起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小灯泡不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明塑料不容易导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电线里面的铜丝连接起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小灯泡亮了，说明铜丝容易导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教师总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像铜丝那样容易导电的物体，叫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导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像塑料那样不容易导电的物体，叫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绝缘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051"/>
          <p:cNvSpPr/>
          <p:nvPr/>
        </p:nvSpPr>
        <p:spPr>
          <a:xfrm>
            <a:off x="324000" y="1524240"/>
            <a:ext cx="6597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们猜测橡皮擦容不容易让电流通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思考：用什么工具检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052" descr="1401d"/>
          <p:cNvPicPr/>
          <p:nvPr/>
        </p:nvPicPr>
        <p:blipFill>
          <a:blip r:embed="rId2"/>
          <a:srcRect l="12001" t="14669" r="13000" b="14669"/>
          <a:stretch/>
        </p:blipFill>
        <p:spPr>
          <a:xfrm>
            <a:off x="4932360" y="3406680"/>
            <a:ext cx="3816360" cy="265284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2053"/>
          <p:cNvSpPr/>
          <p:nvPr/>
        </p:nvSpPr>
        <p:spPr>
          <a:xfrm>
            <a:off x="395280" y="4869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思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你是怎样用电路检测器检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20484"/>
          <p:cNvSpPr/>
          <p:nvPr/>
        </p:nvSpPr>
        <p:spPr>
          <a:xfrm>
            <a:off x="257040" y="1663560"/>
            <a:ext cx="785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检：先检查电路检测器灵不灵。用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两个检测头的金属部分相互接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若小灯泡亮了说明电路检测器是好的，若小灯泡没亮说明电路检测器是坏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检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用两个检测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接触橡皮的两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看看灯泡是否发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检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为了防止偶然的失误导致的检测结果不准确，所以我们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重新再检测一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判断并记录：将两次检测的结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记录在记录单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在“检测表明”一栏得出结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0485"/>
          <p:cNvSpPr/>
          <p:nvPr/>
        </p:nvSpPr>
        <p:spPr>
          <a:xfrm>
            <a:off x="257040" y="8049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一：检测橡皮擦是否容易让电流通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72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检测橡皮擦是否容易让电流通过的记录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4080" y="1417680"/>
          <a:ext cx="7993080" cy="5127480"/>
        </p:xfrm>
        <a:graphic>
          <a:graphicData uri="http://schemas.openxmlformats.org/drawingml/2006/table">
            <a:tbl>
              <a:tblPr/>
              <a:tblGrid>
                <a:gridCol w="639720"/>
                <a:gridCol w="1049400"/>
                <a:gridCol w="974880"/>
                <a:gridCol w="888840"/>
                <a:gridCol w="887400"/>
                <a:gridCol w="888840"/>
                <a:gridCol w="887400"/>
                <a:gridCol w="887760"/>
                <a:gridCol w="88884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体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预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表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橡皮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易通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容易通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文本框 27712"/>
          <p:cNvSpPr/>
          <p:nvPr/>
        </p:nvSpPr>
        <p:spPr>
          <a:xfrm>
            <a:off x="1965240" y="56563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7713"/>
          <p:cNvSpPr/>
          <p:nvPr/>
        </p:nvSpPr>
        <p:spPr>
          <a:xfrm>
            <a:off x="3789360" y="56563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7714"/>
          <p:cNvSpPr/>
          <p:nvPr/>
        </p:nvSpPr>
        <p:spPr>
          <a:xfrm>
            <a:off x="5692680" y="56563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7715"/>
          <p:cNvSpPr/>
          <p:nvPr/>
        </p:nvSpPr>
        <p:spPr>
          <a:xfrm>
            <a:off x="7342200" y="56563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3076"/>
          <p:cNvSpPr/>
          <p:nvPr/>
        </p:nvSpPr>
        <p:spPr>
          <a:xfrm>
            <a:off x="1317600" y="403920"/>
            <a:ext cx="40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实验二：检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物体的导电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2421000"/>
          <a:ext cx="9109080" cy="4167000"/>
        </p:xfrm>
        <a:graphic>
          <a:graphicData uri="http://schemas.openxmlformats.org/drawingml/2006/table">
            <a:tbl>
              <a:tblPr/>
              <a:tblGrid>
                <a:gridCol w="1324080"/>
                <a:gridCol w="831600"/>
                <a:gridCol w="976320"/>
                <a:gridCol w="762120"/>
                <a:gridCol w="982800"/>
                <a:gridCol w="757080"/>
                <a:gridCol w="1098720"/>
                <a:gridCol w="939600"/>
                <a:gridCol w="1436760"/>
              </a:tblGrid>
              <a:tr h="43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体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预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表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易导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容易导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纸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形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纸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钥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塑料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文本框 3144"/>
          <p:cNvSpPr/>
          <p:nvPr/>
        </p:nvSpPr>
        <p:spPr>
          <a:xfrm>
            <a:off x="468360" y="134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的检测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温馨提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1268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检测物品从右边拿出来，检测完后要放到左边去，这样在检测多种物品时才不会发生混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检测前要把电路检测器的两个检测头接触一下，看看灯泡是否发光，这样可以保证电路检测器是好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连续重复检测一次是为了提高检测的准确性，而且可以节省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汇报员准备汇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能导电的材料有哪些？不能导电的又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检测中能使小灯泡发光的材料有（      ）种，它们一般都是些（       ）；检测中不能使小灯泡发光的材料有（     ）种，它们一般都是些（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"/>
          <p:cNvSpPr/>
          <p:nvPr/>
        </p:nvSpPr>
        <p:spPr>
          <a:xfrm>
            <a:off x="1076400" y="2228760"/>
            <a:ext cx="74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导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（铜片、铁片、铝片、硬币、钥匙等）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绝缘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（玻璃、塑料和陶瓷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/>
  <dc:description/>
  <cp:keywords/>
  <dc:language>en-US</dc:language>
  <cp:lastModifiedBy/>
  <dcterms:modified xsi:type="dcterms:W3CDTF">2020-02-23T08:42:54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