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chimes.wav" ContentType="audio/x-wav"/>
  <Override PartName="/ppt/media/image6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7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014D4-827A-4D49-BBE1-0D27CECEF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F605C-79B3-442B-8681-6D82E3F4C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3D6BA-E0E6-4506-84C6-94C0089A5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F6A94-B24F-46A0-8287-44D06DF9D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E149F-7085-46D3-92FF-8E7519389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65ACF-AD70-4119-A00A-CF0FD687C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D5C7F-27D1-4497-8C76-05F13AC0A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55B99-746A-4E09-9032-8227576A2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34BE7-A50F-4E53-BD1E-83B0299D4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31B28-6628-410B-9609-3A61DAB1D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E0557-83F6-4C5A-ADAF-44139EFCD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A1641-5D4B-4F34-9BCF-A1948C0E9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24F0A-52D5-4D30-B2EB-E508D57E4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C0C5A-FE25-4FD5-8787-4BA82F7AD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5EA96-693F-49C3-B6AB-F13B8D248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00168-BA11-4541-BBC1-703CA07C2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B1D49-1122-46E0-BF84-AC8C2248E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0E021-6E82-44C4-BA24-E2181D024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7BA75-61DC-4CAF-B849-4A44D22FB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1FA97-4419-4D2F-B377-06A06492E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773C0-E657-41A7-936C-BF7F1F1A8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E1A15-7B85-4866-A00F-27AAED22C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761D8-6A2E-44F2-B59C-AED32F21F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C0528-1648-4DD8-9426-6C6184CEC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79EB4-DD21-4C48-AE14-916D44AB0D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14015-DB48-43DD-87A5-964667F81E55}" type="slidenum">
              <a:rPr b="0" lang="en-US" sz="14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WordArt 4"/>
          <p:cNvSpPr txBox="1"/>
          <p:nvPr/>
        </p:nvSpPr>
        <p:spPr>
          <a:xfrm>
            <a:off x="900000" y="1071720"/>
            <a:ext cx="6858000" cy="162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比较两种不同的电路连接</a:t>
            </a:r>
            <a:endParaRPr b="1" lang="en-US" sz="6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5580000" y="5229360"/>
            <a:ext cx="2376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4803840" y="5291280"/>
            <a:ext cx="22161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slow">
    <p:zoom dir="in"/>
    <p:sndAc>
      <p:stSnd>
        <p:snd r:embed="rId2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Box 3"/>
          <p:cNvSpPr/>
          <p:nvPr/>
        </p:nvSpPr>
        <p:spPr>
          <a:xfrm>
            <a:off x="714240" y="1071720"/>
            <a:ext cx="7572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Arial"/>
              </a:rPr>
              <a:t>现象：</a:t>
            </a:r>
            <a:r>
              <a:rPr b="0" lang="zh-CN" sz="4000" spc="-1" strike="noStrike">
                <a:solidFill>
                  <a:srgbClr val="0033cc"/>
                </a:solidFill>
                <a:latin typeface="Arial"/>
              </a:rPr>
              <a:t>串联灯泡较暗，并联灯泡较亮。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Arial"/>
              </a:rPr>
              <a:t>原因：</a:t>
            </a:r>
            <a:r>
              <a:rPr b="0" lang="zh-CN" sz="4000" spc="-1" strike="noStrike">
                <a:solidFill>
                  <a:srgbClr val="0033cc"/>
                </a:solidFill>
                <a:latin typeface="Arial"/>
              </a:rPr>
              <a:t>串联时所有灯泡共同承载一节电池的电压，而并联灯泡时，每个灯泡仍旧承载一节电池的电压。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slow">
    <p:zoom dir="in"/>
    <p:sndAc>
      <p:stSnd>
        <p:snd r:embed="rId2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Box 3"/>
          <p:cNvSpPr/>
          <p:nvPr/>
        </p:nvSpPr>
        <p:spPr>
          <a:xfrm>
            <a:off x="1187280" y="692280"/>
            <a:ext cx="6456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这节课我们学到了什么？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250920" y="2111400"/>
            <a:ext cx="88930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cc"/>
                </a:solidFill>
                <a:latin typeface="Arial"/>
              </a:rPr>
              <a:t>电池串联时灯泡特别亮，并联时灯泡不太亮；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cc"/>
                </a:solidFill>
                <a:latin typeface="Arial"/>
              </a:rPr>
              <a:t>灯泡串联时较暗，灯泡并联时较亮。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slow">
    <p:zoom dir="in"/>
    <p:sndAc>
      <p:stSnd>
        <p:snd r:embed="rId2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图片 2" descr="1326026596_159607484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TextBox 3"/>
          <p:cNvSpPr/>
          <p:nvPr/>
        </p:nvSpPr>
        <p:spPr>
          <a:xfrm>
            <a:off x="0" y="142920"/>
            <a:ext cx="950112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00"/>
                </a:solidFill>
                <a:latin typeface="Arial"/>
              </a:rPr>
              <a:t>拓展：</a:t>
            </a:r>
            <a:endParaRPr b="0" lang="en-US" sz="60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Arial"/>
              </a:rPr>
              <a:t>节日的彩灯是串联还是并联？</a:t>
            </a:r>
            <a:endParaRPr b="0" lang="en-US" sz="5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slow">
    <p:zoom dir="in"/>
    <p:sndAc>
      <p:stSnd>
        <p:snd r:embed="rId3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4" descr="11111111111111111"/>
          <p:cNvPicPr/>
          <p:nvPr/>
        </p:nvPicPr>
        <p:blipFill>
          <a:blip r:embed="rId2"/>
          <a:stretch/>
        </p:blipFill>
        <p:spPr>
          <a:xfrm>
            <a:off x="900000" y="1125360"/>
            <a:ext cx="7704360" cy="482472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  <p:sndAc>
      <p:stSnd>
        <p:snd r:embed="rId3" name="chimes.wav"/>
      </p:stSnd>
    </p:sndAc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Box 1"/>
          <p:cNvSpPr/>
          <p:nvPr/>
        </p:nvSpPr>
        <p:spPr>
          <a:xfrm>
            <a:off x="0" y="857160"/>
            <a:ext cx="9144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知识与技能：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电路的连接方式有两种：串联和并联。其中包括电池的串并联和灯泡的串并联，连接不同的电路并概括各自的特点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过程与方法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：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尝试不同的方法连接电路，并观察发现各自的特点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情感态度价值观：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a.</a:t>
            </a: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培养勇于挑战勇于实践及推断的科学态度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b.</a:t>
            </a: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乐于动手操作，乐于交流的合作意识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6" name="TextBox 2"/>
          <p:cNvSpPr/>
          <p:nvPr/>
        </p:nvSpPr>
        <p:spPr>
          <a:xfrm>
            <a:off x="2500200" y="158760"/>
            <a:ext cx="3714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cc"/>
                </a:solidFill>
                <a:latin typeface="Arial"/>
              </a:rPr>
              <a:t>实验目标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slow">
    <p:zoom dir="in"/>
    <p:sndAc>
      <p:stSnd>
        <p:snd r:embed="rId2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Box 1"/>
          <p:cNvSpPr/>
          <p:nvPr/>
        </p:nvSpPr>
        <p:spPr>
          <a:xfrm>
            <a:off x="785880" y="785880"/>
            <a:ext cx="7858080" cy="29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实验注意事项：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1</a:t>
            </a: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、小组内分工合作，注意观察，做好记录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2</a:t>
            </a: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、实验时不可将导线直接接在电池的正负极上，以免发生危险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3</a:t>
            </a: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、电池串并联时注意正负极的连接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4</a:t>
            </a: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、观察操作时脸部不可在电池或灯泡的正上方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slow">
    <p:zoom dir="in"/>
    <p:sndAc>
      <p:stSnd>
        <p:snd r:embed="rId2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Box 1"/>
          <p:cNvSpPr/>
          <p:nvPr/>
        </p:nvSpPr>
        <p:spPr>
          <a:xfrm>
            <a:off x="785880" y="785880"/>
            <a:ext cx="7858080" cy="29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实验步骤：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1</a:t>
            </a: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、依次连接电池串并联电路，观察并记录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2</a:t>
            </a: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、比较电池串并联的特点并分析原因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3</a:t>
            </a: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、依次连接灯泡串并联电路注意观察并记录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4</a:t>
            </a: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、比较灯泡串并联的特点并分析原因。</a:t>
            </a: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5</a:t>
            </a: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、收交试验记录单，整理实验器材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slow">
    <p:zoom dir="in"/>
    <p:sndAc>
      <p:stSnd>
        <p:snd r:embed="rId2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63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7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用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节电池、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个电池盒、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个小灯泡、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个灯座、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根导线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组装不同的电路，让小灯泡亮起来，看看有几种不同的方法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395280" y="4076640"/>
            <a:ext cx="8229600" cy="22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33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1" name="Rectangle 4"/>
          <p:cNvSpPr/>
          <p:nvPr/>
        </p:nvSpPr>
        <p:spPr>
          <a:xfrm>
            <a:off x="1500120" y="571680"/>
            <a:ext cx="52149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572"/>
                </a:solidFill>
                <a:latin typeface="Arial"/>
              </a:rPr>
              <a:t>电池串并联实验器材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slow">
    <p:zoom dir="in"/>
    <p:sndAc>
      <p:stSnd>
        <p:snd r:embed="rId2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图片 3" descr="1703d.jpg"/>
          <p:cNvPicPr/>
          <p:nvPr/>
        </p:nvPicPr>
        <p:blipFill>
          <a:blip r:embed="rId2"/>
          <a:stretch/>
        </p:blipFill>
        <p:spPr>
          <a:xfrm>
            <a:off x="0" y="-82440"/>
            <a:ext cx="9144000" cy="694044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  <p:sndAc>
      <p:stSnd>
        <p:snd r:embed="rId3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Box 3"/>
          <p:cNvSpPr/>
          <p:nvPr/>
        </p:nvSpPr>
        <p:spPr>
          <a:xfrm>
            <a:off x="500040" y="785880"/>
            <a:ext cx="835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现象：</a:t>
            </a: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电池串联时灯泡很亮，电池并联时灯泡不太亮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原因：</a:t>
            </a: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一节电池的电压时</a:t>
            </a: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1.5v</a:t>
            </a: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，两节电池串联起来的电压是</a:t>
            </a: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3v</a:t>
            </a: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，所以灯泡会特别亮。两节电池并联起来，电压还是</a:t>
            </a: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1.5v</a:t>
            </a: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，所以小灯泡不太亮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slow">
    <p:zoom dir="in"/>
    <p:sndAc>
      <p:stSnd>
        <p:snd r:embed="rId2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63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7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用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节电池、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个电池盒、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个小灯泡、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个灯座、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根导线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组装不同的电路，让小灯泡亮起来，看看有几种不同的方法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395280" y="4076640"/>
            <a:ext cx="8229600" cy="22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33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1928880" y="404640"/>
            <a:ext cx="5072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572"/>
                </a:solidFill>
                <a:latin typeface="Arial"/>
              </a:rPr>
              <a:t>灯泡串并联实验器材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slow">
    <p:zoom dir="in"/>
    <p:sndAc>
      <p:stSnd>
        <p:snd r:embed="rId2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图片 3" descr="1701d.jpg"/>
          <p:cNvPicPr/>
          <p:nvPr/>
        </p:nvPicPr>
        <p:blipFill>
          <a:blip r:embed="rId2"/>
          <a:stretch/>
        </p:blipFill>
        <p:spPr>
          <a:xfrm>
            <a:off x="0" y="0"/>
            <a:ext cx="9144000" cy="3292560"/>
          </a:xfrm>
          <a:prstGeom prst="rect">
            <a:avLst/>
          </a:prstGeom>
          <a:ln w="0">
            <a:noFill/>
          </a:ln>
        </p:spPr>
      </p:pic>
      <p:pic>
        <p:nvPicPr>
          <p:cNvPr id="98" name="图片 4" descr="1702d.jpg"/>
          <p:cNvPicPr/>
          <p:nvPr/>
        </p:nvPicPr>
        <p:blipFill>
          <a:blip r:embed="rId3"/>
          <a:stretch/>
        </p:blipFill>
        <p:spPr>
          <a:xfrm>
            <a:off x="0" y="3286080"/>
            <a:ext cx="9144000" cy="357192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  <p:sndAc>
      <p:stSnd>
        <p:snd r:embed="rId4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1T00:06:16Z</dcterms:created>
  <dc:creator/>
  <dc:description/>
  <dc:language>en-US</dc:language>
  <cp:lastModifiedBy/>
  <dcterms:modified xsi:type="dcterms:W3CDTF">2020-02-18T04:38:27Z</dcterms:modified>
  <cp:revision>174</cp:revision>
  <dc:subject/>
  <dc:title/>
</cp:coreProperties>
</file>